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641-F788-442C-BE6F-DD0C614F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069-C21E-469E-BDEE-0B7B339D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FB0-11BF-45F1-8B78-6FC32B71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62B-9FDA-4431-8D85-45CE8BD6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CC5C-3F1F-42DA-BBA2-65A986AF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7117-62B5-4FDC-8CD2-78F66F5E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E6D3-8CB1-4922-A5F6-D29B146F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6B52-2B13-4563-8E8A-D530A91E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734B-31FE-461D-834A-6D4A0C70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72A3-548A-49E7-8DC9-2C7DE8C3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93CC-FDBD-4FE9-9F67-4C76C847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20D-2DFA-490F-BAF1-6BD3F561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AFA5-2111-4657-B5A0-51CB1A86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EB5C-130E-4587-A263-D60059CB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08C6-D252-46B5-84BD-0129FE2A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9A02-E2CF-4200-A9B0-8375DA11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CB52-E6B0-492A-A231-2D0EB3D6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75C-9BF7-4314-BEEF-9AAC4E6D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DEA-34CA-4D16-87BF-CD65194B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CCE-2D86-4778-A388-BA04AE61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A9D-0E42-4669-8929-F0A6B3B8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22B-D97D-4F6D-A26E-AC5ED838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522-40E7-4605-9D7B-1F93B318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203-6F58-4DA5-82CC-61862BC3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FF62-A893-44FF-BB2D-4CB6C90C907A}" type="slidenum"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2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1b3753"/>
                </a:gs>
                <a:gs pos="50000">
                  <a:srgbClr val="336699"/>
                </a:gs>
                <a:gs pos="100000">
                  <a:srgbClr val="1b37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93a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789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59A0-1834-4F8C-A3F7-CFD157B349C9}" type="slidenum"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ttimizzazione orario lezioni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3429000" y="5638680"/>
            <a:ext cx="5105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Laureando  : Raimondo Galass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Relatore  : Dott. Stefano Bistarelli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990720" y="2743200"/>
            <a:ext cx="69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ahoma"/>
              </a:rPr>
              <a:t>Laurea i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ahoma"/>
              </a:rPr>
              <a:t>Economia Informatic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Scheda Classe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Scheda classe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ati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Vincoli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Quadro disponibilità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re desiderat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re Indesiderat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Disponibili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Non Disponibili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54" name="scheda%20classe" descr=""/>
          <p:cNvPicPr/>
          <p:nvPr/>
        </p:nvPicPr>
        <p:blipFill>
          <a:blip r:embed="rId1"/>
          <a:stretch/>
        </p:blipFill>
        <p:spPr>
          <a:xfrm>
            <a:off x="3886200" y="1523880"/>
            <a:ext cx="51055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Vincoli Docenti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3200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Vincolo rigido :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Rispetto dei giorni indisponibili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Vincoli flessibili: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Rispetto delle preferenze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rario compatto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752480"/>
            <a:ext cx="6933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Definiti dai docenti stessi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Scheda Docente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Scheda Docenti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ati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Vincoli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Quadro disponibilità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re desiderat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re Indesiderat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Disponibili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Non Disponibili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60" name="scheda%20docente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525780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Vincoli Aule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lezione preventiva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Vincolo rigido: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gni classe non deve utilizzare più di 5 aule differenti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Vincoli Materi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44197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Vincolo rigido: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compatibilità  con se stessa nello stesso gior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Contiene le lezioni create utilizzando i dati presenti nel riquadro delle risorse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imes New Roman"/>
              </a:rPr>
              <a:t>Riquadro delle Lezioni :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Vincoli Lezioni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38862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Vincoli rigidi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tessa Lezione 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Stessa au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orsi mutuati 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Aule più grand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ccorre PC 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Aula Informatizz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llineamento solo ore par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Scheda Lezione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71" name="scheda%20lezione" descr=""/>
          <p:cNvPicPr/>
          <p:nvPr/>
        </p:nvPicPr>
        <p:blipFill>
          <a:blip r:embed="rId1"/>
          <a:stretch/>
        </p:blipFill>
        <p:spPr>
          <a:xfrm>
            <a:off x="2523960" y="1219320"/>
            <a:ext cx="6620040" cy="52671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0" y="1295280"/>
            <a:ext cx="2438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 ogni lezione inseriam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.Numero d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zioni settimanal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.Ma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3.Sede(Viale Pindar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4.Modulo (Economi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5.Classe/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6.Docen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.Aul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8.Durat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9.Allineament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3. Ottimizzazione 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Obiettivo :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ollocare tutte le 349 lezioni settimanali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Rispettare tutti i vincoli rigidi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Ridurre al minimo i vincoli flessibili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Criteri di ottimizzazione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E’ possibile fissare una priorità per i vincoli flessibili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5361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4724280"/>
            <a:ext cx="449568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orità Alta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e desiderate (Docenti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e compatt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Docenti e Classi)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81480" y="4724280"/>
            <a:ext cx="39625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orità Media 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e pranzo (Classi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4. Analisi dei risultati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Violazioni a vincoli flessibili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Orario Compatto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lvl="3" marL="1784520" indent="-4129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24 ore per i docenti </a:t>
            </a:r>
            <a:r>
              <a:rPr b="0" lang="en-US" sz="20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in media circa 1 ora ogni 3 docenti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3" marL="1784520" indent="-4129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70 ore per le classi </a:t>
            </a:r>
            <a:r>
              <a:rPr b="0" lang="en-US" sz="20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mediamente 3 ore settimanali per ogni classe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Preferenza docenti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lvl="3" marL="1784520" indent="-4129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90 ore </a:t>
            </a:r>
            <a:r>
              <a:rPr b="0" lang="en-US" sz="20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poco più di 1 ora per docent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Ore libere per pranzo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lvl="3" marL="1784520" indent="-4129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2 ore </a:t>
            </a:r>
            <a:r>
              <a:rPr b="0" lang="en-US" sz="20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1 ora ogni 2 classi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3" marL="178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no state collocate in un tempo di elaborazione di circa 30 minuti tutte le lezioni rispettando i vincoli rigid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rincipale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391520" cy="51814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Riquadro Violazioni e Tabella orario</a:t>
            </a:r>
            <a:endParaRPr b="0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4800600"/>
            <a:ext cx="129564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5105520"/>
            <a:ext cx="373356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5029200"/>
            <a:ext cx="213372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5. Esportazioni dei dati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A pianificazione ultimata si esportano tutte le tabelle orario in pagine html da collocare in un opportuna sezione del sito della Facoltà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5638680" y="3809880"/>
            <a:ext cx="914400" cy="12193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1600" y="28800"/>
                </a:lnTo>
                <a:lnTo>
                  <a:pt x="21600" y="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0" y="28800"/>
                </a:lnTo>
                <a:lnTo>
                  <a:pt x="21600" y="288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0" y="0"/>
                </a:lnTo>
                <a:lnTo>
                  <a:pt x="0" y="28800"/>
                </a:lnTo>
                <a:close/>
              </a:path>
              <a:path fill="darkenLess" w="21600" h="28800">
                <a:moveTo>
                  <a:pt x="4450" y="6570"/>
                </a:moveTo>
                <a:lnTo>
                  <a:pt x="12490" y="6570"/>
                </a:lnTo>
                <a:lnTo>
                  <a:pt x="17150" y="10590"/>
                </a:lnTo>
                <a:lnTo>
                  <a:pt x="17150" y="22230"/>
                </a:lnTo>
                <a:lnTo>
                  <a:pt x="4450" y="22230"/>
                </a:lnTo>
                <a:close/>
              </a:path>
              <a:path fill="darken" w="21600" h="28800">
                <a:moveTo>
                  <a:pt x="12490" y="6570"/>
                </a:moveTo>
                <a:lnTo>
                  <a:pt x="17150" y="10590"/>
                </a:lnTo>
                <a:lnTo>
                  <a:pt x="12490" y="1059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41911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ARIO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ITIV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Analisi del problema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15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9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Pianificare un orario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  <a:p>
            <a:pPr lvl="2" marL="1248120" indent="-41580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Rispetto dei requisiti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248120" indent="-41580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Lunghi tempi di risoluzione ed insoddisfazione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1911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enerazione automatic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Utilizzo di un too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efinizione dei vincol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ttimizzazione aderente alle esigen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onclusioni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77240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acilità di utilizzo del too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estione vincoli flessibili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Applicabilità alla realtà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Fasi di sviluppo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rganizzazione dei dati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pecifica dei vincoli per il Too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ttimizzazione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Analisi dei risultati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Esportazione tabelle orario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-44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1. Organizzazione dei Dati 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ati Facoltà Economia II Semestre 2004-2005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8 Corsi di Laurea triennal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Divisi in 24 Classi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Insegnamento,Docente,ore settimanali,mutui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83 Docenti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Insegnamento,ore settimanali,ricevimento,giorni liberi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95 Materi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5 Aule + 1 Laboratorio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Divise in base alla grandezza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ssociate alle lezioni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49 Lezioni settimanali da collocar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5028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Per ogni risorsa verranno fissati dei vincoli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62120" y="898560"/>
          <a:ext cx="777240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98560"/>
                    <a:ext cx="777240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Utilizzo tool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00"/>
              </a:spcBef>
              <a:buClr>
                <a:srgbClr val="eaeaea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Operazioni Preliminari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lvl="1" marL="1066680" indent="-609480">
              <a:spcBef>
                <a:spcPts val="601"/>
              </a:spcBef>
              <a:buClr>
                <a:srgbClr val="eaeaea"/>
              </a:buClr>
              <a:buSzPct val="7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Unità di tempo : 1 ora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1066680" indent="-609480">
              <a:spcBef>
                <a:spcPts val="601"/>
              </a:spcBef>
              <a:buClr>
                <a:srgbClr val="eaeaea"/>
              </a:buClr>
              <a:buSzPct val="7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12 ore giornaliere (08:00-20:00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1066680" indent="-609480">
              <a:spcBef>
                <a:spcPts val="601"/>
              </a:spcBef>
              <a:buClr>
                <a:srgbClr val="eaeaea"/>
              </a:buClr>
              <a:buSzPct val="7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5 giorni settimanali (da Lunedì a Venerdì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11360" indent="-711360">
              <a:spcBef>
                <a:spcPts val="700"/>
              </a:spcBef>
              <a:buClr>
                <a:srgbClr val="eaeaea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Gestione dei dati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lvl="1" marL="1066680" indent="-609480">
              <a:spcBef>
                <a:spcPts val="601"/>
              </a:spcBef>
              <a:buClr>
                <a:srgbClr val="eaeaea"/>
              </a:buClr>
              <a:buSzPct val="7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pecifica dei vincoli richiesti per l’ottimizzazione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1066680" indent="-609480">
              <a:spcBef>
                <a:spcPts val="601"/>
              </a:spcBef>
              <a:buClr>
                <a:srgbClr val="eaeaea"/>
              </a:buClr>
              <a:buSzPct val="7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serimento dati e vincoli nelle tool  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rincipale" descr=""/>
          <p:cNvPicPr/>
          <p:nvPr/>
        </p:nvPicPr>
        <p:blipFill>
          <a:blip r:embed="rId1"/>
          <a:stretch/>
        </p:blipFill>
        <p:spPr>
          <a:xfrm>
            <a:off x="1219320" y="1811160"/>
            <a:ext cx="6705360" cy="47419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Finestra principale tool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1371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4 riquadri: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)Risorse –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) Lezioni –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) Violazioni –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) Tabella orari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57400" y="2819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52480" y="5561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25780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2. Specifica dei vincoli per il tool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Requisiti di un buon orario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Rendere partecipi gli interessati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rganizzazione aul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Problema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Effettive possibilità combinatori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4038480"/>
            <a:ext cx="8915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Caratteristiche del tool 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na scheda per ogni risorsa (Classi-Docenti-Materia-Aula-Lezione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Vincoli Rigidi </a:t>
            </a:r>
            <a:r>
              <a:rPr b="0" lang="en-US" sz="20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Da rispettare assolutamen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Vincoli Flessibili </a:t>
            </a:r>
            <a:r>
              <a:rPr b="0" lang="en-US" sz="20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Possibilità di violazion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3753"/>
            </a:gs>
            <a:gs pos="50000">
              <a:srgbClr val="336699"/>
            </a:gs>
            <a:gs pos="100000">
              <a:srgbClr val="1b37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Vincoli Classi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Tahoma"/>
              </a:rPr>
              <a:t>Vincolo rigido: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Tahoma"/>
              </a:rPr>
              <a:t>Giorno libero se orario complessivo &lt;= 26 ore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Tahoma"/>
              </a:rPr>
              <a:t>Vincoli flessibili: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Tahoma"/>
              </a:rPr>
              <a:t>Orario Compatto</a:t>
            </a:r>
            <a:r>
              <a:rPr b="0" lang="it-IT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eaeaea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Tahoma"/>
              </a:rPr>
              <a:t>Da 2 a 8 ore giornaliere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SzPct val="7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Tahoma"/>
              </a:rPr>
              <a:t>1 ora libera per il pranzo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7:42:53Z</dcterms:created>
  <dc:creator>plv0101</dc:creator>
  <dc:description/>
  <dc:language>en-US</dc:language>
  <cp:lastModifiedBy>plv0101</cp:lastModifiedBy>
  <dcterms:modified xsi:type="dcterms:W3CDTF">2005-03-23T16:34:35Z</dcterms:modified>
  <cp:revision>36</cp:revision>
  <dc:subject/>
  <dc:title>Ottimizazione orario lezioni               </dc:title>
</cp:coreProperties>
</file>