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CE8-5A49-4B79-A9CE-9F1F9CFE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83E-6EB7-4468-9E3E-1FDFE8B6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23A-5DEF-49A3-8A16-2D6645B3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5D4-468F-4BF5-820E-A064C6D2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331-E34E-45E7-9493-3F70F596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F6D-CE0B-4D0D-A436-7C3FD75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7D2-B08B-4123-AA04-DBAD6F81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5D5-FC5C-4BB3-9F1E-A721B9C0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250-C3CD-48FF-B241-072EC29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03B-92B7-42A7-A43C-0AFAA96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B56-E766-444C-B208-AAB0C6E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CCE-97E8-441F-BC06-B9D74B4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E703-E3B0-449B-987E-4307314E5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b54"/>
                </a:solidFill>
                <a:latin typeface="Tahoma"/>
              </a:rPr>
              <a:t>PICS (Platform for Internet Content Selection): caratteristiche tecniche e modalità d’impi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7940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2b54"/>
                </a:solidFill>
                <a:latin typeface="Verdana"/>
              </a:rPr>
              <a:t>di Gabriella Colaru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59436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at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f. Stefano Bistar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8088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tà degli studi “G.D’Annunz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SO DI LAUREA IN ECONOMIA INFORM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A68-FE5D-40FE-A5DB-3D321CEE5CF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08520" y="22860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e si etichetta un 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784872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S fornisce la tecnologia che i browser utilizzano per controllare i siti, ma non stabilisce gli standard di valutazione, né valuta i si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valutazione dei siti viene fatta da delle “rating agency”, delle quali le due maggior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ICRA (ex RSACi)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afeSur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DFD-DCF5-4747-BCCF-7EC5909FCCC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1120" y="22860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ichettare con I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05120"/>
            <a:ext cx="7696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Internet Content Rating Association è un’organizzazione internazionale indipendente senza fini di lucro, con l’obiettivo d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ggere i bambini da materiale potenzialmente dann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telare la libertà di espressione su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57E-843C-4066-9777-F5C8EC45476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41120" y="22860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ichettare con I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76520"/>
            <a:ext cx="729144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concetto di base dell’etichettatura è: il contenuto è trasmesso al client con una serie di descrittori codificati che il software di filtro può decidere se bloccare o lasciar passare, a seconda delle impostazioni del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etichette possono essere applicate ad una singola pagina, ad un’area del sito o all’intero sito, come mostrato dalla figu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782-E015-4E74-8DA2-3F10B3385AD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" descr=""/>
          <p:cNvPicPr/>
          <p:nvPr/>
        </p:nvPicPr>
        <p:blipFill>
          <a:blip r:embed="rId2"/>
          <a:stretch/>
        </p:blipFill>
        <p:spPr>
          <a:xfrm>
            <a:off x="1371600" y="2200320"/>
            <a:ext cx="1635120" cy="2457360"/>
          </a:xfrm>
          <a:prstGeom prst="rect">
            <a:avLst/>
          </a:prstGeom>
          <a:ln w="0">
            <a:noFill/>
          </a:ln>
        </p:spPr>
      </p:pic>
      <p:pic>
        <p:nvPicPr>
          <p:cNvPr id="71" name="3" descr=""/>
          <p:cNvPicPr/>
          <p:nvPr/>
        </p:nvPicPr>
        <p:blipFill>
          <a:blip r:embed="rId3"/>
          <a:stretch/>
        </p:blipFill>
        <p:spPr>
          <a:xfrm>
            <a:off x="6137280" y="2200320"/>
            <a:ext cx="1635120" cy="2457360"/>
          </a:xfrm>
          <a:prstGeom prst="rect">
            <a:avLst/>
          </a:prstGeom>
          <a:ln w="0">
            <a:noFill/>
          </a:ln>
        </p:spPr>
      </p:pic>
      <p:pic>
        <p:nvPicPr>
          <p:cNvPr id="72" name="2" descr=""/>
          <p:cNvPicPr/>
          <p:nvPr/>
        </p:nvPicPr>
        <p:blipFill>
          <a:blip r:embed="rId4"/>
          <a:stretch/>
        </p:blipFill>
        <p:spPr>
          <a:xfrm>
            <a:off x="3754440" y="2200320"/>
            <a:ext cx="1635120" cy="2457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b54"/>
                </a:solidFill>
                <a:latin typeface="Tahoma"/>
              </a:rPr>
              <a:t>Etichettare con I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ED1-D644-4423-8923-2AC410ACFB1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01600" y="2365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ichettare con I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76520"/>
            <a:ext cx="752616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ffinché un filtro possa decidere se bloccare o meno l’accesso ad determinato file scaricato da Internet, è necessario che il file abbia un’etichetta di classificazione nelle informazioni di intest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iò si traduce in un metodo di etichettatura, ossia l’inclusione di un meta tag tra i tags &lt;head&gt; e &lt;/head&gt; nel codice HT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608-6829-46D7-8B7E-DC93EADD478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701600" y="2365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ichettare con IC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05120"/>
            <a:ext cx="7696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passaggi per etichettare un sito con ICRA sono d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iare e incollare l’etichetta (il meta tag) nel codice HTML della pagi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giungere un pulsante con il logo ICRA o un collegamento testuale che dichiari l’etichettatura con IC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FEB-EFA2-4223-8515-402BCFD3DC9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244480" y="2286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unich.it/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05120"/>
            <a:ext cx="723888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etichetta che è stata applicata al sito del CLEI, è stata generata utilizzando l’organizzazione ICRA. Il risultato ottenuto è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&lt;meta http-equiv="pics-label" content='(pics-1.1 "http://www.icra.org/ratingsv02.html" comment "online IT v2.0" l gen true for "http://www.unich.it/clei" r (nz 1 vz 1 lz 1 oz 1 cz 1) "http://www.rsac.org/ratingsv01.html" l gen true for "http://www.unich.it/clei" r (n 0 s 0 v 0 l 0))'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Questo meta tag deve essere inserito nel codice HTML della prima pagina (index.htm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B0B-2E84-461D-B999-BC1F23FD541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20440" y="2286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unich.it/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828800"/>
            <a:ext cx="769464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etichetta è composta dai seguenti elementi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&lt;meta http-equiv=“pics-label” content=‘(pics1.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videnzia che l’etichetta è trasmessa come me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tag http-equiv, inoltre la versione è pics1.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“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http://www.icra.org/ratingsv02.html”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è l’URL 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rvizio di classificazion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l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indica l’inizio dell’etichett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gen tue for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ta per etichetta “generic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pplicabile a tutte le pagine del s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4F1-AC21-4D7C-936B-F7BCD270EC3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44480" y="2286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unich.it/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676520"/>
            <a:ext cx="7925040" cy="51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“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http://www.unich.it/clei”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è l’URL del sito cui s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pplica l’etichett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r(nz 1 vz 1 lz 1 oz 1 cz 1)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è la classificazione. I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ignificato è “nessuno dei descrittori suddetti” 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tutte le categori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“</a:t>
            </a:r>
            <a:r>
              <a:rPr b="0" lang="it-IT" sz="2600" spc="-1" strike="noStrike">
                <a:solidFill>
                  <a:srgbClr val="ccccff"/>
                </a:solidFill>
                <a:latin typeface="Tahoma"/>
              </a:rPr>
              <a:t>http://www.rsac.org/ratingsv01.html” r (…)</a:t>
            </a: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on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informazioni della classificazione secondo i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istema RSAC, vengono inserite per garantire 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ompatibilità con il vecchio siste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1E2-D75E-4ACF-9040-31361243972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44480" y="2286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unich.it/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3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l sito è stato aggiunto il logo “Etichettato con il sistema ICRA”, inseren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&lt;img src=“iCRA.gif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CRA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81280" y="4267080"/>
            <a:ext cx="3178440" cy="12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3AD-7E83-42A2-8377-8C3511437AB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33920" y="289080"/>
            <a:ext cx="4952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42280" y="22860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m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Introdu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Che cos’è il P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Perché etichettare un 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Come si etichetta un sito – IC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www.unich.it/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Bibli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17B-779B-4B6A-83EE-A3E403862D7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315840" y="22860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905120"/>
            <a:ext cx="754380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aspetto positivo del PICS è che non esiste un’autorità centrale che approva o censura il contenuto di un sito sul WW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sistema si base interamente sull’autocontrollo e sulla responsabilizzazione dei gestori dei siti, degli autori di pagine web e degli ute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06C-6C94-4599-BDEB-75A664CA1E5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373800" y="22860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3544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www.w3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www.icra.or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www.odg.mi.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F13-C3DF-4887-B71F-151397DF024F}" type="slidenum">
              <a:t>21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71760" y="22860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05120"/>
            <a:ext cx="784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ternet: fattore di evoluzione nel campo   delle applicazioni e degli cambi commerci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otenziale nocività o illegalità delle sue informazio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oftware di filtragg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- blackli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- whiteli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- etichettatura neutrale: PICS.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416-16BF-459C-833A-99A41377242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448240" y="2286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 cos’è il 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8077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PICS è l’acronimo di Platform for Internet Content Selection (Piattaforma per la selezione contenutistica del materiale Internet). Il suo lancio è avvenuto nel maggio 1995 per opera del W3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ll’agosto dello stesso anno è iniziato lo sviluppo delle caratteristiche tecniche che permetterebbero l’utilizzo del PICS stesso. Tali specifiche sono state progettate sia per controllare il contenuto su Internet sia per permettere a terzi di valutare l’esattezza e l’attualità del conte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8B1-404F-4E38-A29A-1EAC33969DB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48240" y="2286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 cos’è il 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5480" y="2201760"/>
            <a:ext cx="355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905120"/>
            <a:ext cx="3581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’idea di base del PICS è di introdurre un software di selezione tra l’utente e i documenti on line. Il software controlla le etichette e decide se concedere l’accesso o m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1F9-D6E9-4A8E-B495-0401BFCDECE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71920" y="2286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 cos’è il 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05120"/>
            <a:ext cx="8116920" cy="44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 promuovere i suoi obiettivi, il PICS ha progettato un insieme di standard che facilitan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uto-valutazione da parte del creatore di pag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lutazione da parte dei rating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ltraggio personalizza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l facile accesso alla tecnologia che permette l’auto-valutazione e la valutazione di terzi darà agli utenti il massimo controllo sul contenuto che ricevono, senza richiedere limitazioni ai fornitori sul contenu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9D1-4BC6-45AD-9116-388857DD69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61240" y="228600"/>
            <a:ext cx="36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hé etichet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828800"/>
            <a:ext cx="75628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i sono diversi motivi per cui è importante etichett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 evitare che l’accesso al sito sia bloccato come impostazione predefinita, anche se il sito non contiene del contenuto descrivibile come dannos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 aiutare i motori di ricerc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 tutelare i bambin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rché un sito etichettato può essere considerato più affidab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2CA-F0B0-4F5D-9A92-384532F042E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84840" y="22860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e si etichetta un 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05120"/>
            <a:ext cx="77724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generale per etichettare un sito bisognerà eseguire i seguenti pas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dere chi assegnerà le etichet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operatori di siti web che auto-etichettano e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un pannello della valutazione e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un programma per computer che   analizza il contenuto e applica l’etichet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D31-B850-4B28-A024-C40CFCDB8B6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08520" y="22860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e si etichetta un 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15328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bilire i criteri di etichetta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egliere il vocabolario di etichettatura e i criteri per definire il formato specificato nelle specifiche tecn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re le etich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orre per la distribuzione delle etichet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ornire le etichette ad un label bureau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S e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pubblicare le etichette su un label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assegnare le etichette alle pa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B35-DF87-402C-9C16-4FFF55A6FD7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20:12:17Z</dcterms:created>
  <dc:creator>Mla</dc:creator>
  <dc:description/>
  <dc:language>en-US</dc:language>
  <cp:lastModifiedBy>Giuseppina</cp:lastModifiedBy>
  <dcterms:modified xsi:type="dcterms:W3CDTF">2004-03-05T23:55:41Z</dcterms:modified>
  <cp:revision>60</cp:revision>
  <dc:subject/>
  <dc:title>Presentazione di PowerPoint</dc:title>
</cp:coreProperties>
</file>