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ADD-8CCC-4762-B3C4-52B5A850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0356-FDC5-4A08-A4C3-83E8227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63D-6429-428C-AFA3-EB1D6350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52C-4F31-4368-B7C0-FF46AB4F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832-E660-455D-B3F4-43BE4BB0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413-ABA7-4508-86F2-A3C9178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D96-15FF-4289-A264-C08F34A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A05-E356-4B45-ABAF-708C7BE2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CD9-E5B1-445F-B5EC-D6869E1F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23C-6BEC-4BFE-93A2-5A26CDE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CDC-585F-4085-9412-DA6C5AF1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C16-ACAE-4747-B41D-C9E7CAE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291-EE07-4BF9-8D5C-97307ADB66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Bruni e Giorge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B19-F8BE-418B-A217-12ADDA4FB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orologioDOM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SS1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SSP.html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SSPsenzaZindex.html" TargetMode="External"/><Relationship Id="rId3" Type="http://schemas.openxmlformats.org/officeDocument/2006/relationships/hyperlink" Target="file:///CSSPconZindex.html" TargetMode="Externa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SSPconHidden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SSPeJS.html" TargetMode="Externa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nuTendina.html" TargetMode="Externa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eserciziJS19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orologioDOM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OM, CSS-P e DHTM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oberto Bruni e Daniela Giorg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Orologi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con DOM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&lt;script type=“text/Javascrip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&lt;!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function orologio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…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calcoliamo dataStr e oraStr come pr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paragrafoData = document.getElementById(“data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paragrafoOra = document.getElementById(“ora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nodoData = paragrafoData.firstChi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nodoOra = paragrafoOra.firstChi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nodoData.nodeValue = “Data: ”+dataS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nodoOra.nodeValue = “Ora: ”+oraSt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etTimeout(“orologio()”,1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159-ED06-44AE-A8DD-0516A3D84C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odi dei no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odo.appendChild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nuovonod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ggiunge il nodo passato come ultimo figlio dell’elemento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odo.insertBefore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nuovo,vecchi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ggiung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ovo nodo tra i figli dell’elemento corrente, prima del vecchio n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odo.replaceChild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nuovo,vecchi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ggiung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uovo nodo tra i figli dell’elemento corrente, al posto del vecchio nodo (che viene elimina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odo.removeChild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vecchi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muove il vecchio nodo dai filgi dell’elemento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odo.hasChildNodes(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stituisce un booleano (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tru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e ha uno o più figli,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fal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ltrime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E90-CE1C-47CE-AE87-F8ED145F3F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iungere testo alla pagina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&lt;h1&gt;Crea il tuo documento&lt;/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p id=“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test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”&gt;Con DOM puoi aggiungere paragrafi dinamicamente a questa pagina. Digita una frase e premi il pulsante!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form name=“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modul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input type=“text” name=“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frase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” size=“65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input type=“button” value=“Aggiungi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onclick=“addFrase();”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/fo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C7A-005D-43CB-A078-D42D30F7D8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iungere testo alla pagina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&lt;script type=“text/javascript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&lt;!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unction addFras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valore = document.modulo.frase.value;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come sol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nodo = document.createTextNode(“ ”+val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crea nuovo nodo di t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document.getElementById(“testo”).appendChild(nod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aggiunge il nuovo nodo in fondo al paragra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913-312E-40F1-BB62-A353767439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CSS-P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(Cascading Style Sheets with Positioning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Da CSS level 1 a CSS-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cembre 1996: prima versione dei cascading style sheets (CSS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ollo maggiore sullo stile e formattazione degli elementi della pagin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non era possibile posizionar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osto 1997: cascading style sheets with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ositionin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CSS-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sizionamento “al pixel” per ogni elemen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7224-6E56-4FEF-994B-DB9B25A95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evel 2 e level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2 = CSS1 + CSS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oltre aggiunse stili speciali per elementi multimediali e per il curs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tto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te per supportare grafica vettoriale e interfacce u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C24-CE34-4F28-9597-E22CE8F649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zione dello st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ile .css importato con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link 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ag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style&g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nella head del docu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definizioni di stil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h1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finizioni di classi di stil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h1.special { … }      .h8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sati da attributo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finizioni di identificatori di s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#maiuscoletto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sati da attributo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ributo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style=“ … 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2F1-E1FC-45DE-A61E-D0A4B2CFDD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empi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html&gt;&lt;head&gt;&lt;title&gt;Applica stili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style type="text/cs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h1 { background: green;      font-weight: bo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width: 80; height: 80;  text-indent: 10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h1.special { background: bl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ont-style:italic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.h8 { background: red;       font-weight: bo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width: 80;             height: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text-indent: 10;       font-size: 24pt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#h9 { background: yellow;    font-weight: bo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width: 80;             height: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text-indent: 10;       font-size: 24pt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/style&gt;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969-50F3-4E71-8793-05487F0260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Esempi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h1&gt;Pino&lt;/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h1 class="special" &gt;Gino&lt;/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div class="h8"&gt;Rino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div id="h9"&gt;Lino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/body&gt;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FFA-3A1E-4BA9-825B-A227D370B5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DOM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(Document Object Mode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zion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amo usare le seguenti propriet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lef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righ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to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z-ind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2F1-B5CD-4368-8B5D-A3303498DC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dica come calcolare la posizione di un elemento nella pag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absolu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coordinate assolu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come absolute, ma resistente allo scro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relativ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coordinate relative all’elemento preced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valore di defau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09D-54BA-4F70-9B09-C49C3CD9BC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anza dal margine sinistro della fin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anza dal margine destro della fines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anza dal bordo superi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anza dal bordo infer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010-F44B-4231-8DB6-497EFF639E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z-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rve quando i “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” (strati) si sovrappong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 non specifichiamo nulla, l’ultimo elemento aggiunto copre gli altri (</a:t>
            </a:r>
            <a:r>
              <a:rPr b="0" lang="it-IT" sz="2800" spc="-1" strike="noStrike" u="sng">
                <a:solidFill>
                  <a:srgbClr val="006600"/>
                </a:solidFill>
                <a:uFillTx/>
                <a:latin typeface="Times New Roman"/>
                <a:hlinkClick r:id="rId2"/>
              </a:rPr>
              <a:t>Esemp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un layer con valore più alto di z-index copre tutti i layer con valore più basso (default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arità di layer l’ultimo copre i precedenti (</a:t>
            </a:r>
            <a:r>
              <a:rPr b="0" lang="it-IT" sz="2400" spc="-1" strike="noStrike" u="sng">
                <a:solidFill>
                  <a:srgbClr val="006600"/>
                </a:solidFill>
                <a:uFillTx/>
                <a:latin typeface="Times New Roman"/>
                <a:hlinkClick r:id="rId3"/>
              </a:rPr>
              <a:t>Esemp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F0B7-DC0D-4A96-A73A-E552690032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Vi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mette di nascondere i layer indesider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ha quattro valori possib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asconde l’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e hidden eccetto che per le 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he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fault (stesso valore del geni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nde visibile l’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B1A-107A-4C54-BC0E-C73C9F8D3A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DHTML</a:t>
            </a:r>
            <a:br>
              <a:rPr sz="4800"/>
            </a:br>
            <a:r>
              <a:rPr b="1" lang="it-IT" sz="4800" spc="-1" strike="noStrike">
                <a:solidFill>
                  <a:srgbClr val="000000"/>
                </a:solidFill>
                <a:latin typeface="Comic Sans MS"/>
              </a:rPr>
              <a:t>(Dynamic HTM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SS-P + JS = D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s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gli di st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a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reare (con HT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porre (con C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imare (con J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06D-333D-45BC-9A07-AF89B7BCBE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dicoto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o standard prevede di usare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div&g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ifra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tscape preferisce i deprecati 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&lt;layer&g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&lt;ilay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siamo seguire lo standard anche con Netscape, ma la sintassi di accesso alle proprietà è diversa da quella di Explo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browser più recenti usano la sintassi 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182-B319-4188-BE6E-C85296E49D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etscape 5+ Explorer 5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N5+ e IE5+ supportano il 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div id=“L1” name=“pippo”&gt; … 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getElementById(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‘pippo’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).style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.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A58-CD51-43DB-9418-D927B95344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Netscape 4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M non suppor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usa l’array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layer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ttando l’attribut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nel tag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DIV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ossiamo accedere direttamente al suo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div id=“L1” name=“pippo”&gt; … &lt;/di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document.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layers[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‘pippo’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]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.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AC5-55E8-46AF-9F89-77C7EEB2FA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O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Gerarchia ad albero degli elementi che compongono il documento (visti come oggetti, con proprietà e metod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. immagini, link,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passato molte differenze tra IE e 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esso è standardizzato (da W3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utti i tag definiscono elementi del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siamo leggerne/modificarne il conten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pportato da NN6+ e IE5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4B6-E5B5-4444-A552-0F8761558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Explorer 4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M non support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usa l’array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all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ttando l’attribut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non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am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!) nel tag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DIV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ossiamo accedere direttamente al suo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isogna anche aggiungere la keyword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div id=“L1” name=“pippo”&gt; … &lt;/di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document.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all[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‘L1’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].style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.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4B8-65E4-4341-9ED9-CB926B12CE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d =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isto 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.N. sfrutta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.E. sfrutta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essenziale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usare lo stesso nome nei due camp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er rendere uniforme il trattamento dei due casi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div id=“L1” name=“L1”&gt; … &lt;/div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A7B-8C9A-4670-8084-FB41E4CA04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oss-Browser D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getElementById(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‘L1’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).style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.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    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layers[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‘L1’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]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.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       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all[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‘L1’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].style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.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“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” +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par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+ “</a:t>
            </a:r>
            <a:r>
              <a:rPr b="1" lang="it-IT" sz="2400" spc="-1" strike="noStrike">
                <a:solidFill>
                  <a:srgbClr val="006600"/>
                </a:solidFill>
                <a:latin typeface="Courier New"/>
              </a:rPr>
              <a:t>‘L1’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            </a:t>
            </a: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+ partII +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“.visibil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00E-B893-486C-86F3-7BCCE76B00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checkBrowser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partI = “getElementById(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r partII = “).style”;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ok per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unction checkBrowser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f (parseInt(navigator.appVersion) &gt;= 5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avigator.appVersion.indexOf(“MSIE 5”) != -1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avigator.appVersion.indexOf(“MSIE 6”) != -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browser = “DOM”; 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if (navigator.userAgent.indexOf(“Mozilla/4”) != -1 &amp;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navigator.appName.indexOf(“Nav”) != -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partI = “layers[”;     partII=“]”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browser = “NS4”; 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if (navigator.userAgent.indexOf(“Mozilla/4”) != -1 &amp;&amp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      </a:t>
            </a: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navigator.appVersion.indexOf(“MSIE 4”) != -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partI = “all[”;        partII=“].style”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browser = “IE4”; } </a:t>
            </a: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}</a:t>
            </a:r>
            <a:r>
              <a:rPr b="1" lang="it-IT" sz="18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94D-27D7-4787-BAB4-4C933A0BDB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L’accesso ai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ttivare la funzione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checkBrowser(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 caricamento della pag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are delle funzioni specifiche come quella sot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function assegna(nomelayer,attributo,val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{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costruiamo il com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cmd = “document.” +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artI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+ “‘”+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nomelayer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+“’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+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artII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+ “.”+attribu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      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+ “ = ‘”+valore+“’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eval(cmd)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 lo eseguiamo col meta-interp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D61-271F-4E96-8B4E-D863D28890B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Esempi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’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div id=“L1” name=“L1”&gt; … &lt;/div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input type=“butt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lue=“Nascondi L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onclick=“assegna(‘L1’,‘visibility’,‘hidden’)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input type=“button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value=“Mostra L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onclick=“assegna(‘L1’,‘visibility’,‘visible’)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3AA-B223-4B7D-B30C-FB32DCF619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nu a tendina con D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è suffici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re gli elementi giu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conderli e mostrarli quando richi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no sempre lì ma non si vedo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00"/>
                </a:solidFill>
                <a:uFillTx/>
                <a:latin typeface="Times New Roman"/>
                <a:hlinkClick r:id="rId2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00D-20DD-4CC0-A796-C5D21425ED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chi non supporta D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div style="position: absolut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width: 25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left: -250; top: 10;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l vostro browser non può visualizz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questa pagina nella maniera corret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Aggiornate il browser o visitat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ver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a href=“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URLopportuna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"&gt; HTML plain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ella pag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36F-84E6-4A3F-BDEA-D1389219FB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Eserc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671C-4801-40C5-B921-E7F2B795D68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title&gt;Esempio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h1&gt;Intestazione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p&gt;Paragrafo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343400" y="1981080"/>
          <a:ext cx="4514760" cy="32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1981080"/>
                    <a:ext cx="451476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A67-752C-477E-8B8C-D3C5521D4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 struttura D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odi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lementi del documento (es. tag contenitori, i loro conten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ribut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sato per identificar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Genitori, figli e fratelli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ome da annidamento dei tag del docu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ratelli vengono detti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sib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sto racchiuso tra tag contenitori visto come oggett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String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ig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F15-ECB9-4776-9615-D8C5F825D8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rietà elementari dei no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nodeNam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il nome del nodo (non l’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i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nome del tag (es.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oppure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BOD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#documen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 l’intero docu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#tex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 il contenuto testuale di tag conteni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nodeTyp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intero che descrive il ti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tag HTML ordin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nodi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il nodo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nodeValu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: testo racchiuso nel n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2CE-82E3-49B9-A493-D80E4AD89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avigazione sull’alb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firstChild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rimo figlio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lastChild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’ultimo figlio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childNodes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ray dei figli di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previousSibling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fratello immediatamente precedente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.nextSibling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fratello immediatamente successivo a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n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BEE-213E-4BAE-B39A-358322F59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Il nodo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odo spec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ssiede metodi molto ut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getElementById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nomeid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stituisce l’elemento il cui attribut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i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corrisponde al nome pass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getElementsByTagName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nometag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stituisce un array con tutti gli elementi aventi il tag specificato dal parametro passato (passando 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“*”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collezionano tutti i ta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document.createTextNode(</a:t>
            </a:r>
            <a:r>
              <a:rPr b="1" i="1" lang="it-IT" sz="2400" spc="-1" strike="noStrike">
                <a:solidFill>
                  <a:srgbClr val="3333cc"/>
                </a:solidFill>
                <a:latin typeface="Courier New"/>
              </a:rPr>
              <a:t>testo</a:t>
            </a:r>
            <a:r>
              <a:rPr b="1" lang="it-IT" sz="2400" spc="-1" strike="noStrike">
                <a:solidFill>
                  <a:srgbClr val="3333cc"/>
                </a:solidFill>
                <a:latin typeface="Courier New"/>
              </a:rPr>
              <a:t>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rea un nuovo nodo di tipo text il cui contenuto è t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trà essere aggiunto al docu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353-FE1E-43C2-BB4E-86DE356831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00"/>
                </a:solidFill>
                <a:uFillTx/>
                <a:latin typeface="Comic Sans MS"/>
                <a:hlinkClick r:id="rId2"/>
              </a:rPr>
              <a:t>Orologi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con DOM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&lt;body onLoad=“orologio();”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&lt;h2&gt;&amp;Egrave; il momento giusto per un break?&lt;/h2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p id=“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data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”&gt;Data:&lt;/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&lt;p id=“</a:t>
            </a:r>
            <a:r>
              <a:rPr b="1" lang="it-IT" sz="2800" spc="-1" strike="noStrike">
                <a:solidFill>
                  <a:srgbClr val="006600"/>
                </a:solidFill>
                <a:latin typeface="Courier New"/>
              </a:rPr>
              <a:t>ora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”&gt;Ora:&lt;/p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132-2155-4D5C-A38E-2AF285525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15:41:24Z</dcterms:created>
  <dc:creator>Mr Bean</dc:creator>
  <dc:description/>
  <dc:language>en-US</dc:language>
  <cp:lastModifiedBy> </cp:lastModifiedBy>
  <dcterms:modified xsi:type="dcterms:W3CDTF">2002-04-17T09:08:35Z</dcterms:modified>
  <cp:revision>505</cp:revision>
  <dc:subject/>
  <dc:title>HTML</dc:title>
</cp:coreProperties>
</file>