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97AA-522B-4D64-80BC-4A88F32F3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6CC0-051A-4444-8A40-F5482AB5C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F7D1-9960-4E30-B22A-F135C2678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B5A0-82B0-48A4-83EB-DF38F8CAE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A2C5-7936-4FFE-BB88-63A34B4A7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7955-6082-43E3-8CAC-295CC056D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3D6B-A76D-45D8-895C-B80E9ACE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34B8-6FCC-4405-AAA8-3D9CF7E5B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C58A-3CC4-4789-9EAA-9C61F63DC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5B2E-7A91-4EB3-BC2B-D5E7280C2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3E93-871A-4015-B80F-68DFE4073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821E-298F-43B6-AFC6-93D3626B8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7-</a:t>
            </a:r>
            <a:fld id="{DD0C06CA-4847-405B-9398-91CDAAFFD479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7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7.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output of the RadioB apple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7f05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8082000" cy="12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039F-5703-4F82-86E5-3DA0F64DAAD9}" type="slidenum">
              <a:t>10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7.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 display of the applet Wel2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7f01" descr=""/>
          <p:cNvPicPr/>
          <p:nvPr/>
        </p:nvPicPr>
        <p:blipFill>
          <a:blip r:embed="rId2"/>
          <a:stretch/>
        </p:blipFill>
        <p:spPr>
          <a:xfrm>
            <a:off x="863640" y="2666880"/>
            <a:ext cx="8029440" cy="15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F47B-A78A-4840-BB2F-94B850F5268E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7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 display of the output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of the applet Rectangl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7f02" descr=""/>
          <p:cNvPicPr/>
          <p:nvPr/>
        </p:nvPicPr>
        <p:blipFill>
          <a:blip r:embed="rId2"/>
          <a:stretch/>
        </p:blipFill>
        <p:spPr>
          <a:xfrm>
            <a:off x="950760" y="1817640"/>
            <a:ext cx="7824960" cy="38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AD74-0B07-407D-AF3B-BA2E93E3CFD7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7.3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 display drawn by the applet Polygon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7f03" descr=""/>
          <p:cNvPicPr/>
          <p:nvPr/>
        </p:nvPicPr>
        <p:blipFill>
          <a:blip r:embed="rId2"/>
          <a:stretch/>
        </p:blipFill>
        <p:spPr>
          <a:xfrm>
            <a:off x="863640" y="2590920"/>
            <a:ext cx="8002440" cy="162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5BEC-56EC-42A0-98AF-4E6ED486693B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7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redefined Java Colors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nd Their RGB Valu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7T01_1of2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805680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2470-EC91-419E-A1EE-5730A05877B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7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redefined Java Colors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nd Their RGB Values (Continued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7T01_2of2" descr=""/>
          <p:cNvPicPr/>
          <p:nvPr/>
        </p:nvPicPr>
        <p:blipFill>
          <a:blip r:embed="rId2"/>
          <a:stretch/>
        </p:blipFill>
        <p:spPr>
          <a:xfrm>
            <a:off x="851040" y="1960560"/>
            <a:ext cx="8024760" cy="34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D93D-95C1-403F-8482-56D1914889E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7.4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Results of running the Pizza apple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7f04" descr=""/>
          <p:cNvPicPr/>
          <p:nvPr/>
        </p:nvPicPr>
        <p:blipFill>
          <a:blip r:embed="rId2"/>
          <a:stretch/>
        </p:blipFill>
        <p:spPr>
          <a:xfrm>
            <a:off x="1752480" y="1422360"/>
            <a:ext cx="6215040" cy="499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31DB-43BF-4705-8AFF-65169B5DD23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7.2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Event Classe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7T02" descr=""/>
          <p:cNvPicPr/>
          <p:nvPr/>
        </p:nvPicPr>
        <p:blipFill>
          <a:blip r:embed="rId2"/>
          <a:stretch/>
        </p:blipFill>
        <p:spPr>
          <a:xfrm>
            <a:off x="863640" y="1573200"/>
            <a:ext cx="801540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3232-4104-40F3-A014-22415715E5E0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7.3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Semantic Event Listener Interfaces and Their Handler Method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7T03" descr=""/>
          <p:cNvPicPr/>
          <p:nvPr/>
        </p:nvPicPr>
        <p:blipFill>
          <a:blip r:embed="rId2"/>
          <a:stretch/>
        </p:blipFill>
        <p:spPr>
          <a:xfrm>
            <a:off x="888840" y="2749680"/>
            <a:ext cx="7940880" cy="12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E3EE-7971-4A91-929F-AE2F2E5F327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7:56:36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8:01:29Z</dcterms:modified>
  <cp:revision>3</cp:revision>
  <dc:subject/>
  <dc:title>Chapter 1</dc:title>
</cp:coreProperties>
</file>