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304088" cy="9586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41CED5-1D7B-446B-B43F-DB157460A2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44280" y="1780920"/>
            <a:ext cx="784692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944280" y="4034520"/>
            <a:ext cx="784692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442A89-6670-447D-803F-39CF5350E6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44280" y="1780920"/>
            <a:ext cx="382896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65120" y="1780920"/>
            <a:ext cx="382896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44280" y="4034520"/>
            <a:ext cx="382896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65120" y="4034520"/>
            <a:ext cx="382896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166F9E-84A1-44C6-9A0A-8AD060CCED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4280" y="1780920"/>
            <a:ext cx="252648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97480" y="1780920"/>
            <a:ext cx="252648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50680" y="1780920"/>
            <a:ext cx="252648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944280" y="4034520"/>
            <a:ext cx="252648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97480" y="4034520"/>
            <a:ext cx="252648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50680" y="4034520"/>
            <a:ext cx="252648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8DBBCA-7A60-4668-A2E5-E603103995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944280" y="1780920"/>
            <a:ext cx="7846920" cy="43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44280" y="1780920"/>
            <a:ext cx="7846920" cy="43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44280" y="1780920"/>
            <a:ext cx="3828960" cy="43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965120" y="1780920"/>
            <a:ext cx="3828960" cy="43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933120" y="219240"/>
            <a:ext cx="78678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44280" y="1780920"/>
            <a:ext cx="382896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65120" y="1780920"/>
            <a:ext cx="3828960" cy="43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944280" y="4034520"/>
            <a:ext cx="382896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944280" y="1780920"/>
            <a:ext cx="7846920" cy="43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B97761-876B-452C-8DD2-7AF841CC38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44280" y="1780920"/>
            <a:ext cx="3828960" cy="43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65120" y="1780920"/>
            <a:ext cx="382896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965120" y="4034520"/>
            <a:ext cx="382896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44280" y="1780920"/>
            <a:ext cx="382896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65120" y="1780920"/>
            <a:ext cx="382896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944280" y="4034520"/>
            <a:ext cx="784692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44280" y="1780920"/>
            <a:ext cx="784692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944280" y="4034520"/>
            <a:ext cx="784692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44280" y="1780920"/>
            <a:ext cx="382896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65120" y="1780920"/>
            <a:ext cx="382896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44280" y="4034520"/>
            <a:ext cx="382896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965120" y="4034520"/>
            <a:ext cx="382896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44280" y="1780920"/>
            <a:ext cx="252648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97480" y="1780920"/>
            <a:ext cx="252648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50680" y="1780920"/>
            <a:ext cx="252648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944280" y="4034520"/>
            <a:ext cx="252648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597480" y="4034520"/>
            <a:ext cx="252648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250680" y="4034520"/>
            <a:ext cx="252648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44280" y="1780920"/>
            <a:ext cx="7846920" cy="43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1E9557-FC2B-484F-B678-C87C5328FF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44280" y="1780920"/>
            <a:ext cx="3828960" cy="43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65120" y="1780920"/>
            <a:ext cx="3828960" cy="43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5C095E-FA4C-4E9A-9D3C-AF5D1116F3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F7AD01-BD9A-4A74-B83B-5554AA52F6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33120" y="219240"/>
            <a:ext cx="78678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86E844-B181-484A-8195-D68DF39E37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4280" y="1780920"/>
            <a:ext cx="382896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65120" y="1780920"/>
            <a:ext cx="3828960" cy="43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944280" y="4034520"/>
            <a:ext cx="382896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B294B6-94E6-441E-B775-685D8C68B3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44280" y="1780920"/>
            <a:ext cx="3828960" cy="43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65120" y="1780920"/>
            <a:ext cx="382896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65120" y="4034520"/>
            <a:ext cx="382896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D9A78B-8048-4A79-97C4-B6795E5345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44280" y="1780920"/>
            <a:ext cx="382896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65120" y="1780920"/>
            <a:ext cx="382896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44280" y="4034520"/>
            <a:ext cx="784692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9A3CDF-596D-40CC-90E1-D4AE2C6462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8458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787320" y="6248520"/>
            <a:ext cx="6121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6 Pearson Addison-Wesley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8458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8458f"/>
                </a:solidFill>
                <a:latin typeface="Arial"/>
              </a:rPr>
              <a:t>10-</a:t>
            </a:r>
            <a:fld id="{5E1988F3-81C5-477C-B5B2-508A1C72C645}" type="slidenum">
              <a:rPr b="0" lang="en-US" sz="1200" spc="-1" strike="noStrike">
                <a:solidFill>
                  <a:srgbClr val="28458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944280" y="1780920"/>
            <a:ext cx="7846920" cy="43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11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11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33760" y="762120"/>
            <a:ext cx="342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fb1e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fb1e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751"/>
              </a:spcBef>
              <a:buClr>
                <a:srgbClr val="000000"/>
              </a:buClr>
              <a:buFont typeface="Time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3760" y="762120"/>
            <a:ext cx="342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fb1e3"/>
                </a:solidFill>
                <a:latin typeface="Arial"/>
              </a:rPr>
              <a:t>Chapter 10</a:t>
            </a:r>
            <a:endParaRPr b="1" lang="en-US" sz="3600" spc="-1" strike="noStrike">
              <a:solidFill>
                <a:srgbClr val="5fb1e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5333760" y="1904760"/>
            <a:ext cx="34290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Perl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CGI Program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28458f"/>
                </a:solidFill>
                <a:latin typeface="Arial"/>
              </a:rPr>
              <a:t>FIGURE 10.1  </a:t>
            </a:r>
            <a:r>
              <a:rPr b="0" sz="3200" spc="-1" strike="noStrike">
                <a:solidFill>
                  <a:srgbClr val="28458f"/>
                </a:solidFill>
                <a:latin typeface="Arial"/>
              </a:rPr>
              <a:t>Communications and computation using CGI</a:t>
            </a:r>
            <a:endParaRPr b="0" lang="en-US" sz="3200" spc="-1" strike="noStrike">
              <a:solidFill>
                <a:srgbClr val="28458f"/>
              </a:solidFill>
              <a:latin typeface="Arial"/>
            </a:endParaRPr>
          </a:p>
        </p:txBody>
      </p:sp>
      <p:pic>
        <p:nvPicPr>
          <p:cNvPr id="81" name="Sebesta_c10F01" descr=""/>
          <p:cNvPicPr/>
          <p:nvPr/>
        </p:nvPicPr>
        <p:blipFill>
          <a:blip r:embed="rId2"/>
          <a:stretch/>
        </p:blipFill>
        <p:spPr>
          <a:xfrm>
            <a:off x="825480" y="2743200"/>
            <a:ext cx="8128080" cy="1523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84A20A-41DF-4563-B380-67D58E5DB470}" type="slidenum">
              <a:t>2</a:t>
            </a:fld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28458f"/>
                </a:solidFill>
                <a:latin typeface="Arial"/>
              </a:rPr>
              <a:t>FIGURE 10.2  </a:t>
            </a:r>
            <a:r>
              <a:rPr b="0" sz="3200" spc="-1" strike="noStrike">
                <a:solidFill>
                  <a:srgbClr val="28458f"/>
                </a:solidFill>
                <a:latin typeface="Arial"/>
              </a:rPr>
              <a:t>Display of popcorn.html</a:t>
            </a:r>
            <a:endParaRPr b="0" lang="en-US" sz="3200" spc="-1" strike="noStrike">
              <a:solidFill>
                <a:srgbClr val="28458f"/>
              </a:solidFill>
              <a:latin typeface="Arial"/>
            </a:endParaRPr>
          </a:p>
        </p:txBody>
      </p:sp>
      <p:pic>
        <p:nvPicPr>
          <p:cNvPr id="83" name="Sebesta_c10F02" descr=""/>
          <p:cNvPicPr/>
          <p:nvPr/>
        </p:nvPicPr>
        <p:blipFill>
          <a:blip r:embed="rId2"/>
          <a:stretch/>
        </p:blipFill>
        <p:spPr>
          <a:xfrm>
            <a:off x="1616040" y="1206360"/>
            <a:ext cx="6486480" cy="5245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0265DE-B6DD-4E63-AF17-1D1221828BA6}" type="slidenum">
              <a:t>3</a:t>
            </a:fld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28458f"/>
                </a:solidFill>
                <a:latin typeface="Arial"/>
              </a:rPr>
              <a:t>FIGURE 10.3  </a:t>
            </a:r>
            <a:r>
              <a:rPr b="0" sz="3200" spc="-1" strike="noStrike">
                <a:solidFill>
                  <a:srgbClr val="28458f"/>
                </a:solidFill>
                <a:latin typeface="Arial"/>
              </a:rPr>
              <a:t>Display of popcorn.html with the form filled out</a:t>
            </a:r>
            <a:endParaRPr b="0" lang="en-US" sz="3200" spc="-1" strike="noStrike">
              <a:solidFill>
                <a:srgbClr val="28458f"/>
              </a:solidFill>
              <a:latin typeface="Arial"/>
            </a:endParaRPr>
          </a:p>
        </p:txBody>
      </p:sp>
      <p:pic>
        <p:nvPicPr>
          <p:cNvPr id="85" name="Sebesta_c10F03" descr=""/>
          <p:cNvPicPr/>
          <p:nvPr/>
        </p:nvPicPr>
        <p:blipFill>
          <a:blip r:embed="rId2"/>
          <a:stretch/>
        </p:blipFill>
        <p:spPr>
          <a:xfrm>
            <a:off x="1700280" y="1371600"/>
            <a:ext cx="6326280" cy="5108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04994F-E057-473D-A83D-3084C69BBDF6}" type="slidenum">
              <a:t>4</a:t>
            </a:fld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28458f"/>
                </a:solidFill>
                <a:latin typeface="Arial"/>
              </a:rPr>
              <a:t>FIGURE 10.4  </a:t>
            </a:r>
            <a:r>
              <a:rPr b="0" sz="3600" spc="-1" strike="noStrike">
                <a:solidFill>
                  <a:srgbClr val="28458f"/>
                </a:solidFill>
                <a:latin typeface="Arial"/>
              </a:rPr>
              <a:t>Output of popcorn.cgi</a:t>
            </a: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pic>
        <p:nvPicPr>
          <p:cNvPr id="87" name="Sebesta_c10F04" descr=""/>
          <p:cNvPicPr/>
          <p:nvPr/>
        </p:nvPicPr>
        <p:blipFill>
          <a:blip r:embed="rId2"/>
          <a:stretch/>
        </p:blipFill>
        <p:spPr>
          <a:xfrm>
            <a:off x="1206360" y="1447920"/>
            <a:ext cx="7315200" cy="4852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DAC2DF-47E1-4509-9CE0-8ABBFF5A71FE}" type="slidenum">
              <a:t>5</a:t>
            </a:fld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28458f"/>
                </a:solidFill>
                <a:latin typeface="Arial"/>
              </a:rPr>
              <a:t>FIGURE 10.5  </a:t>
            </a:r>
            <a:r>
              <a:rPr b="0" sz="3200" spc="-1" strike="noStrike">
                <a:solidFill>
                  <a:srgbClr val="28458f"/>
                </a:solidFill>
                <a:latin typeface="Arial"/>
              </a:rPr>
              <a:t>Display of conelec.html</a:t>
            </a:r>
            <a:endParaRPr b="0" lang="en-US" sz="3200" spc="-1" strike="noStrike">
              <a:solidFill>
                <a:srgbClr val="28458f"/>
              </a:solidFill>
              <a:latin typeface="Arial"/>
            </a:endParaRPr>
          </a:p>
        </p:txBody>
      </p:sp>
      <p:pic>
        <p:nvPicPr>
          <p:cNvPr id="89" name="Sebesta_c10F05" descr=""/>
          <p:cNvPicPr/>
          <p:nvPr/>
        </p:nvPicPr>
        <p:blipFill>
          <a:blip r:embed="rId2"/>
          <a:stretch/>
        </p:blipFill>
        <p:spPr>
          <a:xfrm>
            <a:off x="2438280" y="1219320"/>
            <a:ext cx="4854600" cy="5305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C3EF20-30DB-4E15-8192-E7577D6575BD}" type="slidenum">
              <a:t>6</a:t>
            </a:fld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28458f"/>
                </a:solidFill>
                <a:latin typeface="Arial"/>
              </a:rPr>
              <a:t>FIGURE 10.6  </a:t>
            </a:r>
            <a:r>
              <a:rPr b="0" sz="3200" spc="-1" strike="noStrike">
                <a:solidFill>
                  <a:srgbClr val="28458f"/>
                </a:solidFill>
                <a:latin typeface="Arial"/>
              </a:rPr>
              <a:t>A table produced with table</a:t>
            </a:r>
            <a:endParaRPr b="0" lang="en-US" sz="3200" spc="-1" strike="noStrike">
              <a:solidFill>
                <a:srgbClr val="28458f"/>
              </a:solidFill>
              <a:latin typeface="Arial"/>
            </a:endParaRPr>
          </a:p>
        </p:txBody>
      </p:sp>
      <p:pic>
        <p:nvPicPr>
          <p:cNvPr id="91" name="Sebesta_c10F06" descr=""/>
          <p:cNvPicPr/>
          <p:nvPr/>
        </p:nvPicPr>
        <p:blipFill>
          <a:blip r:embed="rId2"/>
          <a:stretch/>
        </p:blipFill>
        <p:spPr>
          <a:xfrm>
            <a:off x="838080" y="2209680"/>
            <a:ext cx="8074080" cy="2702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C3BFE7-2079-40A9-9D0E-122E14871365}" type="slidenum">
              <a:t>7</a:t>
            </a:fld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28458f"/>
                </a:solidFill>
                <a:latin typeface="Arial"/>
              </a:rPr>
              <a:t>FIGURE 10.7  </a:t>
            </a:r>
            <a:r>
              <a:rPr b="0" sz="3600" spc="-1" strike="noStrike">
                <a:solidFill>
                  <a:srgbClr val="28458f"/>
                </a:solidFill>
                <a:latin typeface="Arial"/>
              </a:rPr>
              <a:t>Survey results page</a:t>
            </a: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pic>
        <p:nvPicPr>
          <p:cNvPr id="93" name="Sebesta_c10F07" descr=""/>
          <p:cNvPicPr/>
          <p:nvPr/>
        </p:nvPicPr>
        <p:blipFill>
          <a:blip r:embed="rId2"/>
          <a:stretch/>
        </p:blipFill>
        <p:spPr>
          <a:xfrm>
            <a:off x="1281240" y="1320840"/>
            <a:ext cx="7151400" cy="500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6BDA1E-C8E8-4B75-B547-639B362B650F}" type="slidenum">
              <a:t>8</a:t>
            </a:fld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28458f"/>
                </a:solidFill>
                <a:latin typeface="Arial"/>
              </a:rPr>
              <a:t>FIGURE 10.8  </a:t>
            </a:r>
            <a:br>
              <a:rPr sz="3200"/>
            </a:br>
            <a:r>
              <a:rPr b="0" sz="3200" spc="-1" strike="noStrike">
                <a:solidFill>
                  <a:srgbClr val="28458f"/>
                </a:solidFill>
                <a:latin typeface="Arial"/>
              </a:rPr>
              <a:t>A document returned by day_cookie.pl</a:t>
            </a:r>
            <a:endParaRPr b="0" lang="en-US" sz="3200" spc="-1" strike="noStrike">
              <a:solidFill>
                <a:srgbClr val="28458f"/>
              </a:solidFill>
              <a:latin typeface="Arial"/>
            </a:endParaRPr>
          </a:p>
        </p:txBody>
      </p:sp>
      <p:pic>
        <p:nvPicPr>
          <p:cNvPr id="95" name="Sebesta_c10F08" descr=""/>
          <p:cNvPicPr/>
          <p:nvPr/>
        </p:nvPicPr>
        <p:blipFill>
          <a:blip r:embed="rId2"/>
          <a:stretch/>
        </p:blipFill>
        <p:spPr>
          <a:xfrm>
            <a:off x="851040" y="2819520"/>
            <a:ext cx="8035920" cy="990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01B587-84E7-4DF1-BA01-F0483BEC932C}" type="slidenum">
              <a:t>9</a:t>
            </a:fld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1T08:10:45Z</dcterms:created>
  <dc:creator>mark temelko</dc:creator>
  <dc:description/>
  <dc:language>en-US</dc:language>
  <cp:lastModifiedBy>mark temelko</cp:lastModifiedBy>
  <cp:lastPrinted>2001-07-20T01:09:35Z</cp:lastPrinted>
  <dcterms:modified xsi:type="dcterms:W3CDTF">2005-05-31T08:17:03Z</dcterms:modified>
  <cp:revision>5</cp:revision>
  <dc:subject/>
  <dc:title>Chapter 1</dc:title>
</cp:coreProperties>
</file>