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5783C-8E4C-486E-8E66-55FDBBDC77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1EFA3-84F8-4593-9BDE-623A9E0082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6B9B9-DDD5-442E-9A6F-DBD92FF7C3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974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06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442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974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06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2537B-9F76-414D-BFE0-C467B7E804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33120" y="219240"/>
            <a:ext cx="7867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BF131-F841-4DF0-9951-C55FC9AAF8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74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506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442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74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506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8EDC4-4A15-478F-9913-24B346525F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0FC0F-16A9-475E-AB76-266EF7488D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44D7B-93BA-4AC6-B329-56E2D3FE78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33120" y="219240"/>
            <a:ext cx="7867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6BEB6-8AE2-42FF-B55B-E8FCCDEA2E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79470-A87A-44A4-8BE1-920C91C02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E0B52-7359-4019-BD98-146229E91F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335E1-68C2-4612-9EF7-1CF578409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58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787320" y="6248520"/>
            <a:ext cx="612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8458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8458f"/>
                </a:solidFill>
                <a:latin typeface="Arial"/>
              </a:rPr>
              <a:t>5-</a:t>
            </a:r>
            <a:fld id="{046E1857-825B-4E04-9559-4B511309BDAF}" type="slidenum">
              <a:rPr b="0" lang="en-US" sz="1200" spc="-1" strike="noStrike">
                <a:solidFill>
                  <a:srgbClr val="28458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3760" y="762120"/>
            <a:ext cx="342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b1e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fb1e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3760" y="762120"/>
            <a:ext cx="342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b1e3"/>
                </a:solidFill>
                <a:latin typeface="Arial"/>
              </a:rPr>
              <a:t>Chapter 5</a:t>
            </a:r>
            <a:endParaRPr b="1" lang="en-US" sz="3600" spc="-1" strike="noStrike">
              <a:solidFill>
                <a:srgbClr val="5fb1e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333760" y="1904760"/>
            <a:ext cx="34290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Scrip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TML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5.5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pswd_chk.html after it has been filled out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7" name="Sebesta_c05f05" descr=""/>
          <p:cNvPicPr/>
          <p:nvPr/>
        </p:nvPicPr>
        <p:blipFill>
          <a:blip r:embed="rId2"/>
          <a:stretch/>
        </p:blipFill>
        <p:spPr>
          <a:xfrm>
            <a:off x="876240" y="2165400"/>
            <a:ext cx="7969320" cy="278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34B37-AAC3-4E08-9AD1-4C8FB7C35247}" type="slidenum">
              <a:t>10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5.6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pswd_chk.html after Submit has been pressed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9" name="Sebesta_c05f06" descr=""/>
          <p:cNvPicPr/>
          <p:nvPr/>
        </p:nvPicPr>
        <p:blipFill>
          <a:blip r:embed="rId2"/>
          <a:stretch/>
        </p:blipFill>
        <p:spPr>
          <a:xfrm>
            <a:off x="901800" y="2146320"/>
            <a:ext cx="7929360" cy="278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872CF-0EA4-464D-B1F4-D51C58D3A833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28458f"/>
                </a:solidFill>
                <a:latin typeface="Arial"/>
              </a:rPr>
              <a:t>FIGURE 5.7  </a:t>
            </a:r>
            <a:r>
              <a:rPr b="0" sz="2800" spc="-1" strike="noStrike">
                <a:solidFill>
                  <a:srgbClr val="28458f"/>
                </a:solidFill>
                <a:latin typeface="Arial"/>
              </a:rPr>
              <a:t>Display of validator.html, </a:t>
            </a:r>
            <a:br>
              <a:rPr sz="2800"/>
            </a:br>
            <a:r>
              <a:rPr b="0" sz="2800" spc="-1" strike="noStrike">
                <a:solidFill>
                  <a:srgbClr val="28458f"/>
                </a:solidFill>
                <a:latin typeface="Arial"/>
              </a:rPr>
              <a:t>with an invalid phone number, while the phone text field has focus</a:t>
            </a:r>
            <a:endParaRPr b="0" lang="en-US" sz="28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01" name="Sebesta_c05f07" descr=""/>
          <p:cNvPicPr/>
          <p:nvPr/>
        </p:nvPicPr>
        <p:blipFill>
          <a:blip r:embed="rId2"/>
          <a:stretch/>
        </p:blipFill>
        <p:spPr>
          <a:xfrm>
            <a:off x="914400" y="2378160"/>
            <a:ext cx="7899480" cy="257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F0EFF-4383-4399-9C14-3609B51A8F73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28458f"/>
                </a:solidFill>
                <a:latin typeface="Arial"/>
              </a:rPr>
              <a:t>FIGURE 5.8  </a:t>
            </a:r>
            <a:r>
              <a:rPr b="0" sz="2800" spc="-1" strike="noStrike">
                <a:solidFill>
                  <a:srgbClr val="28458f"/>
                </a:solidFill>
                <a:latin typeface="Arial"/>
              </a:rPr>
              <a:t>The message created by entering an invalid telephone number in validator.html</a:t>
            </a:r>
            <a:endParaRPr b="0" lang="en-US" sz="28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03" name="Sebesta_c05f08" descr=""/>
          <p:cNvPicPr/>
          <p:nvPr/>
        </p:nvPicPr>
        <p:blipFill>
          <a:blip r:embed="rId2"/>
          <a:stretch/>
        </p:blipFill>
        <p:spPr>
          <a:xfrm>
            <a:off x="1193760" y="1650960"/>
            <a:ext cx="7315200" cy="451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874FA-E8DA-4B23-B99B-0BC5260DF205}" type="slidenum">
              <a:t>13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58f"/>
                </a:solidFill>
                <a:latin typeface="Arial"/>
              </a:rPr>
              <a:t>Table, page 217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05" name="Sebesta_c05T_p217" descr=""/>
          <p:cNvPicPr/>
          <p:nvPr/>
        </p:nvPicPr>
        <p:blipFill>
          <a:blip r:embed="rId2"/>
          <a:stretch/>
        </p:blipFill>
        <p:spPr>
          <a:xfrm>
            <a:off x="927000" y="2654280"/>
            <a:ext cx="7863120" cy="145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4137B-B7BE-452C-93F9-B36F9E29E37D}" type="slidenum">
              <a:t>14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5.9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The navigator properties appName and appVersion for Netscape 7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07" name="Sebesta_c05f09" descr=""/>
          <p:cNvPicPr/>
          <p:nvPr/>
        </p:nvPicPr>
        <p:blipFill>
          <a:blip r:embed="rId2"/>
          <a:stretch/>
        </p:blipFill>
        <p:spPr>
          <a:xfrm>
            <a:off x="888840" y="2197080"/>
            <a:ext cx="7956720" cy="26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05E8A-CBA8-4F4C-91B6-D9A908E7CCBC}" type="slidenum">
              <a:t>15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986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28458f"/>
                </a:solidFill>
                <a:latin typeface="Arial"/>
              </a:rPr>
              <a:t>FIGURE 5.10  </a:t>
            </a:r>
            <a:r>
              <a:rPr b="0" sz="2800" spc="-1" strike="noStrike">
                <a:solidFill>
                  <a:srgbClr val="28458f"/>
                </a:solidFill>
                <a:latin typeface="Arial"/>
              </a:rPr>
              <a:t>The navigator properties appName and appVersion for Internet Explorer 6</a:t>
            </a:r>
            <a:endParaRPr b="0" lang="en-US" sz="28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09" name="Sebesta_c05f10" descr=""/>
          <p:cNvPicPr/>
          <p:nvPr/>
        </p:nvPicPr>
        <p:blipFill>
          <a:blip r:embed="rId2"/>
          <a:stretch/>
        </p:blipFill>
        <p:spPr>
          <a:xfrm>
            <a:off x="876240" y="2527200"/>
            <a:ext cx="7978680" cy="198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28B6D-DB35-4FA8-B45E-B866860CD760}" type="slidenum">
              <a:t>16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5.1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The DOM structure for a simple document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1" name="Sebesta_c05f01" descr=""/>
          <p:cNvPicPr/>
          <p:nvPr/>
        </p:nvPicPr>
        <p:blipFill>
          <a:blip r:embed="rId2"/>
          <a:stretch/>
        </p:blipFill>
        <p:spPr>
          <a:xfrm>
            <a:off x="851040" y="1844640"/>
            <a:ext cx="8013600" cy="364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98482-79A5-4C03-A371-81C969E51ECE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TABLE 5.1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Events and Their Tag Attributes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3" name="Sebesta_c05T01_1of2" descr=""/>
          <p:cNvPicPr/>
          <p:nvPr/>
        </p:nvPicPr>
        <p:blipFill>
          <a:blip r:embed="rId2"/>
          <a:stretch/>
        </p:blipFill>
        <p:spPr>
          <a:xfrm>
            <a:off x="901800" y="1670040"/>
            <a:ext cx="7953120" cy="427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6BBD2-15C7-40BF-8EE1-D06CE8E6019A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TABLE 5.1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 Events and Their Tag Attributes (Continued)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5" name="Sebesta_c05T01_2of2" descr=""/>
          <p:cNvPicPr/>
          <p:nvPr/>
        </p:nvPicPr>
        <p:blipFill>
          <a:blip r:embed="rId2"/>
          <a:stretch/>
        </p:blipFill>
        <p:spPr>
          <a:xfrm>
            <a:off x="863640" y="2276640"/>
            <a:ext cx="8020080" cy="260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177A9-5E75-4C96-B1CA-5EB6E791F03F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TABLE 5.2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Event Attributes and Their Tags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7" name="Sebesta_c05T02_1of2" descr=""/>
          <p:cNvPicPr/>
          <p:nvPr/>
        </p:nvPicPr>
        <p:blipFill>
          <a:blip r:embed="rId2"/>
          <a:stretch/>
        </p:blipFill>
        <p:spPr>
          <a:xfrm>
            <a:off x="838080" y="2336760"/>
            <a:ext cx="8037720" cy="240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923F0-B81B-41AC-B50B-4C19AD74D8BB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TABLE 5.2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 Event Attributes and Their Tags (Continued)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9" name="Sebesta_c05T02_2of2" descr=""/>
          <p:cNvPicPr/>
          <p:nvPr/>
        </p:nvPicPr>
        <p:blipFill>
          <a:blip r:embed="rId2"/>
          <a:stretch/>
        </p:blipFill>
        <p:spPr>
          <a:xfrm>
            <a:off x="1940040" y="1476360"/>
            <a:ext cx="5857920" cy="491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04923-C80E-4E95-AD5F-BCEF2692F0EE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8458f"/>
                </a:solidFill>
                <a:latin typeface="Arial"/>
              </a:rPr>
              <a:t>FIGURE 5.2  </a:t>
            </a:r>
            <a:r>
              <a:rPr b="0" sz="3600" spc="-1" strike="noStrike">
                <a:solidFill>
                  <a:srgbClr val="28458f"/>
                </a:solidFill>
                <a:latin typeface="Arial"/>
              </a:rPr>
              <a:t>Display of load.html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1" name="Sebesta_c05f02" descr=""/>
          <p:cNvPicPr/>
          <p:nvPr/>
        </p:nvPicPr>
        <p:blipFill>
          <a:blip r:embed="rId2"/>
          <a:stretch/>
        </p:blipFill>
        <p:spPr>
          <a:xfrm>
            <a:off x="950760" y="2158920"/>
            <a:ext cx="7824960" cy="27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53073-CF56-4143-9C9A-6CD12F8FE6D1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5.3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radio_click.html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3" name="Sebesta_c05f03" descr=""/>
          <p:cNvPicPr/>
          <p:nvPr/>
        </p:nvPicPr>
        <p:blipFill>
          <a:blip r:embed="rId2"/>
          <a:stretch/>
        </p:blipFill>
        <p:spPr>
          <a:xfrm>
            <a:off x="838080" y="2362320"/>
            <a:ext cx="8051760" cy="235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C19D9-A3D0-4C25-B3DE-6B5CBA3F8E9F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5.4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The result of pressing the Model 182 button in radio_click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5" name="Sebesta_c05f04" descr=""/>
          <p:cNvPicPr/>
          <p:nvPr/>
        </p:nvPicPr>
        <p:blipFill>
          <a:blip r:embed="rId2"/>
          <a:stretch/>
        </p:blipFill>
        <p:spPr>
          <a:xfrm>
            <a:off x="825480" y="2362320"/>
            <a:ext cx="8136000" cy="239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15493-0EF9-4A3C-8E02-E0732798A565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1T07:37:14Z</dcterms:created>
  <dc:creator>mark temelko</dc:creator>
  <dc:description/>
  <dc:language>en-US</dc:language>
  <cp:lastModifiedBy>mark temelko</cp:lastModifiedBy>
  <cp:lastPrinted>2001-07-20T01:09:35Z</cp:lastPrinted>
  <dcterms:modified xsi:type="dcterms:W3CDTF">2005-05-31T07:46:59Z</dcterms:modified>
  <cp:revision>5</cp:revision>
  <dc:subject/>
  <dc:title>Chapter 1</dc:title>
</cp:coreProperties>
</file>