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0D0B3-1299-4487-9514-3F9A05E20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2392-1CFD-4AA5-99EF-C9818A7E8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E621-AAB5-4F68-9E6D-4F688D95A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8EA4-766A-451B-8664-B4CA96480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9566-BA32-4B9B-80EE-09CE8DE91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74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0680" y="17809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442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74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0680" y="4034520"/>
            <a:ext cx="252648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2266-EE27-41AE-BAD2-9F2578928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F1FC-19A5-4211-AE69-C621DC707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C3C5-AC48-472D-9FBB-A19A628E1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3120" y="219240"/>
            <a:ext cx="7867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D606-E0A3-49FD-9C4E-AA8597DCB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97DD-7AE0-48A1-8F88-1BD2B33DA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120" y="40345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CB5F-0F09-44DE-875F-A90B823FD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428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120" y="1780920"/>
            <a:ext cx="382896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44280" y="4034520"/>
            <a:ext cx="7846920" cy="20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6ACF-052B-46DF-BAA2-9F31D67D4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58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87320" y="6248520"/>
            <a:ext cx="612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458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458f"/>
                </a:solidFill>
                <a:latin typeface="Arial"/>
              </a:rPr>
              <a:t>1-</a:t>
            </a:r>
            <a:fld id="{F78CBC43-0A5D-48A0-A756-DDB05EBD1B97}" type="slidenum">
              <a:rPr b="0" lang="en-US" sz="1200" spc="-1" strike="noStrike">
                <a:solidFill>
                  <a:srgbClr val="2845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44280" y="1780920"/>
            <a:ext cx="784692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b1e3"/>
                </a:solidFill>
                <a:latin typeface="Arial"/>
              </a:rPr>
              <a:t>Chapter 1</a:t>
            </a:r>
            <a:endParaRPr b="1" lang="en-US" sz="3600" spc="-1" strike="noStrike">
              <a:solidFill>
                <a:srgbClr val="5fb1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3760" y="19047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FIGURE 1.1 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Domain name conversion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6920" y="1990800"/>
            <a:ext cx="8142480" cy="280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D18A-85FA-4FD7-9CF5-5FFBABABBF0C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1.1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The Most Commonly Used Apache Directiv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3" name="Sebesta_c01T01" descr=""/>
          <p:cNvPicPr/>
          <p:nvPr/>
        </p:nvPicPr>
        <p:blipFill>
          <a:blip r:embed="rId2"/>
          <a:stretch/>
        </p:blipFill>
        <p:spPr>
          <a:xfrm>
            <a:off x="890640" y="1981080"/>
            <a:ext cx="7999200" cy="30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612A-A619-4957-BE78-6675FDF18A24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8458f"/>
                </a:solidFill>
                <a:latin typeface="Arial"/>
              </a:rPr>
              <a:t>TABLE 1.2 </a:t>
            </a:r>
            <a:r>
              <a:rPr b="0" sz="3600" spc="-1" strike="noStrike">
                <a:solidFill>
                  <a:srgbClr val="28458f"/>
                </a:solidFill>
                <a:latin typeface="Arial"/>
              </a:rPr>
              <a:t> HTTP Request Methods</a:t>
            </a:r>
            <a:endParaRPr b="0" lang="en-US" sz="36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5" name="Sebesta_c01T02" descr=""/>
          <p:cNvPicPr/>
          <p:nvPr/>
        </p:nvPicPr>
        <p:blipFill>
          <a:blip r:embed="rId2"/>
          <a:stretch/>
        </p:blipFill>
        <p:spPr>
          <a:xfrm>
            <a:off x="838080" y="2103480"/>
            <a:ext cx="8109000" cy="26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2D48-E511-439D-B017-ED60D8FD1C6E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3120" y="219240"/>
            <a:ext cx="786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8458f"/>
                </a:solidFill>
                <a:latin typeface="Arial"/>
              </a:rPr>
              <a:t>TABLE 1.3 </a:t>
            </a:r>
            <a:r>
              <a:rPr b="0" sz="3200" spc="-1" strike="noStrike">
                <a:solidFill>
                  <a:srgbClr val="28458f"/>
                </a:solidFill>
                <a:latin typeface="Arial"/>
              </a:rPr>
              <a:t> </a:t>
            </a:r>
            <a:br>
              <a:rPr sz="3200"/>
            </a:br>
            <a:r>
              <a:rPr b="0" sz="3200" spc="-1" strike="noStrike">
                <a:solidFill>
                  <a:srgbClr val="28458f"/>
                </a:solidFill>
                <a:latin typeface="Arial"/>
              </a:rPr>
              <a:t>First Digits of HTTP Status Codes</a:t>
            </a:r>
            <a:endParaRPr b="0" lang="en-US" sz="3200" spc="-1" strike="noStrike">
              <a:solidFill>
                <a:srgbClr val="28458f"/>
              </a:solidFill>
              <a:latin typeface="Arial"/>
            </a:endParaRPr>
          </a:p>
        </p:txBody>
      </p:sp>
      <p:pic>
        <p:nvPicPr>
          <p:cNvPr id="87" name="Sebesta_c01T03" descr=""/>
          <p:cNvPicPr/>
          <p:nvPr/>
        </p:nvPicPr>
        <p:blipFill>
          <a:blip r:embed="rId2"/>
          <a:stretch/>
        </p:blipFill>
        <p:spPr>
          <a:xfrm>
            <a:off x="838080" y="2109960"/>
            <a:ext cx="8091720" cy="261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51AE-D2C7-4DD9-8D32-1E43740BD7FE}" type="slidenum">
              <a:t>5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6:08:12Z</dcterms:created>
  <dc:creator>mark temelko</dc:creator>
  <dc:description/>
  <dc:language>en-US</dc:language>
  <cp:lastModifiedBy>mark temelko</cp:lastModifiedBy>
  <cp:lastPrinted>2001-07-20T01:09:35Z</cp:lastPrinted>
  <dcterms:modified xsi:type="dcterms:W3CDTF">2005-05-31T06:20:18Z</dcterms:modified>
  <cp:revision>6</cp:revision>
  <dc:subject/>
  <dc:title>Chapter 1</dc:title>
</cp:coreProperties>
</file>