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5810-38FE-4C6D-AC06-776462620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2ABA-CC80-4E1E-B4A4-3DE8AF04D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A3B7-E5D1-45BC-89A9-2B2B62542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0E9F-9DB3-450A-8DE0-19CFB9269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6EBD-0C8D-483A-9987-4CFD8707E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94F8-463D-44D1-AEAB-3A1BE96E5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3A64-B0D6-4106-B1D2-701DEDBDC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2698-E0DF-42A6-9226-2BCAFC319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8DA8-C7F1-4F8C-996F-09BBAEEB4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0894-5306-4A0D-A809-A3A5FE09F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4133-4CF1-410D-81F8-6CAE2638F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04B0-EFB2-4C63-A4B1-CC6FCDD2B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14-</a:t>
            </a:r>
            <a:fld id="{BAAC506A-0962-426E-B8DB-DF744D643556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14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ccess through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4.9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the return document from access_cars.php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14F09" descr=""/>
          <p:cNvPicPr/>
          <p:nvPr/>
        </p:nvPicPr>
        <p:blipFill>
          <a:blip r:embed="rId2"/>
          <a:stretch/>
        </p:blipFill>
        <p:spPr>
          <a:xfrm>
            <a:off x="838080" y="2413080"/>
            <a:ext cx="8091720" cy="225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F192-CD73-4128-A49B-51E965983BF2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14.10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Using JDBC directly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9" name="Sebesta_c14F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8055000" cy="235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3A29-7839-4241-8A0A-BEC0E266E8C7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4.11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Using JDBC through a midtier computer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1" name="Sebesta_c14F11" descr=""/>
          <p:cNvPicPr/>
          <p:nvPr/>
        </p:nvPicPr>
        <p:blipFill>
          <a:blip r:embed="rId2"/>
          <a:stretch/>
        </p:blipFill>
        <p:spPr>
          <a:xfrm>
            <a:off x="863640" y="2679840"/>
            <a:ext cx="7993080" cy="164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440C-811F-4275-BCDD-BAB1F9D71727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4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Common SQL Data Types and Their Java Counterpart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3" name="Sebesta_c14T01" descr=""/>
          <p:cNvPicPr/>
          <p:nvPr/>
        </p:nvPicPr>
        <p:blipFill>
          <a:blip r:embed="rId2"/>
          <a:stretch/>
        </p:blipFill>
        <p:spPr>
          <a:xfrm>
            <a:off x="863640" y="1841400"/>
            <a:ext cx="7996320" cy="38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40F5-0810-4CAB-82C9-01755134339D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4.12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the results of JDBCServle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5" name="Sebesta_c14F12" descr=""/>
          <p:cNvPicPr/>
          <p:nvPr/>
        </p:nvPicPr>
        <p:blipFill>
          <a:blip r:embed="rId2"/>
          <a:stretch/>
        </p:blipFill>
        <p:spPr>
          <a:xfrm>
            <a:off x="863640" y="2019240"/>
            <a:ext cx="8007480" cy="30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DCA9-E9E1-447F-B61D-2BF20A74877E}" type="slidenum">
              <a:t>14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4.1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logical data model for a database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14F01" descr=""/>
          <p:cNvPicPr/>
          <p:nvPr/>
        </p:nvPicPr>
        <p:blipFill>
          <a:blip r:embed="rId2"/>
          <a:stretch/>
        </p:blipFill>
        <p:spPr>
          <a:xfrm>
            <a:off x="927000" y="1828800"/>
            <a:ext cx="786600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3D7D-134A-4898-845C-F69BD25C6583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14.2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Equipment table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14f02" descr=""/>
          <p:cNvPicPr/>
          <p:nvPr/>
        </p:nvPicPr>
        <p:blipFill>
          <a:blip r:embed="rId2"/>
          <a:stretch/>
        </p:blipFill>
        <p:spPr>
          <a:xfrm>
            <a:off x="1979640" y="1444680"/>
            <a:ext cx="5767200" cy="48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E1CD-3BA4-4F44-9F75-DC9E7EB53F40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14.3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Corvettes table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14f03" descr=""/>
          <p:cNvPicPr/>
          <p:nvPr/>
        </p:nvPicPr>
        <p:blipFill>
          <a:blip r:embed="rId2"/>
          <a:stretch/>
        </p:blipFill>
        <p:spPr>
          <a:xfrm>
            <a:off x="2108160" y="1314360"/>
            <a:ext cx="549900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94F9-0AA7-45B2-9177-69B45C507D0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14.4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States table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14f04" descr=""/>
          <p:cNvPicPr/>
          <p:nvPr/>
        </p:nvPicPr>
        <p:blipFill>
          <a:blip r:embed="rId2"/>
          <a:stretch/>
        </p:blipFill>
        <p:spPr>
          <a:xfrm>
            <a:off x="3137040" y="1206360"/>
            <a:ext cx="3423960" cy="522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414A-4C48-4A4E-9186-44AC9A8EF77D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19000" y="219240"/>
            <a:ext cx="4044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28458f"/>
                </a:solidFill>
                <a:latin typeface="Arial"/>
              </a:rPr>
              <a:t>FIGURE 14.5  </a:t>
            </a:r>
            <a:br>
              <a:rPr sz="2600"/>
            </a:br>
            <a:r>
              <a:rPr b="0" sz="2600" spc="-1" strike="noStrike">
                <a:solidFill>
                  <a:srgbClr val="28458f"/>
                </a:solidFill>
                <a:latin typeface="Arial"/>
              </a:rPr>
              <a:t>The Corvettes_Equipment cross-reference table</a:t>
            </a:r>
            <a:endParaRPr b="0" lang="en-US" sz="2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14f05" descr=""/>
          <p:cNvPicPr/>
          <p:nvPr/>
        </p:nvPicPr>
        <p:blipFill>
          <a:blip r:embed="rId2"/>
          <a:stretch/>
        </p:blipFill>
        <p:spPr>
          <a:xfrm>
            <a:off x="5029200" y="111240"/>
            <a:ext cx="3844800" cy="630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DC5F-8A3B-429A-980B-EA4034F7D0E7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4.6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ree-tier architecture of a Web site supported by databas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14F06" descr=""/>
          <p:cNvPicPr/>
          <p:nvPr/>
        </p:nvPicPr>
        <p:blipFill>
          <a:blip r:embed="rId2"/>
          <a:stretch/>
        </p:blipFill>
        <p:spPr>
          <a:xfrm>
            <a:off x="851040" y="2668680"/>
            <a:ext cx="8046720" cy="167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F6B9-EDE3-4ACC-840D-EACAC53712C9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4.7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Common Database Access Architecture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14F07" descr=""/>
          <p:cNvPicPr/>
          <p:nvPr/>
        </p:nvPicPr>
        <p:blipFill>
          <a:blip r:embed="rId2"/>
          <a:stretch/>
        </p:blipFill>
        <p:spPr>
          <a:xfrm>
            <a:off x="851040" y="2133720"/>
            <a:ext cx="8028000" cy="285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E79D-ACF1-4470-B93C-D17BD8C79EFD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4.8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the output of access_cars.p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14F08" descr=""/>
          <p:cNvPicPr/>
          <p:nvPr/>
        </p:nvPicPr>
        <p:blipFill>
          <a:blip r:embed="rId2"/>
          <a:stretch/>
        </p:blipFill>
        <p:spPr>
          <a:xfrm>
            <a:off x="876240" y="2235240"/>
            <a:ext cx="7978680" cy="25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4879-C0CD-42A3-B041-8A04BF84A780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8:44:33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8:54:45Z</dcterms:modified>
  <cp:revision>10</cp:revision>
  <dc:subject/>
  <dc:title>Chapter 1</dc:title>
</cp:coreProperties>
</file>