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2E13-FE5C-4B47-8AD8-BDDBD4E54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74CE-3C6E-472B-824F-5217C5811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32F8-CF01-4283-9A8E-E83BDE68F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FF17-7BCF-446F-B2B6-A0ABBD559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FA92-DF6C-4C14-975E-2093A33E2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8CD7-02E9-4086-BE7F-101280F33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0819-DDD3-4690-AE4E-7E933EBD0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C3D5-686A-4007-A8A1-4B49D2175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9D13-0E92-4D83-92EC-A9DDA1613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28C5-A752-4955-8AA0-A8A8234D2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FE17-3436-4469-9AF6-9325F5E16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B335-9297-4653-A9CC-DB112B0D5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8-</a:t>
            </a:r>
            <a:fld id="{13A3A6C9-5FAF-41C5-A4E6-75AADB98A932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8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8.7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Using the for-each element for lists of element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8f07" descr=""/>
          <p:cNvPicPr/>
          <p:nvPr/>
        </p:nvPicPr>
        <p:blipFill>
          <a:blip r:embed="rId2"/>
          <a:stretch/>
        </p:blipFill>
        <p:spPr>
          <a:xfrm>
            <a:off x="1282680" y="1539720"/>
            <a:ext cx="716112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1402-FAEC-4834-BDB8-CAAADA42801C}" type="slidenum">
              <a:t>10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8.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example of the document tree structure for an element definition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8f01" descr=""/>
          <p:cNvPicPr/>
          <p:nvPr/>
        </p:nvPicPr>
        <p:blipFill>
          <a:blip r:embed="rId2"/>
          <a:stretch/>
        </p:blipFill>
        <p:spPr>
          <a:xfrm>
            <a:off x="863640" y="2038320"/>
            <a:ext cx="8010360" cy="32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A58B-BCF4-41D5-ACC8-19CEB8F37EAF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8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Child Element Specification Modifier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8T01" descr=""/>
          <p:cNvPicPr/>
          <p:nvPr/>
        </p:nvPicPr>
        <p:blipFill>
          <a:blip r:embed="rId2"/>
          <a:stretch/>
        </p:blipFill>
        <p:spPr>
          <a:xfrm>
            <a:off x="863640" y="2641680"/>
            <a:ext cx="8021520" cy="17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59C0-C2A1-4929-8FF6-85CB59ED331E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8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Possible Default Values for Attribut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8T02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8058240" cy="30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A413-E447-44BB-9907-978E837374C1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2838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8.2  </a:t>
            </a:r>
            <a:br>
              <a:rPr sz="2800"/>
            </a:br>
            <a:r>
              <a:rPr b="0" sz="2800" spc="-1" strike="noStrike">
                <a:solidFill>
                  <a:srgbClr val="28458f"/>
                </a:solidFill>
                <a:latin typeface="Arial"/>
              </a:rPr>
              <a:t>A display of an XML document with the Mozilla Firefox default style sheet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8f02" descr=""/>
          <p:cNvPicPr/>
          <p:nvPr/>
        </p:nvPicPr>
        <p:blipFill>
          <a:blip r:embed="rId2"/>
          <a:stretch/>
        </p:blipFill>
        <p:spPr>
          <a:xfrm>
            <a:off x="3886200" y="60480"/>
            <a:ext cx="5105520" cy="64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D9CF-99B6-4E23-9867-DCBD39C06206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8.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document of Figure 8.2</a:t>
            </a:r>
            <a:r>
              <a:rPr b="1" sz="3200" spc="-1" strike="noStrike">
                <a:solidFill>
                  <a:srgbClr val="28458f"/>
                </a:solidFill>
                <a:latin typeface="Arial"/>
              </a:rPr>
              <a:t>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with the first ad element elided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8f03" descr=""/>
          <p:cNvPicPr/>
          <p:nvPr/>
        </p:nvPicPr>
        <p:blipFill>
          <a:blip r:embed="rId2"/>
          <a:stretch/>
        </p:blipFill>
        <p:spPr>
          <a:xfrm>
            <a:off x="1905120" y="1392120"/>
            <a:ext cx="5908680" cy="50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56D4-3640-42B3-8DC9-BC872DAD4F61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8.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result of using a CSS style sheet to format planes.x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8f04" descr=""/>
          <p:cNvPicPr/>
          <p:nvPr/>
        </p:nvPicPr>
        <p:blipFill>
          <a:blip r:embed="rId2"/>
          <a:stretch/>
        </p:blipFill>
        <p:spPr>
          <a:xfrm>
            <a:off x="939960" y="2117880"/>
            <a:ext cx="7848360" cy="29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A711-D16E-4AC8-8FA8-1F3E763AA9E6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8.5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XSLT Processing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8f05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97248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C9D1-9A55-485B-8B38-A688371E2032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8.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output document from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XSLT processor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8f06" descr=""/>
          <p:cNvPicPr/>
          <p:nvPr/>
        </p:nvPicPr>
        <p:blipFill>
          <a:blip r:embed="rId2"/>
          <a:stretch/>
        </p:blipFill>
        <p:spPr>
          <a:xfrm>
            <a:off x="863640" y="2489040"/>
            <a:ext cx="8002440" cy="19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B9A6-89A1-4A7A-80F4-0F8E0185197E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8:01:35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07:10Z</dcterms:modified>
  <cp:revision>3</cp:revision>
  <dc:subject/>
  <dc:title>Chapter 1</dc:title>
</cp:coreProperties>
</file>