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D914-579D-482A-8063-EEF69774C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A93C1-3227-4005-BAED-CFD3207B0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C96D-FD99-4BC0-8F30-EBCBC30FC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8E32-0C55-42F4-A6B8-79526578D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48CAB-C979-4E60-958E-75A6B2935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7A00-8D04-4B1F-A22E-E45C6B0CE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1283-F6C2-457C-8158-5C5CCA6ED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87B9-F0EE-4C34-A32B-DC55F28FE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149C-E0DE-4368-B2F7-50D5FF7A1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1DC6E-D022-4F19-B930-5BEAA18EA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B847-2598-4800-A449-8E32ED97B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C972-3EEC-43AF-B601-2FF633B40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8732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458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458f"/>
                </a:solidFill>
                <a:latin typeface="Arial"/>
              </a:rPr>
              <a:t>4-</a:t>
            </a:r>
            <a:fld id="{FE7DEBDB-BF16-44C1-9CE7-B101572E37A4}" type="slidenum">
              <a:rPr b="0" lang="en-US" sz="1200" spc="-1" strike="noStrike">
                <a:solidFill>
                  <a:srgbClr val="2845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hapter 4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3760" y="19047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Java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4.3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An example of the output of alert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7" name="Sebesta_c04f03" descr=""/>
          <p:cNvPicPr/>
          <p:nvPr/>
        </p:nvPicPr>
        <p:blipFill>
          <a:blip r:embed="rId2"/>
          <a:stretch/>
        </p:blipFill>
        <p:spPr>
          <a:xfrm>
            <a:off x="825480" y="2438280"/>
            <a:ext cx="8072280" cy="189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44CD-78EB-4CD0-B868-DD039549BB53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4.4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An example of the output of confirm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9" name="Sebesta_c04f04" descr=""/>
          <p:cNvPicPr/>
          <p:nvPr/>
        </p:nvPicPr>
        <p:blipFill>
          <a:blip r:embed="rId2"/>
          <a:stretch/>
        </p:blipFill>
        <p:spPr>
          <a:xfrm>
            <a:off x="1206360" y="1933560"/>
            <a:ext cx="7315200" cy="34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78A3-884E-4FC9-A93B-8F3AF7840A16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4.5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An example of the output of prompt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1" name="Sebesta_c04f05" descr=""/>
          <p:cNvPicPr/>
          <p:nvPr/>
        </p:nvPicPr>
        <p:blipFill>
          <a:blip r:embed="rId2"/>
          <a:stretch/>
        </p:blipFill>
        <p:spPr>
          <a:xfrm>
            <a:off x="838080" y="2425680"/>
            <a:ext cx="8058240" cy="220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69E7-A669-4BF0-8514-799868ADE37D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TABLE 4.6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 Relational Operator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3" name="Sebesta_c04T06" descr=""/>
          <p:cNvPicPr/>
          <p:nvPr/>
        </p:nvPicPr>
        <p:blipFill>
          <a:blip r:embed="rId2"/>
          <a:stretch/>
        </p:blipFill>
        <p:spPr>
          <a:xfrm>
            <a:off x="876240" y="1701720"/>
            <a:ext cx="7970760" cy="386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E7B8-66FD-4D14-A8ED-345370B8756A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4.7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Operator Precedence and Associativity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5" name="Sebesta_c04T07" descr=""/>
          <p:cNvPicPr/>
          <p:nvPr/>
        </p:nvPicPr>
        <p:blipFill>
          <a:blip r:embed="rId2"/>
          <a:stretch/>
        </p:blipFill>
        <p:spPr>
          <a:xfrm>
            <a:off x="1006560" y="1600200"/>
            <a:ext cx="7731000" cy="44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7EFF-0FF8-4EB7-A2E0-AB0ECD05C3D3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4.6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Dialog box from borders2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7" name="Sebesta_c04f06" descr=""/>
          <p:cNvPicPr/>
          <p:nvPr/>
        </p:nvPicPr>
        <p:blipFill>
          <a:blip r:embed="rId2"/>
          <a:stretch/>
        </p:blipFill>
        <p:spPr>
          <a:xfrm>
            <a:off x="825480" y="2438280"/>
            <a:ext cx="8137440" cy="226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F958-603A-49A7-84B4-744732B53974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4.7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borders2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9" name="Sebesta_c04f07" descr=""/>
          <p:cNvPicPr/>
          <p:nvPr/>
        </p:nvPicPr>
        <p:blipFill>
          <a:blip r:embed="rId2"/>
          <a:stretch/>
        </p:blipFill>
        <p:spPr>
          <a:xfrm>
            <a:off x="888840" y="2108160"/>
            <a:ext cx="798372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A140-80A1-4C2A-8F80-201DD0E0C9C0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4.8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date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11" name="Sebesta_c04f08" descr=""/>
          <p:cNvPicPr/>
          <p:nvPr/>
        </p:nvPicPr>
        <p:blipFill>
          <a:blip r:embed="rId2"/>
          <a:stretch/>
        </p:blipFill>
        <p:spPr>
          <a:xfrm>
            <a:off x="863640" y="1959120"/>
            <a:ext cx="7991280" cy="329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D547-C947-4C1A-9EC7-777465BD75FE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4.9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nested_arrays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13" name="Sebesta_c04f09" descr=""/>
          <p:cNvPicPr/>
          <p:nvPr/>
        </p:nvPicPr>
        <p:blipFill>
          <a:blip r:embed="rId2"/>
          <a:stretch/>
        </p:blipFill>
        <p:spPr>
          <a:xfrm>
            <a:off x="878040" y="2743200"/>
            <a:ext cx="8037360" cy="14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13E6-092C-40E1-98AC-98C74C7A6986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4.10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parameters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15" name="Sebesta_c04f10" descr=""/>
          <p:cNvPicPr/>
          <p:nvPr/>
        </p:nvPicPr>
        <p:blipFill>
          <a:blip r:embed="rId2"/>
          <a:stretch/>
        </p:blipFill>
        <p:spPr>
          <a:xfrm>
            <a:off x="851040" y="1600200"/>
            <a:ext cx="8030880" cy="41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ADA1-7E11-4517-9B98-A3A8F8047FE4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4.1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Reserved Words of JavaScript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1" name="Sebesta_c04T01" descr=""/>
          <p:cNvPicPr/>
          <p:nvPr/>
        </p:nvPicPr>
        <p:blipFill>
          <a:blip r:embed="rId2"/>
          <a:stretch/>
        </p:blipFill>
        <p:spPr>
          <a:xfrm>
            <a:off x="876240" y="2476440"/>
            <a:ext cx="7977240" cy="214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21EA-8EF7-484F-BC31-11313F44F68B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4.11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medians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17" name="Sebesta_c04f11" descr=""/>
          <p:cNvPicPr/>
          <p:nvPr/>
        </p:nvPicPr>
        <p:blipFill>
          <a:blip r:embed="rId2"/>
          <a:stretch/>
        </p:blipFill>
        <p:spPr>
          <a:xfrm>
            <a:off x="838080" y="2908440"/>
            <a:ext cx="8143920" cy="112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8A2B-40C7-4EA3-9432-1925DD1E85E9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4.8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Predefined Character Classe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19" name="Sebesta_c04T08" descr=""/>
          <p:cNvPicPr/>
          <p:nvPr/>
        </p:nvPicPr>
        <p:blipFill>
          <a:blip r:embed="rId2"/>
          <a:stretch/>
        </p:blipFill>
        <p:spPr>
          <a:xfrm>
            <a:off x="863640" y="2057400"/>
            <a:ext cx="8058240" cy="30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8FFA8-6741-4C50-B3E1-80A8DCF0EDFE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4.12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forms_check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21" name="Sebesta_c04f12" descr=""/>
          <p:cNvPicPr/>
          <p:nvPr/>
        </p:nvPicPr>
        <p:blipFill>
          <a:blip r:embed="rId2"/>
          <a:stretch/>
        </p:blipFill>
        <p:spPr>
          <a:xfrm>
            <a:off x="851040" y="2806560"/>
            <a:ext cx="8053200" cy="138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5EED-D80F-415B-93A6-8055708BB9A3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4.13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debugdemo.html with Internet Explorer 6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23" name="Sebesta_c04f13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5968800" cy="43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7F4A-E7FF-4545-B3B9-83DD6884DB4D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4.14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the Netscape 7 JavaScript Console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25" name="Sebesta_c04f14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8043840" cy="266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4AC4-4E2C-48AC-8847-B1F05AB2F728}" type="slidenum">
              <a:t>24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4.1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Primitives and object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3" name="Sebesta_c04f01" descr=""/>
          <p:cNvPicPr/>
          <p:nvPr/>
        </p:nvPicPr>
        <p:blipFill>
          <a:blip r:embed="rId2"/>
          <a:stretch/>
        </p:blipFill>
        <p:spPr>
          <a:xfrm>
            <a:off x="914400" y="1801800"/>
            <a:ext cx="7889760" cy="383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5731-5991-42F2-8C26-06A0AAE7B8C2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4.2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Precedence and Associativity of the Numeric Operator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5" name="Sebesta_c04T02" descr=""/>
          <p:cNvPicPr/>
          <p:nvPr/>
        </p:nvPicPr>
        <p:blipFill>
          <a:blip r:embed="rId2"/>
          <a:stretch/>
        </p:blipFill>
        <p:spPr>
          <a:xfrm>
            <a:off x="863640" y="2428920"/>
            <a:ext cx="8004240" cy="206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08BD-D6B3-4416-A139-8DC1C73D4DAA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TABLE 4.3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 Properties of Number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7" name="Sebesta_c04T03" descr=""/>
          <p:cNvPicPr/>
          <p:nvPr/>
        </p:nvPicPr>
        <p:blipFill>
          <a:blip r:embed="rId2"/>
          <a:stretch/>
        </p:blipFill>
        <p:spPr>
          <a:xfrm>
            <a:off x="851040" y="2057400"/>
            <a:ext cx="8089920" cy="305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56BB-F594-4DF7-A937-C5B808A525E4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TABLE 4.4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 String Method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9" name="Sebesta_c04T04" descr=""/>
          <p:cNvPicPr/>
          <p:nvPr/>
        </p:nvPicPr>
        <p:blipFill>
          <a:blip r:embed="rId2"/>
          <a:stretch/>
        </p:blipFill>
        <p:spPr>
          <a:xfrm>
            <a:off x="863640" y="2082960"/>
            <a:ext cx="8002440" cy="295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8A4F-C9F1-445E-8738-C0FBD8AD95F1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4.5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Methods for the Date Object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1" name="Sebesta_c04T05_1of2" descr=""/>
          <p:cNvPicPr/>
          <p:nvPr/>
        </p:nvPicPr>
        <p:blipFill>
          <a:blip r:embed="rId2"/>
          <a:stretch/>
        </p:blipFill>
        <p:spPr>
          <a:xfrm>
            <a:off x="838080" y="2428920"/>
            <a:ext cx="8058240" cy="206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2CFB-104C-43E2-A442-81D982486665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4.5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Methods for the Date Object (Continued)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3" name="Sebesta_c04T05_2of2" descr=""/>
          <p:cNvPicPr/>
          <p:nvPr/>
        </p:nvPicPr>
        <p:blipFill>
          <a:blip r:embed="rId2"/>
          <a:stretch/>
        </p:blipFill>
        <p:spPr>
          <a:xfrm>
            <a:off x="825480" y="2336760"/>
            <a:ext cx="8121600" cy="242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BEFC-2895-4F26-8425-ACBC6DC80389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4.2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An example of the output of document.write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5" name="Sebesta_c04f02" descr=""/>
          <p:cNvPicPr/>
          <p:nvPr/>
        </p:nvPicPr>
        <p:blipFill>
          <a:blip r:embed="rId2"/>
          <a:stretch/>
        </p:blipFill>
        <p:spPr>
          <a:xfrm>
            <a:off x="888840" y="2984400"/>
            <a:ext cx="8056800" cy="8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AB02-A756-4E0F-9C03-3D38CFC3FE64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7:26:30Z</dcterms:created>
  <dc:creator>mark temelko</dc:creator>
  <dc:description/>
  <dc:language>en-US</dc:language>
  <cp:lastModifiedBy>mark temelko</cp:lastModifiedBy>
  <cp:lastPrinted>2001-07-20T01:09:35Z</cp:lastPrinted>
  <dcterms:modified xsi:type="dcterms:W3CDTF">2005-05-31T07:36:49Z</dcterms:modified>
  <cp:revision>5</cp:revision>
  <dc:subject/>
  <dc:title>Chapter 1</dc:title>
</cp:coreProperties>
</file>