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8DBB4-63FB-49DC-B16E-A74371B59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75BF3-AFAF-46EB-A127-DF1E3067A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B7D5-06E2-41C7-ACDE-F187203AD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ECA8E-A5BA-4B7B-9F70-3DB46855E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033F1-0BFA-473F-8373-485944EA9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D23B1-12BB-46C3-8A7B-0FCFC0FF3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1B6D0-377C-4C4A-A6A1-DEF81BF3D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70693-8808-4629-9922-5D7853037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988C2-1661-45A2-B9E7-A534EBE8A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BFB69-7AC7-4621-9D87-F5D74681E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F5143-8FD3-46F9-A0BB-538E82535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A25D-E866-44F5-83B4-19CF6AE26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58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78732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8458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8458f"/>
                </a:solidFill>
                <a:latin typeface="Arial"/>
              </a:rPr>
              <a:t>3-</a:t>
            </a:r>
            <a:fld id="{29C5F2C2-1442-46E3-A976-39109E6E91DF}" type="slidenum">
              <a:rPr b="0" lang="en-US" sz="1200" spc="-1" strike="noStrike">
                <a:solidFill>
                  <a:srgbClr val="2845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hapter 3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3760" y="1904760"/>
            <a:ext cx="3429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cad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3.6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Display of float.html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7" name="Sebesta_c03f06jpg" descr=""/>
          <p:cNvPicPr/>
          <p:nvPr/>
        </p:nvPicPr>
        <p:blipFill>
          <a:blip r:embed="rId2"/>
          <a:stretch/>
        </p:blipFill>
        <p:spPr>
          <a:xfrm>
            <a:off x="851040" y="1498680"/>
            <a:ext cx="8035920" cy="467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6A00D-E256-4773-924C-80094501E965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3.7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The box model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9" name="Sebesta_c03f07" descr=""/>
          <p:cNvPicPr/>
          <p:nvPr/>
        </p:nvPicPr>
        <p:blipFill>
          <a:blip r:embed="rId2"/>
          <a:stretch/>
        </p:blipFill>
        <p:spPr>
          <a:xfrm>
            <a:off x="1434960" y="1403280"/>
            <a:ext cx="6820200" cy="476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AB99F-80D6-4B80-8EC8-7D2F4CF8644F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3.8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Borders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1" name="Sebesta_c03f08" descr=""/>
          <p:cNvPicPr/>
          <p:nvPr/>
        </p:nvPicPr>
        <p:blipFill>
          <a:blip r:embed="rId2"/>
          <a:stretch/>
        </p:blipFill>
        <p:spPr>
          <a:xfrm>
            <a:off x="838080" y="2112840"/>
            <a:ext cx="8051760" cy="29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A5AE7-AA75-4604-A676-881E4BCD8803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3.9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Display of marpads.html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3" name="Sebesta_c03f09" descr=""/>
          <p:cNvPicPr/>
          <p:nvPr/>
        </p:nvPicPr>
        <p:blipFill>
          <a:blip r:embed="rId2"/>
          <a:stretch/>
        </p:blipFill>
        <p:spPr>
          <a:xfrm>
            <a:off x="2540160" y="1257480"/>
            <a:ext cx="4647960" cy="512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88FD-88D8-4D3E-B9BA-4D577AAEE3A2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3.10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back_image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5" name="Sebesta_c03f10jpg" descr=""/>
          <p:cNvPicPr/>
          <p:nvPr/>
        </p:nvPicPr>
        <p:blipFill>
          <a:blip r:embed="rId2"/>
          <a:stretch/>
        </p:blipFill>
        <p:spPr>
          <a:xfrm>
            <a:off x="876240" y="2154240"/>
            <a:ext cx="7985160" cy="287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90DB8-70F7-49F1-ABDD-3851278E01F1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3.11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The &lt;span&gt; tag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7" name="Sebesta_c03f11" descr=""/>
          <p:cNvPicPr/>
          <p:nvPr/>
        </p:nvPicPr>
        <p:blipFill>
          <a:blip r:embed="rId2"/>
          <a:stretch/>
        </p:blipFill>
        <p:spPr>
          <a:xfrm>
            <a:off x="863640" y="2819520"/>
            <a:ext cx="8004240" cy="88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11579-E9AD-4919-93AE-C16AEC62AE3E}" type="slidenum">
              <a:t>15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TABLE 3.1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 Generic Fonts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1" name="Sebesta_c03T01" descr=""/>
          <p:cNvPicPr/>
          <p:nvPr/>
        </p:nvPicPr>
        <p:blipFill>
          <a:blip r:embed="rId2"/>
          <a:stretch/>
        </p:blipFill>
        <p:spPr>
          <a:xfrm>
            <a:off x="838080" y="2100240"/>
            <a:ext cx="8099640" cy="262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B4DC7-9516-4196-B22C-D3DB7B83F6C1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3.1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Display of fonts.html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3" name="Sebesta_c03f01" descr=""/>
          <p:cNvPicPr/>
          <p:nvPr/>
        </p:nvPicPr>
        <p:blipFill>
          <a:blip r:embed="rId2"/>
          <a:stretch/>
        </p:blipFill>
        <p:spPr>
          <a:xfrm>
            <a:off x="851040" y="2057400"/>
            <a:ext cx="8022960" cy="302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12D30-76BA-454A-9561-BD897FC6EBDC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3.2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decoration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5" name="Sebesta_c03f02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8128080" cy="190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E24BE-74A9-4D54-8D24-A02FF5BCA92B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3.3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Examples of unordered list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7" name="Sebesta_c03f03" descr=""/>
          <p:cNvPicPr/>
          <p:nvPr/>
        </p:nvPicPr>
        <p:blipFill>
          <a:blip r:embed="rId2"/>
          <a:stretch/>
        </p:blipFill>
        <p:spPr>
          <a:xfrm>
            <a:off x="838080" y="1800360"/>
            <a:ext cx="8059680" cy="371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29F9-1DB6-4B3A-8262-FDA058F015FF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3.2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Possible Sequencing Values for Ordered List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9" name="Sebesta_c03T02" descr=""/>
          <p:cNvPicPr/>
          <p:nvPr/>
        </p:nvPicPr>
        <p:blipFill>
          <a:blip r:embed="rId2"/>
          <a:stretch/>
        </p:blipFill>
        <p:spPr>
          <a:xfrm>
            <a:off x="851040" y="2133720"/>
            <a:ext cx="8061120" cy="26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7316F-EA7D-4F89-BB58-A01E272731EF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3.4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sequence_types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1" name="Sebesta_c03f04" descr=""/>
          <p:cNvPicPr/>
          <p:nvPr/>
        </p:nvPicPr>
        <p:blipFill>
          <a:blip r:embed="rId2"/>
          <a:stretch/>
        </p:blipFill>
        <p:spPr>
          <a:xfrm>
            <a:off x="1015920" y="1681200"/>
            <a:ext cx="7686720" cy="44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9C794-A27C-4B70-A15B-7E03C9FC734B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TABLE 3.3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 Named colors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3" name="Sebesta_c03T03" descr=""/>
          <p:cNvPicPr/>
          <p:nvPr/>
        </p:nvPicPr>
        <p:blipFill>
          <a:blip r:embed="rId2"/>
          <a:stretch/>
        </p:blipFill>
        <p:spPr>
          <a:xfrm>
            <a:off x="851040" y="1676520"/>
            <a:ext cx="8022960" cy="388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BDE2B-50D1-4F0E-AEE8-D0CA593D58BC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3.5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The background-color property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5" name="Sebesta_c03f05" descr=""/>
          <p:cNvPicPr/>
          <p:nvPr/>
        </p:nvPicPr>
        <p:blipFill>
          <a:blip r:embed="rId2"/>
          <a:stretch/>
        </p:blipFill>
        <p:spPr>
          <a:xfrm>
            <a:off x="1193760" y="2590920"/>
            <a:ext cx="7315200" cy="149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C5063-1DD3-41FA-92FD-22F82581A43A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7:18:42Z</dcterms:created>
  <dc:creator>mark temelko</dc:creator>
  <dc:description/>
  <dc:language>en-US</dc:language>
  <cp:lastModifiedBy>mark temelko</cp:lastModifiedBy>
  <cp:lastPrinted>2001-07-20T01:09:35Z</cp:lastPrinted>
  <dcterms:modified xsi:type="dcterms:W3CDTF">2005-05-31T07:26:01Z</dcterms:modified>
  <cp:revision>4</cp:revision>
  <dc:subject/>
  <dc:title>Chapter 1</dc:title>
</cp:coreProperties>
</file>