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A57C-5BEB-4F9E-8F1E-0AD6CC0C7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56EDD-09F6-4409-82AF-578FF85AF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400A-D6C0-4D9B-BDB4-5B8882768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6FAC-C165-4434-BEE6-734BD93C7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E0C42-DDBC-4190-9E60-953262C5B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42E1-DEDD-43D0-9832-CC07AE115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6E684-33E5-44A3-9694-C1C4D4CA2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4654-5A86-475D-9C9F-F21ECFE03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7C5C-A5B3-47CF-A0A5-A287F95EF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2DF7-8DC1-4C91-BDD8-991C5EEA7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4B95-C9DB-48A8-ABFE-F706ABA50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79F1-7B89-4404-8B65-90F723BD9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2-</a:t>
            </a:r>
            <a:fld id="{00895CC6-2A7A-4598-A14E-F37B23554729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2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X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2.9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The &lt;big&gt; elemen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7" name="Sebesta_c02f09" descr=""/>
          <p:cNvPicPr/>
          <p:nvPr/>
        </p:nvPicPr>
        <p:blipFill>
          <a:blip r:embed="rId2"/>
          <a:stretch/>
        </p:blipFill>
        <p:spPr>
          <a:xfrm>
            <a:off x="892080" y="2654280"/>
            <a:ext cx="7947000" cy="14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5091-BA51-4E49-97FB-7207DD2DCBE8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2.10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The &lt;small&gt; elemen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9" name="Sebesta_c02f10" descr=""/>
          <p:cNvPicPr/>
          <p:nvPr/>
        </p:nvPicPr>
        <p:blipFill>
          <a:blip r:embed="rId2"/>
          <a:stretch/>
        </p:blipFill>
        <p:spPr>
          <a:xfrm>
            <a:off x="838080" y="2946240"/>
            <a:ext cx="8064720" cy="82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2BE1-9666-4FD9-AC9A-C394D6234445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11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The &lt;sub&gt; and &lt;sup&gt; element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1" name="Sebesta_c02f11" descr=""/>
          <p:cNvPicPr/>
          <p:nvPr/>
        </p:nvPicPr>
        <p:blipFill>
          <a:blip r:embed="rId2"/>
          <a:stretch/>
        </p:blipFill>
        <p:spPr>
          <a:xfrm>
            <a:off x="914400" y="2921040"/>
            <a:ext cx="7958160" cy="94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BECF-6B1F-4D66-9813-8D96F840C35A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2.12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The &lt;tt&gt; elemen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3" name="Sebesta_c02f12" descr=""/>
          <p:cNvPicPr/>
          <p:nvPr/>
        </p:nvPicPr>
        <p:blipFill>
          <a:blip r:embed="rId2"/>
          <a:stretch/>
        </p:blipFill>
        <p:spPr>
          <a:xfrm>
            <a:off x="876240" y="2933640"/>
            <a:ext cx="7970760" cy="92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BE44-DA97-4BFE-9F22-E1F88DC43D1F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2.1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Some Commonly Used Entitie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5" name="Sebesta_c02T01" descr=""/>
          <p:cNvPicPr/>
          <p:nvPr/>
        </p:nvPicPr>
        <p:blipFill>
          <a:blip r:embed="rId2"/>
          <a:stretch/>
        </p:blipFill>
        <p:spPr>
          <a:xfrm>
            <a:off x="1206360" y="1698480"/>
            <a:ext cx="7315200" cy="43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41B7-3C0D-47B0-A367-C05D0AF7C547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2.13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image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7" name="Sebesta_c02f13jpg" descr=""/>
          <p:cNvPicPr/>
          <p:nvPr/>
        </p:nvPicPr>
        <p:blipFill>
          <a:blip r:embed="rId2"/>
          <a:stretch/>
        </p:blipFill>
        <p:spPr>
          <a:xfrm>
            <a:off x="2246400" y="1295280"/>
            <a:ext cx="523404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DF47-F502-4775-A5DE-E5E503882F2D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2.14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link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09" name="Sebesta_c02f14" descr=""/>
          <p:cNvPicPr/>
          <p:nvPr/>
        </p:nvPicPr>
        <p:blipFill>
          <a:blip r:embed="rId2"/>
          <a:stretch/>
        </p:blipFill>
        <p:spPr>
          <a:xfrm>
            <a:off x="901800" y="1881360"/>
            <a:ext cx="7913520" cy="35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A480-4F3B-4BE8-8C7F-DEC793F93511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15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Following the link from link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11" name="Sebesta_c02f15jpg" descr=""/>
          <p:cNvPicPr/>
          <p:nvPr/>
        </p:nvPicPr>
        <p:blipFill>
          <a:blip r:embed="rId2"/>
          <a:stretch/>
        </p:blipFill>
        <p:spPr>
          <a:xfrm>
            <a:off x="1498680" y="1612800"/>
            <a:ext cx="6730920" cy="46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D14F-8E84-4E01-AB2E-5A0C456DE300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16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unordered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13" name="Sebesta_c02f16" descr=""/>
          <p:cNvPicPr/>
          <p:nvPr/>
        </p:nvPicPr>
        <p:blipFill>
          <a:blip r:embed="rId2"/>
          <a:stretch/>
        </p:blipFill>
        <p:spPr>
          <a:xfrm>
            <a:off x="825480" y="2552760"/>
            <a:ext cx="8069400" cy="190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3448-14B9-4745-B6D3-46C966A8A825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17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ordered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15" name="Sebesta_c02f17" descr=""/>
          <p:cNvPicPr/>
          <p:nvPr/>
        </p:nvPicPr>
        <p:blipFill>
          <a:blip r:embed="rId2"/>
          <a:stretch/>
        </p:blipFill>
        <p:spPr>
          <a:xfrm>
            <a:off x="851040" y="2324160"/>
            <a:ext cx="8024760" cy="244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E1835-0D0B-416B-9913-F9F32B181973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2.1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Filling line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Sebesta_c02f01" descr=""/>
          <p:cNvPicPr/>
          <p:nvPr/>
        </p:nvPicPr>
        <p:blipFill>
          <a:blip r:embed="rId2"/>
          <a:stretch/>
        </p:blipFill>
        <p:spPr>
          <a:xfrm>
            <a:off x="825480" y="2666880"/>
            <a:ext cx="8083440" cy="10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F7BB-FF22-4842-96E7-C5140E025122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18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nested_lists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17" name="Sebesta_c02f18" descr=""/>
          <p:cNvPicPr/>
          <p:nvPr/>
        </p:nvPicPr>
        <p:blipFill>
          <a:blip r:embed="rId2"/>
          <a:stretch/>
        </p:blipFill>
        <p:spPr>
          <a:xfrm>
            <a:off x="1243080" y="1362240"/>
            <a:ext cx="7251480" cy="496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45B6-0074-4139-A4AB-118C4006B015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19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definition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19" name="Sebesta_c02f19" descr=""/>
          <p:cNvPicPr/>
          <p:nvPr/>
        </p:nvPicPr>
        <p:blipFill>
          <a:blip r:embed="rId2"/>
          <a:stretch/>
        </p:blipFill>
        <p:spPr>
          <a:xfrm>
            <a:off x="838080" y="2022480"/>
            <a:ext cx="8040960" cy="323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BCFB-617D-4989-9356-AFC4E031F043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2.20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table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21" name="Sebesta_c02f20" descr=""/>
          <p:cNvPicPr/>
          <p:nvPr/>
        </p:nvPicPr>
        <p:blipFill>
          <a:blip r:embed="rId2"/>
          <a:stretch/>
        </p:blipFill>
        <p:spPr>
          <a:xfrm>
            <a:off x="838080" y="2298600"/>
            <a:ext cx="8055000" cy="24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B34F-B1DC-469D-B11E-F81A0AA3AEF9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21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Two levels of column label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23" name="Sebesta_c02f21" descr=""/>
          <p:cNvPicPr/>
          <p:nvPr/>
        </p:nvPicPr>
        <p:blipFill>
          <a:blip r:embed="rId2"/>
          <a:stretch/>
        </p:blipFill>
        <p:spPr>
          <a:xfrm>
            <a:off x="812880" y="2749680"/>
            <a:ext cx="8175600" cy="138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1E02-E77C-4944-B71F-FEF3B1659618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22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cell_span.html: multiple-labeled columns and labeled row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25" name="Sebesta_c02f22" descr=""/>
          <p:cNvPicPr/>
          <p:nvPr/>
        </p:nvPicPr>
        <p:blipFill>
          <a:blip r:embed="rId2"/>
          <a:stretch/>
        </p:blipFill>
        <p:spPr>
          <a:xfrm>
            <a:off x="838080" y="2146320"/>
            <a:ext cx="8037720" cy="282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520B-CA17-4AB7-B8CC-2846CFC6874C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23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cell_align.html: the align and valign attribute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27" name="Sebesta_c02f23" descr=""/>
          <p:cNvPicPr/>
          <p:nvPr/>
        </p:nvPicPr>
        <p:blipFill>
          <a:blip r:embed="rId2"/>
          <a:stretch/>
        </p:blipFill>
        <p:spPr>
          <a:xfrm>
            <a:off x="863640" y="2209680"/>
            <a:ext cx="8007480" cy="27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E834-276D-40CB-911D-4220F68CA582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24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space_pad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29" name="Sebesta_c02f24" descr=""/>
          <p:cNvPicPr/>
          <p:nvPr/>
        </p:nvPicPr>
        <p:blipFill>
          <a:blip r:embed="rId2"/>
          <a:stretch/>
        </p:blipFill>
        <p:spPr>
          <a:xfrm>
            <a:off x="1384200" y="1319040"/>
            <a:ext cx="6946920" cy="508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5363-E61E-40F8-A014-97488ADDA7A1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25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checkbox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31" name="Sebesta_c02f25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80568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B4DE-2AB1-4384-8328-19C5537B3D51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2.26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radio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33" name="Sebesta_c02f26" descr=""/>
          <p:cNvPicPr/>
          <p:nvPr/>
        </p:nvPicPr>
        <p:blipFill>
          <a:blip r:embed="rId2"/>
          <a:stretch/>
        </p:blipFill>
        <p:spPr>
          <a:xfrm>
            <a:off x="800280" y="2666880"/>
            <a:ext cx="8121600" cy="139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D883-C7CD-451E-97CB-51DD6438E4FF}" type="slidenum">
              <a:t>28</a:t>
            </a:fld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27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menu.html (default size of 1)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35" name="Sebesta_c02f27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8040960" cy="14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98E1-EF11-49A5-A933-96738FD5102A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2.2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greet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02f02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8056800" cy="9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EADB-BC45-4B5C-89A1-C95C219F1FE9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28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menu.html after the scroll arrow is clicked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37" name="Sebesta_c02f28" descr=""/>
          <p:cNvPicPr/>
          <p:nvPr/>
        </p:nvPicPr>
        <p:blipFill>
          <a:blip r:embed="rId2"/>
          <a:stretch/>
        </p:blipFill>
        <p:spPr>
          <a:xfrm>
            <a:off x="825480" y="2133720"/>
            <a:ext cx="8067600" cy="252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031C-C73E-42AA-88EC-591E4207D8D6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29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menu.html with size set to 2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39" name="Sebesta_c02f29" descr=""/>
          <p:cNvPicPr/>
          <p:nvPr/>
        </p:nvPicPr>
        <p:blipFill>
          <a:blip r:embed="rId2"/>
          <a:stretch/>
        </p:blipFill>
        <p:spPr>
          <a:xfrm>
            <a:off x="901800" y="2540160"/>
            <a:ext cx="7924680" cy="165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9E98-15A6-4D9D-B33F-E7E62C705A2D}" type="slidenum">
              <a:t>31</a:t>
            </a:fld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30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textarea.html after some text entry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41" name="Sebesta_c02f30" descr=""/>
          <p:cNvPicPr/>
          <p:nvPr/>
        </p:nvPicPr>
        <p:blipFill>
          <a:blip r:embed="rId2"/>
          <a:stretch/>
        </p:blipFill>
        <p:spPr>
          <a:xfrm>
            <a:off x="825480" y="2455920"/>
            <a:ext cx="8075520" cy="18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A4F3-35C8-4444-BB79-9518E1E2680B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31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Submit and Reset button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43" name="Sebesta_c02f31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8088480" cy="93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4B037-DB68-4997-A6D9-8EDF28B76FB8}" type="slidenum">
              <a:t>33</a:t>
            </a:fld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32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popcorn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45" name="Sebesta_c02f32" descr=""/>
          <p:cNvPicPr/>
          <p:nvPr/>
        </p:nvPicPr>
        <p:blipFill>
          <a:blip r:embed="rId2"/>
          <a:stretch/>
        </p:blipFill>
        <p:spPr>
          <a:xfrm>
            <a:off x="1655640" y="1373040"/>
            <a:ext cx="6408720" cy="502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40C27-7991-432B-91AB-C4ADBC143300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33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A simple frameset of six frame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47" name="Sebesta_c02f33" descr=""/>
          <p:cNvPicPr/>
          <p:nvPr/>
        </p:nvPicPr>
        <p:blipFill>
          <a:blip r:embed="rId2"/>
          <a:stretch/>
        </p:blipFill>
        <p:spPr>
          <a:xfrm>
            <a:off x="833400" y="1830240"/>
            <a:ext cx="8069400" cy="38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ED87-228C-4A1F-99BE-40BA575F7521}" type="slidenum">
              <a:t>35</a:t>
            </a:fld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2.34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Display of frames.html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49" name="Sebesta_c02f34" descr=""/>
          <p:cNvPicPr/>
          <p:nvPr/>
        </p:nvPicPr>
        <p:blipFill>
          <a:blip r:embed="rId2"/>
          <a:stretch/>
        </p:blipFill>
        <p:spPr>
          <a:xfrm>
            <a:off x="812880" y="2341440"/>
            <a:ext cx="8129520" cy="21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E0B7-68F3-4F3B-8697-8209D00E7EDA}" type="slidenum">
              <a:t>36</a:t>
            </a:fld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35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frames.html after taking the bananas link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51" name="Sebesta_c02f35" descr=""/>
          <p:cNvPicPr/>
          <p:nvPr/>
        </p:nvPicPr>
        <p:blipFill>
          <a:blip r:embed="rId2"/>
          <a:stretch/>
        </p:blipFill>
        <p:spPr>
          <a:xfrm>
            <a:off x="793800" y="2463840"/>
            <a:ext cx="8178840" cy="216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0C84-9B24-444C-9EA6-1323B7820B74}" type="slidenum">
              <a:t>37</a:t>
            </a:fld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36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nested_frames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153" name="Sebesta_c02f36" descr=""/>
          <p:cNvPicPr/>
          <p:nvPr/>
        </p:nvPicPr>
        <p:blipFill>
          <a:blip r:embed="rId2"/>
          <a:stretch/>
        </p:blipFill>
        <p:spPr>
          <a:xfrm>
            <a:off x="1562040" y="1514520"/>
            <a:ext cx="6591240" cy="491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BA6A-21A7-4E73-9CE9-A97257EB3284}" type="slidenum">
              <a:t>38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2.3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The paragraph elemen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02f03" descr=""/>
          <p:cNvPicPr/>
          <p:nvPr/>
        </p:nvPicPr>
        <p:blipFill>
          <a:blip r:embed="rId2"/>
          <a:stretch/>
        </p:blipFill>
        <p:spPr>
          <a:xfrm>
            <a:off x="825480" y="2666880"/>
            <a:ext cx="8126280" cy="14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2504-6490-46B4-9B55-DF144867F056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4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file-upload.html, the W3C HTML validation document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02f04" descr=""/>
          <p:cNvPicPr/>
          <p:nvPr/>
        </p:nvPicPr>
        <p:blipFill>
          <a:blip r:embed="rId2"/>
          <a:stretch/>
        </p:blipFill>
        <p:spPr>
          <a:xfrm>
            <a:off x="2070000" y="1447920"/>
            <a:ext cx="5581800" cy="49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7E285-BF69-40DC-8696-77483095BAED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5 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HTML validation output for greet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9" name="Sebesta_c02f05" descr=""/>
          <p:cNvPicPr/>
          <p:nvPr/>
        </p:nvPicPr>
        <p:blipFill>
          <a:blip r:embed="rId2"/>
          <a:stretch/>
        </p:blipFill>
        <p:spPr>
          <a:xfrm>
            <a:off x="1701720" y="1434960"/>
            <a:ext cx="6310440" cy="501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63E4-FB0F-45B1-99CC-0DB279589CD9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FIGURE 2.6 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Line break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1" name="Sebesta_c02f06" descr=""/>
          <p:cNvPicPr/>
          <p:nvPr/>
        </p:nvPicPr>
        <p:blipFill>
          <a:blip r:embed="rId2"/>
          <a:stretch/>
        </p:blipFill>
        <p:spPr>
          <a:xfrm>
            <a:off x="825480" y="2743200"/>
            <a:ext cx="8156520" cy="11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A418-CB1C-4F55-8D8A-6B5BC4ADBC27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7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headings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3" name="Sebesta_c02f07" descr=""/>
          <p:cNvPicPr/>
          <p:nvPr/>
        </p:nvPicPr>
        <p:blipFill>
          <a:blip r:embed="rId2"/>
          <a:stretch/>
        </p:blipFill>
        <p:spPr>
          <a:xfrm>
            <a:off x="888840" y="1600200"/>
            <a:ext cx="795024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2A14-43FF-42A4-81C7-D65D0962F9DB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2.8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isplay of blockquote.html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95" name="Sebesta_c02f08" descr=""/>
          <p:cNvPicPr/>
          <p:nvPr/>
        </p:nvPicPr>
        <p:blipFill>
          <a:blip r:embed="rId2"/>
          <a:stretch/>
        </p:blipFill>
        <p:spPr>
          <a:xfrm>
            <a:off x="863640" y="1611360"/>
            <a:ext cx="799452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F4F5-AA30-48D2-9F5E-A0A1DB726A6C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6:21:11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7:26:21Z</dcterms:modified>
  <cp:revision>5</cp:revision>
  <dc:subject/>
  <dc:title>Chapter 2</dc:title>
</cp:coreProperties>
</file>