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1D4D-E614-40E8-A712-F6CDB1265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0BCB-8EAF-4721-9476-BD33028E5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887B-7960-40E6-9B68-1815CDBC2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6112-E432-434E-AE1F-CC9E4E0FA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3D58-3E11-4045-8BA8-B23D35C26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ADE9-B3B2-4ECD-992E-F26A5E876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CDD8-9F9D-43B9-937F-788B54BBF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999B-0CF0-4748-86AA-FA6D60DE5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DB6B-8806-4539-81CC-C4333725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F5AA-0D93-463E-9FDE-C2CEE6A9D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E666-D320-4A52-8E3A-5D4539DBA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71CA-1373-41CB-9DB3-04E555D34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6-</a:t>
            </a:r>
            <a:fld id="{C5351A6E-E534-4433-8779-70789504F687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Docu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94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6.9 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initial display of stacking.html (photographs courtesy of Cessna Aircraft Company)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6f09jpg" descr=""/>
          <p:cNvPicPr/>
          <p:nvPr/>
        </p:nvPicPr>
        <p:blipFill>
          <a:blip r:embed="rId2"/>
          <a:stretch/>
        </p:blipFill>
        <p:spPr>
          <a:xfrm>
            <a:off x="1365120" y="1663560"/>
            <a:ext cx="698364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E99B-F608-45FB-87DA-472C3F1390F5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6.10 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display of stacking.html after clicking on the second image (photographs courtesy of Cessna Aircraft Company)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06f10jpg" descr=""/>
          <p:cNvPicPr/>
          <p:nvPr/>
        </p:nvPicPr>
        <p:blipFill>
          <a:blip r:embed="rId2"/>
          <a:stretch/>
        </p:blipFill>
        <p:spPr>
          <a:xfrm>
            <a:off x="1338120" y="1689120"/>
            <a:ext cx="7043760" cy="46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7231-979F-400D-A680-33C8D160EA57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6.11 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display of stacking.html after clicking on the bottom image (photographs courtesy of Cessna Aircraft Company)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06f11jpg" descr=""/>
          <p:cNvPicPr/>
          <p:nvPr/>
        </p:nvPicPr>
        <p:blipFill>
          <a:blip r:embed="rId2"/>
          <a:stretch/>
        </p:blipFill>
        <p:spPr>
          <a:xfrm>
            <a:off x="1322280" y="1690560"/>
            <a:ext cx="706284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7E61-B118-4188-B002-7F04695648D6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1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where.html (the cursor was in the tail section of the plane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06f12jpg" descr=""/>
          <p:cNvPicPr/>
          <p:nvPr/>
        </p:nvPicPr>
        <p:blipFill>
          <a:blip r:embed="rId2"/>
          <a:stretch/>
        </p:blipFill>
        <p:spPr>
          <a:xfrm>
            <a:off x="1440000" y="1503360"/>
            <a:ext cx="6858000" cy="497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0256-C067-4B6A-9ECE-45452299FA01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1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ragNDrop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06f13" descr=""/>
          <p:cNvPicPr/>
          <p:nvPr/>
        </p:nvPicPr>
        <p:blipFill>
          <a:blip r:embed="rId2"/>
          <a:stretch/>
        </p:blipFill>
        <p:spPr>
          <a:xfrm>
            <a:off x="1203480" y="1488960"/>
            <a:ext cx="734220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06E4-FB2C-4232-8610-54B23A64065C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6.1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absPos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6f01" descr=""/>
          <p:cNvPicPr/>
          <p:nvPr/>
        </p:nvPicPr>
        <p:blipFill>
          <a:blip r:embed="rId2"/>
          <a:stretch/>
        </p:blipFill>
        <p:spPr>
          <a:xfrm>
            <a:off x="863640" y="2273400"/>
            <a:ext cx="7997760" cy="25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CE89-0FE4-418C-9F3B-F2505B3069CB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6.2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absPos2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6f02" descr=""/>
          <p:cNvPicPr/>
          <p:nvPr/>
        </p:nvPicPr>
        <p:blipFill>
          <a:blip r:embed="rId2"/>
          <a:stretch/>
        </p:blipFill>
        <p:spPr>
          <a:xfrm>
            <a:off x="890640" y="1633680"/>
            <a:ext cx="794232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2590-3C3A-4663-A95E-D5AECD97576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6.3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relPos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6f03" descr=""/>
          <p:cNvPicPr/>
          <p:nvPr/>
        </p:nvPicPr>
        <p:blipFill>
          <a:blip r:embed="rId2"/>
          <a:stretch/>
        </p:blipFill>
        <p:spPr>
          <a:xfrm>
            <a:off x="847800" y="2494080"/>
            <a:ext cx="8042040" cy="187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A126-E148-409A-AA32-BA490C4FA259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over.html (before pressing the Move It button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6f04jpg" descr=""/>
          <p:cNvPicPr/>
          <p:nvPr/>
        </p:nvPicPr>
        <p:blipFill>
          <a:blip r:embed="rId2"/>
          <a:stretch/>
        </p:blipFill>
        <p:spPr>
          <a:xfrm>
            <a:off x="1976400" y="1468440"/>
            <a:ext cx="5746680" cy="494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4B56-1E09-47E9-9150-A06F307F7A9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over.html (after the Move It button has been pressed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6f05jpg" descr=""/>
          <p:cNvPicPr/>
          <p:nvPr/>
        </p:nvPicPr>
        <p:blipFill>
          <a:blip r:embed="rId2"/>
          <a:stretch/>
        </p:blipFill>
        <p:spPr>
          <a:xfrm>
            <a:off x="2151000" y="1463760"/>
            <a:ext cx="540072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089D-10C0-41C8-8A64-9D9632407972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ynLink.html with the cursor not over the link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6f06" descr=""/>
          <p:cNvPicPr/>
          <p:nvPr/>
        </p:nvPicPr>
        <p:blipFill>
          <a:blip r:embed="rId2"/>
          <a:stretch/>
        </p:blipFill>
        <p:spPr>
          <a:xfrm>
            <a:off x="893880" y="2959200"/>
            <a:ext cx="7945200" cy="103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C728-94B0-4D6F-A82E-D2F93A75DC64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7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ynLink.html with the mouse cursor over the link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6f07" descr=""/>
          <p:cNvPicPr/>
          <p:nvPr/>
        </p:nvPicPr>
        <p:blipFill>
          <a:blip r:embed="rId2"/>
          <a:stretch/>
        </p:blipFill>
        <p:spPr>
          <a:xfrm>
            <a:off x="861840" y="2881440"/>
            <a:ext cx="7983720" cy="10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35E4-540B-4A5F-B28F-F018C249EF7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6.8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ynValue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6f08" descr=""/>
          <p:cNvPicPr/>
          <p:nvPr/>
        </p:nvPicPr>
        <p:blipFill>
          <a:blip r:embed="rId2"/>
          <a:stretch/>
        </p:blipFill>
        <p:spPr>
          <a:xfrm>
            <a:off x="896760" y="1857240"/>
            <a:ext cx="792036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02A2-CA1C-4908-A69E-D07B0E8D4C0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7:47:08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7:56:31Z</dcterms:modified>
  <cp:revision>6</cp:revision>
  <dc:subject/>
  <dc:title>Chapter 6</dc:title>
</cp:coreProperties>
</file>