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517A-A706-4E1F-8884-07A9FCF6F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792B-267A-40D6-A0BD-AF93A7ACD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95E9-2706-4E9E-B0AE-01AE4C3A5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A771-F237-4080-AD3F-28B341B01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F042-533F-4000-9A11-3E34CF43B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875E-B2E5-4B24-B788-CF3135B5A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D4EE-DAE5-49A9-9561-BB5DE746F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7ECCC-8CD4-49F9-91AB-23D550503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6D2F-71C9-4823-97BD-A8B571644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C8E58-5728-48D4-8854-2752A9096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B8062-7F3A-491F-921F-829ACE86B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C90D8-9B84-4B05-AC6D-CD15682E1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58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78732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8458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458f"/>
                </a:solidFill>
                <a:latin typeface="Arial"/>
              </a:rPr>
              <a:t>12-</a:t>
            </a:r>
            <a:fld id="{B66B4202-167C-42D9-A1CD-5B83F398E06F}" type="slidenum">
              <a:rPr b="0" lang="en-US" sz="1200" spc="-1" strike="noStrike">
                <a:solidFill>
                  <a:srgbClr val="2845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hapter 12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3760" y="1904760"/>
            <a:ext cx="3429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2.6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output of popcorn3.php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7" name="Sebesta_c12F06" descr=""/>
          <p:cNvPicPr/>
          <p:nvPr/>
        </p:nvPicPr>
        <p:blipFill>
          <a:blip r:embed="rId2"/>
          <a:stretch/>
        </p:blipFill>
        <p:spPr>
          <a:xfrm>
            <a:off x="876240" y="1484280"/>
            <a:ext cx="796140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024A3-DC35-4D27-B5B9-E0DED5700149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TABLE 12.4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 File Use Indicators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9" name="Sebesta_c12T04" descr=""/>
          <p:cNvPicPr/>
          <p:nvPr/>
        </p:nvPicPr>
        <p:blipFill>
          <a:blip r:embed="rId2"/>
          <a:stretch/>
        </p:blipFill>
        <p:spPr>
          <a:xfrm>
            <a:off x="1433520" y="1181160"/>
            <a:ext cx="6846840" cy="526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1706C-181D-40C6-956A-C7FA72515A5C}" type="slidenum">
              <a:t>11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12.1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Reserved Words of PHP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1" name="Sebesta_c12T01" descr=""/>
          <p:cNvPicPr/>
          <p:nvPr/>
        </p:nvPicPr>
        <p:blipFill>
          <a:blip r:embed="rId2"/>
          <a:stretch/>
        </p:blipFill>
        <p:spPr>
          <a:xfrm>
            <a:off x="914400" y="2146320"/>
            <a:ext cx="7891560" cy="295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A297-332D-4C85-B54F-E68FF4CAB7F3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12.2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Some Useful Predefined Function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3" name="Sebesta_c12T02" descr=""/>
          <p:cNvPicPr/>
          <p:nvPr/>
        </p:nvPicPr>
        <p:blipFill>
          <a:blip r:embed="rId2"/>
          <a:stretch/>
        </p:blipFill>
        <p:spPr>
          <a:xfrm>
            <a:off x="914400" y="1917720"/>
            <a:ext cx="7899480" cy="325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018F-E23E-48B7-AD10-F97B1E2DB5B7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12.3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Some Commonly Used String Function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5" name="Sebesta_c12T03" descr=""/>
          <p:cNvPicPr/>
          <p:nvPr/>
        </p:nvPicPr>
        <p:blipFill>
          <a:blip r:embed="rId2"/>
          <a:stretch/>
        </p:blipFill>
        <p:spPr>
          <a:xfrm>
            <a:off x="1917720" y="1308240"/>
            <a:ext cx="5900760" cy="51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4C16-A594-4D3C-9FEA-90C53ECE1425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2.1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the output of today.php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7" name="Sebesta_c12F01" descr=""/>
          <p:cNvPicPr/>
          <p:nvPr/>
        </p:nvPicPr>
        <p:blipFill>
          <a:blip r:embed="rId2"/>
          <a:stretch/>
        </p:blipFill>
        <p:spPr>
          <a:xfrm>
            <a:off x="787320" y="2570040"/>
            <a:ext cx="8183520" cy="13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C906-B839-4A92-90E9-971C2C73AFD7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2.2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output of powers.php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9" name="Sebesta_c12F02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8037720" cy="42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75CB-B0BB-4317-A20D-9A36289059CB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2.3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Logical internal structure of array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1" name="Sebesta_c12F03" descr=""/>
          <p:cNvPicPr/>
          <p:nvPr/>
        </p:nvPicPr>
        <p:blipFill>
          <a:blip r:embed="rId2"/>
          <a:stretch/>
        </p:blipFill>
        <p:spPr>
          <a:xfrm>
            <a:off x="927000" y="1685880"/>
            <a:ext cx="7872480" cy="44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F183-BBC8-4C91-A77E-BF600608CDF0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3480" y="219240"/>
            <a:ext cx="2876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2.4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output of sorting.php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3" name="Sebesta_c12F04" descr=""/>
          <p:cNvPicPr/>
          <p:nvPr/>
        </p:nvPicPr>
        <p:blipFill>
          <a:blip r:embed="rId2"/>
          <a:stretch/>
        </p:blipFill>
        <p:spPr>
          <a:xfrm>
            <a:off x="4140360" y="50760"/>
            <a:ext cx="4698720" cy="640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94545-6EA1-4DE8-8813-FA41D65B8CB1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2.5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display of popcorn3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5" name="Sebesta_c12F05" descr=""/>
          <p:cNvPicPr/>
          <p:nvPr/>
        </p:nvPicPr>
        <p:blipFill>
          <a:blip r:embed="rId2"/>
          <a:stretch/>
        </p:blipFill>
        <p:spPr>
          <a:xfrm>
            <a:off x="1752480" y="1488960"/>
            <a:ext cx="6224760" cy="498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C10B8-44C5-4FF0-ADEF-B7DA2D92EB14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8:24:11Z</dcterms:created>
  <dc:creator>mark temelko</dc:creator>
  <dc:description/>
  <dc:language>en-US</dc:language>
  <cp:lastModifiedBy>mark temelko</cp:lastModifiedBy>
  <cp:lastPrinted>2001-07-20T01:09:35Z</cp:lastPrinted>
  <dcterms:modified xsi:type="dcterms:W3CDTF">2005-05-31T08:34:13Z</dcterms:modified>
  <cp:revision>6</cp:revision>
  <dc:subject/>
  <dc:title>Chapter 1</dc:title>
</cp:coreProperties>
</file>