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CF64-EB8F-4E1A-8D4D-EBB89C27D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45E5-AF81-4076-8067-BC5FB6E88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155D-732D-41DB-B4DA-CF8A34164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4751-F893-4822-B5A1-A83E174C0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2EEF-3072-4DFA-A1B4-CBB47CB22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CCFD-CD02-4EE4-9B3F-B5DEF2BA3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0244-4B9D-4263-85F7-316D84F90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683F-C318-400F-AD97-5DEC5F3D1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5797-0854-4185-B6DF-2B5CC3302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13C9-8FF8-4AE3-8CAE-2AEDFC590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93A5-B828-40B6-9A84-AD456D6B0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3C66-7F81-4D80-8A56-F277CF453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13-</a:t>
            </a:r>
            <a:fld id="{DF2B25E6-5995-4001-B401-DAD586CA177F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13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ASP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3.6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result of invoking the Sum3 tester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7" name="Sebesta_c13F06" descr=""/>
          <p:cNvPicPr/>
          <p:nvPr/>
        </p:nvPicPr>
        <p:blipFill>
          <a:blip r:embed="rId2"/>
          <a:stretch/>
        </p:blipFill>
        <p:spPr>
          <a:xfrm>
            <a:off x="863640" y="2682720"/>
            <a:ext cx="7989840" cy="120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872D-11E9-48CA-8740-DA38A53AAB98}" type="slidenum">
              <a:t>10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8458f"/>
                </a:solidFill>
                <a:latin typeface="Arial"/>
              </a:rPr>
              <a:t>FIGURE 13.1  </a:t>
            </a:r>
            <a:br>
              <a:rPr sz="2800"/>
            </a:br>
            <a:r>
              <a:rPr b="0" sz="2800" spc="-1" strike="noStrike">
                <a:solidFill>
                  <a:srgbClr val="28458f"/>
                </a:solidFill>
                <a:latin typeface="Arial"/>
              </a:rPr>
              <a:t>Inheritance Diagrams for ASP.NET documents with and without code-behind files</a:t>
            </a:r>
            <a:endParaRPr b="0" lang="en-US" sz="28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13F01" descr=""/>
          <p:cNvPicPr/>
          <p:nvPr/>
        </p:nvPicPr>
        <p:blipFill>
          <a:blip r:embed="rId2"/>
          <a:stretch/>
        </p:blipFill>
        <p:spPr>
          <a:xfrm>
            <a:off x="1755720" y="1536840"/>
            <a:ext cx="6207120" cy="48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8BD0-83A0-467D-896A-62515EF64131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999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8458f"/>
                </a:solidFill>
                <a:latin typeface="Arial"/>
              </a:rPr>
              <a:t>TABLE 13.1 </a:t>
            </a:r>
            <a:r>
              <a:rPr b="0" sz="2800" spc="-1" strike="noStrike">
                <a:solidFill>
                  <a:srgbClr val="28458f"/>
                </a:solidFill>
                <a:latin typeface="Arial"/>
              </a:rPr>
              <a:t> HTML control types, corresponding XHTML elements, and their events</a:t>
            </a:r>
            <a:endParaRPr b="0" lang="en-US" sz="28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13T01" descr=""/>
          <p:cNvPicPr/>
          <p:nvPr/>
        </p:nvPicPr>
        <p:blipFill>
          <a:blip r:embed="rId2"/>
          <a:stretch/>
        </p:blipFill>
        <p:spPr>
          <a:xfrm>
            <a:off x="1552680" y="1359000"/>
            <a:ext cx="6626160" cy="50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CFF7-C8D5-4091-98BB-08D3D7D418C4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13.2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Commonly used Web controls and related XHTML element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13T02" descr=""/>
          <p:cNvPicPr/>
          <p:nvPr/>
        </p:nvPicPr>
        <p:blipFill>
          <a:blip r:embed="rId2"/>
          <a:stretch/>
        </p:blipFill>
        <p:spPr>
          <a:xfrm>
            <a:off x="1828800" y="1427040"/>
            <a:ext cx="6070680" cy="49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D795-014F-4F5E-AAC0-D40765441862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13.3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Validation Controls and their properti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13T03" descr=""/>
          <p:cNvPicPr/>
          <p:nvPr/>
        </p:nvPicPr>
        <p:blipFill>
          <a:blip r:embed="rId2"/>
          <a:stretch/>
        </p:blipFill>
        <p:spPr>
          <a:xfrm>
            <a:off x="876240" y="1600200"/>
            <a:ext cx="7969320" cy="46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56A1-C42B-4692-9ED4-FA4D56DE7064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3.2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ex4.aspx after some text boxes have been filled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13F02" descr=""/>
          <p:cNvPicPr/>
          <p:nvPr/>
        </p:nvPicPr>
        <p:blipFill>
          <a:blip r:embed="rId2"/>
          <a:stretch/>
        </p:blipFill>
        <p:spPr>
          <a:xfrm>
            <a:off x="888840" y="2449440"/>
            <a:ext cx="7955280" cy="18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1ABB-0AF1-400C-8C2D-D0CEBDADF824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3.3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An IE browser display of the Service1 Web service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13F03" descr=""/>
          <p:cNvPicPr/>
          <p:nvPr/>
        </p:nvPicPr>
        <p:blipFill>
          <a:blip r:embed="rId2"/>
          <a:stretch/>
        </p:blipFill>
        <p:spPr>
          <a:xfrm>
            <a:off x="876240" y="2371680"/>
            <a:ext cx="7983720" cy="21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04A0-5D31-4CBA-A89D-5A372E6CBABC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268596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8458f"/>
                </a:solidFill>
                <a:latin typeface="Arial"/>
              </a:rPr>
              <a:t>Figure 13.4  </a:t>
            </a:r>
            <a:br>
              <a:rPr sz="2800"/>
            </a:br>
            <a:r>
              <a:rPr b="0" sz="2800" spc="-1" strike="noStrike">
                <a:solidFill>
                  <a:srgbClr val="28458f"/>
                </a:solidFill>
                <a:latin typeface="Arial"/>
              </a:rPr>
              <a:t>The first part </a:t>
            </a:r>
            <a:br>
              <a:rPr sz="2800"/>
            </a:br>
            <a:r>
              <a:rPr b="0" sz="2800" spc="-1" strike="noStrike">
                <a:solidFill>
                  <a:srgbClr val="28458f"/>
                </a:solidFill>
                <a:latin typeface="Arial"/>
              </a:rPr>
              <a:t>of a service description</a:t>
            </a:r>
            <a:endParaRPr b="0" lang="en-US" sz="28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13F04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5356440" cy="60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AE7B-4C25-4E60-B165-A4E70C8E34DE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3.5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test display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for the Sum3 service method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13F05" descr=""/>
          <p:cNvPicPr/>
          <p:nvPr/>
        </p:nvPicPr>
        <p:blipFill>
          <a:blip r:embed="rId2"/>
          <a:stretch/>
        </p:blipFill>
        <p:spPr>
          <a:xfrm>
            <a:off x="1079640" y="1587600"/>
            <a:ext cx="7569000" cy="48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469A-E056-4880-A54D-40AA06FB4EF3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8:34:19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8:44:25Z</dcterms:modified>
  <cp:revision>4</cp:revision>
  <dc:subject/>
  <dc:title>Chapter 1</dc:title>
</cp:coreProperties>
</file>