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CFF5E-2BD6-47DB-8D43-E39B5B7708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D8A3C-5226-4F88-A772-A754C7D45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859B6-54E5-41C2-BD8C-807A7FCD4D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974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06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442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974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06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6CD86-4160-4AFD-8B70-C5B7F71FA4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33120" y="219240"/>
            <a:ext cx="7867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EFC11-7F7D-4C65-B306-99FFED438A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74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506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442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74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506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EABCC-B477-4D64-AB5D-FFAB16ED23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00A3B-A8BC-49B2-A8EA-C76B0427F7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80D60-F3CF-461F-833B-5240626AC1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33120" y="219240"/>
            <a:ext cx="7867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F0205-9B35-46BE-8E17-6D35274575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A739E-9665-4401-97FD-E831A33633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17882-4383-4F67-B2D9-A1AA3AC55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204BD-005C-4C57-9010-30D20160F0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58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787320" y="6248520"/>
            <a:ext cx="612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8458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8458f"/>
                </a:solidFill>
                <a:latin typeface="Arial"/>
              </a:rPr>
              <a:t>9-</a:t>
            </a:r>
            <a:fld id="{01FB1F71-AF94-4AFF-A40B-3EDC8EDFF9D0}" type="slidenum">
              <a:rPr b="0" lang="en-US" sz="1200" spc="-1" strike="noStrike">
                <a:solidFill>
                  <a:srgbClr val="28458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3760" y="762120"/>
            <a:ext cx="342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b1e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fb1e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3760" y="762120"/>
            <a:ext cx="342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b1e3"/>
                </a:solidFill>
                <a:latin typeface="Arial"/>
              </a:rPr>
              <a:t>Chapter 9</a:t>
            </a:r>
            <a:endParaRPr b="1" lang="en-US" sz="3600" spc="-1" strike="noStrike">
              <a:solidFill>
                <a:srgbClr val="5fb1e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333760" y="1904760"/>
            <a:ext cx="34290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sic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TABLE 9.1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 Precedence and Associativity of the Numeric Operators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1" name="Sebesta_c09T01" descr=""/>
          <p:cNvPicPr/>
          <p:nvPr/>
        </p:nvPicPr>
        <p:blipFill>
          <a:blip r:embed="rId2"/>
          <a:stretch/>
        </p:blipFill>
        <p:spPr>
          <a:xfrm>
            <a:off x="873000" y="1905120"/>
            <a:ext cx="7999560" cy="335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1EAC4-B188-4C64-AC3C-CA23F79CF249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8458f"/>
                </a:solidFill>
                <a:latin typeface="Arial"/>
              </a:rPr>
              <a:t>TABLE 9.2 </a:t>
            </a:r>
            <a:r>
              <a:rPr b="0" sz="3600" spc="-1" strike="noStrike">
                <a:solidFill>
                  <a:srgbClr val="28458f"/>
                </a:solidFill>
                <a:latin typeface="Arial"/>
              </a:rPr>
              <a:t> String Functions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3" name="Sebesta_c09T02" descr=""/>
          <p:cNvPicPr/>
          <p:nvPr/>
        </p:nvPicPr>
        <p:blipFill>
          <a:blip r:embed="rId2"/>
          <a:stretch/>
        </p:blipFill>
        <p:spPr>
          <a:xfrm>
            <a:off x="873000" y="1670040"/>
            <a:ext cx="8058240" cy="404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94247-6FF3-4169-AACE-40966F524700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8458f"/>
                </a:solidFill>
                <a:latin typeface="Arial"/>
              </a:rPr>
              <a:t>TABLE 9.3 </a:t>
            </a:r>
            <a:r>
              <a:rPr b="0" sz="3600" spc="-1" strike="noStrike">
                <a:solidFill>
                  <a:srgbClr val="28458f"/>
                </a:solidFill>
                <a:latin typeface="Arial"/>
              </a:rPr>
              <a:t> Relational Operators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5" name="Sebesta_c09T03" descr=""/>
          <p:cNvPicPr/>
          <p:nvPr/>
        </p:nvPicPr>
        <p:blipFill>
          <a:blip r:embed="rId2"/>
          <a:stretch/>
        </p:blipFill>
        <p:spPr>
          <a:xfrm>
            <a:off x="849240" y="1851120"/>
            <a:ext cx="8101080" cy="348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A40DC-BB9D-4A09-9505-ECC1F78658D8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TABLE 9.4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Operator Precedence and Associativity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7" name="Sebesta_c09T04" descr=""/>
          <p:cNvPicPr/>
          <p:nvPr/>
        </p:nvPicPr>
        <p:blipFill>
          <a:blip r:embed="rId2"/>
          <a:stretch/>
        </p:blipFill>
        <p:spPr>
          <a:xfrm>
            <a:off x="1812960" y="1482840"/>
            <a:ext cx="6105600" cy="484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BB6D6-6E29-42A1-9341-055F2E060C5F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8458f"/>
                </a:solidFill>
                <a:latin typeface="Arial"/>
              </a:rPr>
              <a:t>TABLE 9.5 </a:t>
            </a:r>
            <a:r>
              <a:rPr b="0" sz="3600" spc="-1" strike="noStrike">
                <a:solidFill>
                  <a:srgbClr val="28458f"/>
                </a:solidFill>
                <a:latin typeface="Arial"/>
              </a:rPr>
              <a:t> File Use Specifications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9" name="Sebesta_c09T05" descr=""/>
          <p:cNvPicPr/>
          <p:nvPr/>
        </p:nvPicPr>
        <p:blipFill>
          <a:blip r:embed="rId2"/>
          <a:stretch/>
        </p:blipFill>
        <p:spPr>
          <a:xfrm>
            <a:off x="896760" y="2286000"/>
            <a:ext cx="7944120" cy="214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59968-78E8-49A3-A300-77E77C762263}" type="slidenum">
              <a:t>6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1T08:07:16Z</dcterms:created>
  <dc:creator>mark temelko</dc:creator>
  <dc:description/>
  <dc:language>en-US</dc:language>
  <cp:lastModifiedBy>mark temelko</cp:lastModifiedBy>
  <cp:lastPrinted>2001-07-20T01:09:35Z</cp:lastPrinted>
  <dcterms:modified xsi:type="dcterms:W3CDTF">2005-05-31T08:10:41Z</dcterms:modified>
  <cp:revision>4</cp:revision>
  <dc:subject/>
  <dc:title>Chapter 1</dc:title>
</cp:coreProperties>
</file>