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6B0B-A3FB-4411-9C48-5419C1EFA45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9558-DF4C-4D9D-B1C0-B5B6D23E99AC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http://www.google.it/imgres?imgurl=http://www.interno.it/mininterno/export/sites/default/it/assets/images/1/20061239456.jpg&amp;imgrefurl=http://www.interno.it/mininterno/export/sites/default/it/sezioni/sala_stampa/notizie/europa/notizia_21821.html_564507203.html&amp;usg=__QqjLy1Uk_ycdM7NqrJwnns4mKCY=&amp;h=188&amp;w=180&amp;sz=15&amp;hl=it&amp;start=5&amp;itbs=1&amp;tbnid=ZPDgHQ-mPoW0zM:&amp;tbnh=102&amp;tbnw=98&amp;prev=/images%3Fq%3Dpassaporto%2Belettronico%26hl%3Dit%26client%3Dfirefox-a%26rls%3Dorg.mozilla:it:official%26gbv%3D2%26tbs%3Disch: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ggiornamento del passaporto tradizion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0637-8F30-4FAC-8130-9E2B2A9E56E2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sistema deve essere progettato in funzione del tipo di atteggiamento assunto dall’individuo da sottoporre all’analisi biomet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0D55-9607-4C27-BF9E-7344BCD92A9D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FE8-A2D6-4379-9F47-819A2E3F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F70-9F52-476D-A079-86E12AD4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EA7-D3AF-4B15-9EE5-6BCFF0EA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394-2E7A-4B4E-97A4-E9EB1F7D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2CD7-D1B6-4E53-A050-064E7913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129D-52EB-4456-A0DB-90292452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B02F-ECDF-4342-B8DC-C1EE259C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4786-5E69-4E99-8E97-11CC4D47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70B2-FAB1-4E90-BEC2-39CFA9B2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9154-BF46-4651-8505-1742F1DB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5A49-C104-4334-9E27-3474EEB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529-A91B-455B-9B40-954646FF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6276-14C8-48CB-A12B-16D38B78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9866-8618-4B17-8FBD-81B6ACC5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55D1-431F-44EB-840C-D34D735A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8066-823F-4543-AA06-60DC2222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7C66-7542-40B6-AE60-DD890100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2FBD-77A6-4579-9B43-AA94104F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1772-98B9-4518-933F-9D73E926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FE8F-3F81-4253-A4FC-480D0B37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432C-C556-4226-9F79-06AEA76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7127-6E20-46D7-AA85-2ADB7203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C5F-68FE-4A15-98A3-EA22B1B1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1656-0224-4687-94A7-30649B14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47A1-C251-4D94-BB69-F16EB959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A4D79-D571-4080-99E4-1994869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ECE6B-6EEF-488E-A29B-5065460F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0DEC8-B735-4AA1-BAE1-E4960E32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0F801-E116-44C4-BE56-066961EB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943A9-44EA-44CE-8AB5-041D9C6A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3BD4F-D9BD-4565-830C-3B14727E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CBB4-58D7-481A-B0FE-E17E486F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4C2B7-E28D-429F-8377-C96282E5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E4C-A1C4-406F-AA73-929E9D9A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024EC-8A81-488D-841A-3A3F82C6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CCCFA-54AE-46A2-B3E6-7BFDC361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5CB0-C495-4175-8B65-4F50B963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2FCD-9E6D-423F-8161-330528F4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8F30-3D95-4C50-A42F-566007C1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73C32-1DB6-4B18-BFE2-26A6D50A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CBA49-8CDE-47E3-821D-CBDF3555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A37CF-81C4-41B3-AC08-EDAA7E4E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EDE04-E7F3-4F3B-A8CF-4759E2F9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8F662-2514-4708-ABBA-23E36B82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FD2-AF54-4BF7-B804-C9987EA4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4C68F-78D8-4EB0-86A8-BBFFC16A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8F3DA-101A-48C0-B7ED-316173D0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2F2F6-EDBC-41FB-8A2F-FE45B22A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73D04-8A22-48B0-A683-0089863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38C1-AE40-4F1A-B7F2-E37ED41A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02C90-01C6-4861-BBAF-B5A6A923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9D19B-B135-4948-9252-DF2BADC5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75ED1-0CF4-4C3C-9BBE-CDA6D75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AF4C9-05D0-40CA-9D42-88A8904F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E097B-7E3C-404E-BE31-AD1C80F8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425-5BA1-4FB8-8125-3A3FFAC7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A3065-7975-4331-BD7A-0450C063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19310-66CD-450A-8E65-4C7266BA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1B48F-F603-4420-BE1F-C68A45F7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F1D15-D872-4429-A37C-3A42DF69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81AAE-CE14-469E-856E-CB2B79C3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DEB7C-840B-475E-9E1C-2B2F6043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5C2A5-689E-4525-9876-352F45C1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DBD4-F82E-4BBF-B12B-E6AED6EE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DC6D0-34A9-4BFC-B3EE-BFD951B0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2224C-ADD5-41CA-87E5-E5B0022B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A06-2047-47BA-8267-9677DF13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BAA62-D138-4599-BC8C-BBFF43C6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4D8BE-D8CF-4A2E-8ED4-34B3356C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0A199-9A33-4737-B70C-BB937205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DC5-7411-492E-9322-68FE1190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6E6-2214-4837-A6F1-49F8C125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igura a mano libera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4FF7-4142-4950-AC74-A8D665AB2921}" type="slidenum"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igura a mano libera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igura a mano libera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0D01-6D68-45D1-B8C1-EA6A5912FE1D}" type="slidenum"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igura a mano libera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igura a mano libera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F733-7FEC-4673-8850-AA8DD22DC2D8}" type="slidenum"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C736-4862-4A5A-AFDD-50DEEF7B00CA}" type="slidenum"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igura a mano libera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igura a mano libera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2B38-796F-49D4-A636-2A077DFDF460}" type="slidenum"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2EE3-5369-45FD-8F9D-C1BFEB03EAE7}" type="slidenum">
              <a:rPr b="0" lang="it-IT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7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3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olo 1" descr=""/>
          <p:cNvPicPr/>
          <p:nvPr/>
        </p:nvPicPr>
        <p:blipFill>
          <a:blip r:embed="rId1"/>
          <a:stretch/>
        </p:blipFill>
        <p:spPr>
          <a:xfrm>
            <a:off x="420840" y="3206880"/>
            <a:ext cx="7003800" cy="2438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142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lessandro Man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ementi di Sicurezza Informatica - Prof. Stefano Bistarel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Franklin Gothic Book"/>
              </a:rPr>
              <a:t>Architettura dei sistemi Biometrici - </a:t>
            </a:r>
            <a:r>
              <a:rPr b="1" lang="it-IT" sz="3600" spc="-1" strike="noStrike">
                <a:solidFill>
                  <a:srgbClr val="ffffff"/>
                </a:solidFill>
                <a:latin typeface="Franklin Gothic Book"/>
              </a:rPr>
              <a:t>Registrazion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5" name="Disco magnetico 4"/>
          <p:cNvGrpSpPr/>
          <p:nvPr/>
        </p:nvGrpSpPr>
        <p:grpSpPr>
          <a:xfrm>
            <a:off x="6272280" y="1773360"/>
            <a:ext cx="1671480" cy="1457280"/>
            <a:chOff x="6272280" y="1773360"/>
            <a:chExt cx="1671480" cy="1457280"/>
          </a:xfrm>
        </p:grpSpPr>
        <p:pic>
          <p:nvPicPr>
            <p:cNvPr id="286" name="Disco magnetico 4" descr=""/>
            <p:cNvPicPr/>
            <p:nvPr/>
          </p:nvPicPr>
          <p:blipFill>
            <a:blip r:embed="rId1"/>
            <a:stretch/>
          </p:blipFill>
          <p:spPr>
            <a:xfrm>
              <a:off x="6272280" y="1773360"/>
              <a:ext cx="1671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357960" y="2286000"/>
              <a:ext cx="1500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iometric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Freccia in su 12"/>
          <p:cNvSpPr/>
          <p:nvPr/>
        </p:nvSpPr>
        <p:spPr>
          <a:xfrm>
            <a:off x="6572160" y="3357720"/>
            <a:ext cx="1071720" cy="1000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Rettangolo 16"/>
          <p:cNvGrpSpPr/>
          <p:nvPr/>
        </p:nvGrpSpPr>
        <p:grpSpPr>
          <a:xfrm>
            <a:off x="3560760" y="5059440"/>
            <a:ext cx="1382760" cy="1096920"/>
            <a:chOff x="3560760" y="5059440"/>
            <a:chExt cx="1382760" cy="1096920"/>
          </a:xfrm>
        </p:grpSpPr>
        <p:pic>
          <p:nvPicPr>
            <p:cNvPr id="290" name="Rettangolo 16" descr=""/>
            <p:cNvPicPr/>
            <p:nvPr/>
          </p:nvPicPr>
          <p:blipFill>
            <a:blip r:embed="rId2"/>
            <a:stretch/>
          </p:blipFill>
          <p:spPr>
            <a:xfrm>
              <a:off x="3560760" y="5059440"/>
              <a:ext cx="1382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643200" y="5143680"/>
              <a:ext cx="12146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Controllo di Qualit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Esplosione 1 21"/>
          <p:cNvGrpSpPr/>
          <p:nvPr/>
        </p:nvGrpSpPr>
        <p:grpSpPr>
          <a:xfrm>
            <a:off x="5986440" y="4627440"/>
            <a:ext cx="2316240" cy="1889280"/>
            <a:chOff x="5986440" y="4627440"/>
            <a:chExt cx="2316240" cy="1889280"/>
          </a:xfrm>
        </p:grpSpPr>
        <p:pic>
          <p:nvPicPr>
            <p:cNvPr id="293" name="Esplosione 1 21" descr=""/>
            <p:cNvPicPr/>
            <p:nvPr/>
          </p:nvPicPr>
          <p:blipFill>
            <a:blip r:embed="rId3"/>
            <a:stretch/>
          </p:blipFill>
          <p:spPr>
            <a:xfrm>
              <a:off x="5986440" y="4627440"/>
              <a:ext cx="231624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531120" y="5216400"/>
              <a:ext cx="1198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eature Extrac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Rettangolo 22"/>
          <p:cNvSpPr/>
          <p:nvPr/>
        </p:nvSpPr>
        <p:spPr>
          <a:xfrm>
            <a:off x="3500280" y="4500720"/>
            <a:ext cx="4857840" cy="2143080"/>
          </a:xfrm>
          <a:prstGeom prst="rect">
            <a:avLst/>
          </a:prstGeom>
          <a:noFill/>
          <a:ln w="28440">
            <a:solidFill>
              <a:srgbClr val="4f74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CasellaDiTesto 25"/>
          <p:cNvSpPr/>
          <p:nvPr/>
        </p:nvSpPr>
        <p:spPr>
          <a:xfrm>
            <a:off x="3643200" y="464328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Ovale 26"/>
          <p:cNvGrpSpPr/>
          <p:nvPr/>
        </p:nvGrpSpPr>
        <p:grpSpPr>
          <a:xfrm>
            <a:off x="1127160" y="3413160"/>
            <a:ext cx="1744560" cy="1103400"/>
            <a:chOff x="1127160" y="3413160"/>
            <a:chExt cx="1744560" cy="1103400"/>
          </a:xfrm>
        </p:grpSpPr>
        <p:pic>
          <p:nvPicPr>
            <p:cNvPr id="298" name="Ovale 26" descr=""/>
            <p:cNvPicPr/>
            <p:nvPr/>
          </p:nvPicPr>
          <p:blipFill>
            <a:blip r:embed="rId4"/>
            <a:stretch/>
          </p:blipFill>
          <p:spPr>
            <a:xfrm>
              <a:off x="1127160" y="3413160"/>
              <a:ext cx="17445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444680" y="3637080"/>
              <a:ext cx="11113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enso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Rettangolo 27"/>
          <p:cNvGrpSpPr/>
          <p:nvPr/>
        </p:nvGrpSpPr>
        <p:grpSpPr>
          <a:xfrm>
            <a:off x="1274760" y="5126040"/>
            <a:ext cx="1382760" cy="1103400"/>
            <a:chOff x="1274760" y="5126040"/>
            <a:chExt cx="1382760" cy="1103400"/>
          </a:xfrm>
        </p:grpSpPr>
        <p:pic>
          <p:nvPicPr>
            <p:cNvPr id="301" name="Rettangolo 27" descr=""/>
            <p:cNvPicPr/>
            <p:nvPr/>
          </p:nvPicPr>
          <p:blipFill>
            <a:blip r:embed="rId5"/>
            <a:stretch/>
          </p:blipFill>
          <p:spPr>
            <a:xfrm>
              <a:off x="1274760" y="5126040"/>
              <a:ext cx="13827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1357200" y="5214960"/>
              <a:ext cx="1214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/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Freccia a destra 28"/>
          <p:cNvSpPr/>
          <p:nvPr/>
        </p:nvSpPr>
        <p:spPr>
          <a:xfrm>
            <a:off x="2714760" y="5143680"/>
            <a:ext cx="857160" cy="1000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Freccia circolare a destra 29"/>
          <p:cNvSpPr/>
          <p:nvPr/>
        </p:nvSpPr>
        <p:spPr>
          <a:xfrm rot="21247200">
            <a:off x="213840" y="3901680"/>
            <a:ext cx="968400" cy="2135160"/>
          </a:xfrm>
          <a:custGeom>
            <a:avLst/>
            <a:gdLst>
              <a:gd name="textAreaLeft" fmla="*/ 129600 w 968400"/>
              <a:gd name="textAreaRight" fmla="*/ 838800 w 968400"/>
              <a:gd name="textAreaTop" fmla="*/ 439920 h 2135160"/>
              <a:gd name="textAreaBottom" fmla="*/ 1585800 h 213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3" stAng="-5400000" swAng="-5400000"/>
                <a:lnTo>
                  <a:pt x="0" y="11591"/>
                </a:lnTo>
                <a:arcTo wR="21600" hR="8903" stAng="10800000" swAng="-3476060"/>
                <a:lnTo>
                  <a:pt x="16200" y="21317"/>
                </a:lnTo>
                <a:lnTo>
                  <a:pt x="21600" y="19149"/>
                </a:lnTo>
                <a:lnTo>
                  <a:pt x="16200" y="16415"/>
                </a:lnTo>
                <a:lnTo>
                  <a:pt x="16200" y="17522"/>
                </a:lnTo>
                <a:arcTo wR="21600" hR="8903" stAng="7323940" swAng="3259961"/>
                <a:lnTo>
                  <a:pt x="248" y="10247"/>
                </a:lnTo>
                <a:arcTo wR="21600" hR="8903" stAng="-10583901" swAng="5183901"/>
                <a:close/>
              </a:path>
              <a:path fill="darkenLess" w="21600" h="21600">
                <a:moveTo>
                  <a:pt x="21600" y="0"/>
                </a:moveTo>
                <a:arcTo wR="21600" hR="8903" stAng="-5400000" swAng="-5400000"/>
                <a:lnTo>
                  <a:pt x="0" y="8903"/>
                </a:lnTo>
                <a:arcTo wR="21600" hR="8903" stAng="10800000" swAng="-216099"/>
                <a:lnTo>
                  <a:pt x="248" y="10247"/>
                </a:lnTo>
                <a:arcTo wR="21600" hR="8903" stAng="-10583901" swAng="5183901"/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CasellaDiTesto 30"/>
          <p:cNvSpPr/>
          <p:nvPr/>
        </p:nvSpPr>
        <p:spPr>
          <a:xfrm>
            <a:off x="1143000" y="171468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aratteristica Biometr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Freccia in giù 31"/>
          <p:cNvSpPr/>
          <p:nvPr/>
        </p:nvSpPr>
        <p:spPr>
          <a:xfrm>
            <a:off x="1428840" y="2428920"/>
            <a:ext cx="1071360" cy="9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Freccia a destra 15"/>
          <p:cNvSpPr/>
          <p:nvPr/>
        </p:nvSpPr>
        <p:spPr>
          <a:xfrm>
            <a:off x="5072040" y="5143680"/>
            <a:ext cx="857160" cy="1000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Franklin Gothic Book"/>
              </a:rPr>
              <a:t>Architettura dei sistemi Biometrici – </a:t>
            </a:r>
            <a:r>
              <a:rPr b="1" lang="it-IT" sz="3600" spc="-1" strike="noStrike">
                <a:solidFill>
                  <a:srgbClr val="ffffff"/>
                </a:solidFill>
                <a:latin typeface="Franklin Gothic Book"/>
              </a:rPr>
              <a:t>Autenticazion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09" name="Disco magnetico 12"/>
          <p:cNvGrpSpPr/>
          <p:nvPr/>
        </p:nvGrpSpPr>
        <p:grpSpPr>
          <a:xfrm>
            <a:off x="6986520" y="3328920"/>
            <a:ext cx="1670040" cy="1455840"/>
            <a:chOff x="6986520" y="3328920"/>
            <a:chExt cx="1670040" cy="1455840"/>
          </a:xfrm>
        </p:grpSpPr>
        <p:pic>
          <p:nvPicPr>
            <p:cNvPr id="310" name="Disco magnetico 12" descr=""/>
            <p:cNvPicPr/>
            <p:nvPr/>
          </p:nvPicPr>
          <p:blipFill>
            <a:blip r:embed="rId1"/>
            <a:stretch/>
          </p:blipFill>
          <p:spPr>
            <a:xfrm>
              <a:off x="6986520" y="3328920"/>
              <a:ext cx="1670040" cy="14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072200" y="3844800"/>
              <a:ext cx="15004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iometric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Esplosione 1 21"/>
          <p:cNvGrpSpPr/>
          <p:nvPr/>
        </p:nvGrpSpPr>
        <p:grpSpPr>
          <a:xfrm>
            <a:off x="3560760" y="4700520"/>
            <a:ext cx="2309760" cy="1882800"/>
            <a:chOff x="3560760" y="4700520"/>
            <a:chExt cx="2309760" cy="1882800"/>
          </a:xfrm>
        </p:grpSpPr>
        <p:pic>
          <p:nvPicPr>
            <p:cNvPr id="313" name="Esplosione 1 21" descr=""/>
            <p:cNvPicPr/>
            <p:nvPr/>
          </p:nvPicPr>
          <p:blipFill>
            <a:blip r:embed="rId2"/>
            <a:stretch/>
          </p:blipFill>
          <p:spPr>
            <a:xfrm>
              <a:off x="3560760" y="4700520"/>
              <a:ext cx="230976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102200" y="5288040"/>
              <a:ext cx="1198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eature Extrac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Rettangolo 22"/>
          <p:cNvSpPr/>
          <p:nvPr/>
        </p:nvSpPr>
        <p:spPr>
          <a:xfrm>
            <a:off x="3500280" y="1643040"/>
            <a:ext cx="2428920" cy="5000760"/>
          </a:xfrm>
          <a:prstGeom prst="rect">
            <a:avLst/>
          </a:prstGeom>
          <a:noFill/>
          <a:ln w="28440">
            <a:solidFill>
              <a:srgbClr val="4f74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CasellaDiTesto 24"/>
          <p:cNvSpPr/>
          <p:nvPr/>
        </p:nvSpPr>
        <p:spPr>
          <a:xfrm>
            <a:off x="7000920" y="58453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Identit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ichiar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Esplosione 1 26"/>
          <p:cNvGrpSpPr/>
          <p:nvPr/>
        </p:nvGrpSpPr>
        <p:grpSpPr>
          <a:xfrm>
            <a:off x="3560760" y="1700280"/>
            <a:ext cx="2309760" cy="1884240"/>
            <a:chOff x="3560760" y="1700280"/>
            <a:chExt cx="2309760" cy="1884240"/>
          </a:xfrm>
        </p:grpSpPr>
        <p:pic>
          <p:nvPicPr>
            <p:cNvPr id="318" name="Esplosione 1 26" descr=""/>
            <p:cNvPicPr/>
            <p:nvPr/>
          </p:nvPicPr>
          <p:blipFill>
            <a:blip r:embed="rId3"/>
            <a:stretch/>
          </p:blipFill>
          <p:spPr>
            <a:xfrm>
              <a:off x="3560760" y="1700280"/>
              <a:ext cx="230976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4102200" y="2287440"/>
              <a:ext cx="1198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Match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Freccia in giù 27"/>
          <p:cNvSpPr/>
          <p:nvPr/>
        </p:nvSpPr>
        <p:spPr>
          <a:xfrm rot="10800000">
            <a:off x="7286760" y="4844880"/>
            <a:ext cx="1071360" cy="9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ccia a destra 30"/>
          <p:cNvSpPr/>
          <p:nvPr/>
        </p:nvSpPr>
        <p:spPr>
          <a:xfrm>
            <a:off x="6000840" y="2071800"/>
            <a:ext cx="857160" cy="1000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ccia in giù 31"/>
          <p:cNvSpPr/>
          <p:nvPr/>
        </p:nvSpPr>
        <p:spPr>
          <a:xfrm rot="10800000">
            <a:off x="4214880" y="3714480"/>
            <a:ext cx="1071360" cy="928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CasellaDiTesto 33"/>
          <p:cNvSpPr/>
          <p:nvPr/>
        </p:nvSpPr>
        <p:spPr>
          <a:xfrm>
            <a:off x="7000920" y="22147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rovato 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Non Trov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CasellaDiTesto 34"/>
          <p:cNvSpPr/>
          <p:nvPr/>
        </p:nvSpPr>
        <p:spPr>
          <a:xfrm>
            <a:off x="3571920" y="37861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Ovale 35"/>
          <p:cNvGrpSpPr/>
          <p:nvPr/>
        </p:nvGrpSpPr>
        <p:grpSpPr>
          <a:xfrm>
            <a:off x="1127160" y="3413160"/>
            <a:ext cx="1744560" cy="1103400"/>
            <a:chOff x="1127160" y="3413160"/>
            <a:chExt cx="1744560" cy="1103400"/>
          </a:xfrm>
        </p:grpSpPr>
        <p:pic>
          <p:nvPicPr>
            <p:cNvPr id="326" name="Ovale 35" descr=""/>
            <p:cNvPicPr/>
            <p:nvPr/>
          </p:nvPicPr>
          <p:blipFill>
            <a:blip r:embed="rId4"/>
            <a:stretch/>
          </p:blipFill>
          <p:spPr>
            <a:xfrm>
              <a:off x="1127160" y="3413160"/>
              <a:ext cx="17445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444680" y="3637080"/>
              <a:ext cx="11113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enso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Rettangolo 36"/>
          <p:cNvGrpSpPr/>
          <p:nvPr/>
        </p:nvGrpSpPr>
        <p:grpSpPr>
          <a:xfrm>
            <a:off x="1274760" y="5126040"/>
            <a:ext cx="1382760" cy="1103400"/>
            <a:chOff x="1274760" y="5126040"/>
            <a:chExt cx="1382760" cy="1103400"/>
          </a:xfrm>
        </p:grpSpPr>
        <p:pic>
          <p:nvPicPr>
            <p:cNvPr id="329" name="Rettangolo 36" descr=""/>
            <p:cNvPicPr/>
            <p:nvPr/>
          </p:nvPicPr>
          <p:blipFill>
            <a:blip r:embed="rId5"/>
            <a:stretch/>
          </p:blipFill>
          <p:spPr>
            <a:xfrm>
              <a:off x="1274760" y="5126040"/>
              <a:ext cx="13827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357200" y="5214960"/>
              <a:ext cx="1214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/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Freccia a destra 37"/>
          <p:cNvSpPr/>
          <p:nvPr/>
        </p:nvSpPr>
        <p:spPr>
          <a:xfrm>
            <a:off x="2714760" y="5143680"/>
            <a:ext cx="857160" cy="1000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ccia circolare a destra 38"/>
          <p:cNvSpPr/>
          <p:nvPr/>
        </p:nvSpPr>
        <p:spPr>
          <a:xfrm rot="21247200">
            <a:off x="213840" y="3901680"/>
            <a:ext cx="968400" cy="2135160"/>
          </a:xfrm>
          <a:custGeom>
            <a:avLst/>
            <a:gdLst>
              <a:gd name="textAreaLeft" fmla="*/ 129600 w 968400"/>
              <a:gd name="textAreaRight" fmla="*/ 838800 w 968400"/>
              <a:gd name="textAreaTop" fmla="*/ 439920 h 2135160"/>
              <a:gd name="textAreaBottom" fmla="*/ 1585800 h 213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3" stAng="-5400000" swAng="-5400000"/>
                <a:lnTo>
                  <a:pt x="0" y="11591"/>
                </a:lnTo>
                <a:arcTo wR="21600" hR="8903" stAng="10800000" swAng="-3476060"/>
                <a:lnTo>
                  <a:pt x="16200" y="21317"/>
                </a:lnTo>
                <a:lnTo>
                  <a:pt x="21600" y="19149"/>
                </a:lnTo>
                <a:lnTo>
                  <a:pt x="16200" y="16415"/>
                </a:lnTo>
                <a:lnTo>
                  <a:pt x="16200" y="17522"/>
                </a:lnTo>
                <a:arcTo wR="21600" hR="8903" stAng="7323940" swAng="3259961"/>
                <a:lnTo>
                  <a:pt x="248" y="10247"/>
                </a:lnTo>
                <a:arcTo wR="21600" hR="8903" stAng="-10583901" swAng="5183901"/>
                <a:close/>
              </a:path>
              <a:path fill="darkenLess" w="21600" h="21600">
                <a:moveTo>
                  <a:pt x="21600" y="0"/>
                </a:moveTo>
                <a:arcTo wR="21600" hR="8903" stAng="-5400000" swAng="-5400000"/>
                <a:lnTo>
                  <a:pt x="0" y="8903"/>
                </a:lnTo>
                <a:arcTo wR="21600" hR="8903" stAng="10800000" swAng="-216099"/>
                <a:lnTo>
                  <a:pt x="248" y="10247"/>
                </a:lnTo>
                <a:arcTo wR="21600" hR="8903" stAng="-10583901" swAng="5183901"/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CasellaDiTesto 39"/>
          <p:cNvSpPr/>
          <p:nvPr/>
        </p:nvSpPr>
        <p:spPr>
          <a:xfrm>
            <a:off x="1143000" y="171468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aratteristica Biometr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Freccia in giù 40"/>
          <p:cNvSpPr/>
          <p:nvPr/>
        </p:nvSpPr>
        <p:spPr>
          <a:xfrm>
            <a:off x="1428840" y="2428920"/>
            <a:ext cx="1071360" cy="9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Freccia in giù 41"/>
          <p:cNvSpPr/>
          <p:nvPr/>
        </p:nvSpPr>
        <p:spPr>
          <a:xfrm rot="7583400">
            <a:off x="9342360" y="5922720"/>
            <a:ext cx="1028520" cy="1013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687 -0.41605 L -0.23142 -0.24838 E">
                                      <p:cBhvr>
                                        <p:cTn id="340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ttangolo 11"/>
          <p:cNvSpPr/>
          <p:nvPr/>
        </p:nvSpPr>
        <p:spPr>
          <a:xfrm>
            <a:off x="3500280" y="1643040"/>
            <a:ext cx="2428920" cy="5000760"/>
          </a:xfrm>
          <a:prstGeom prst="rect">
            <a:avLst/>
          </a:prstGeom>
          <a:noFill/>
          <a:ln w="28440">
            <a:solidFill>
              <a:srgbClr val="4f74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Franklin Gothic Book"/>
              </a:rPr>
              <a:t>Architettura dei sistemi Biometrici – </a:t>
            </a:r>
            <a:r>
              <a:rPr b="1" lang="it-IT" sz="3600" spc="-1" strike="noStrike">
                <a:solidFill>
                  <a:srgbClr val="ffffff"/>
                </a:solidFill>
                <a:latin typeface="Franklin Gothic Book"/>
              </a:rPr>
              <a:t>Identificazion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38" name="Disco magnetico 3"/>
          <p:cNvGrpSpPr/>
          <p:nvPr/>
        </p:nvGrpSpPr>
        <p:grpSpPr>
          <a:xfrm>
            <a:off x="6986520" y="4913280"/>
            <a:ext cx="1670040" cy="1457280"/>
            <a:chOff x="6986520" y="4913280"/>
            <a:chExt cx="1670040" cy="1457280"/>
          </a:xfrm>
        </p:grpSpPr>
        <p:pic>
          <p:nvPicPr>
            <p:cNvPr id="339" name="Disco magnetico 3" descr=""/>
            <p:cNvPicPr/>
            <p:nvPr/>
          </p:nvPicPr>
          <p:blipFill>
            <a:blip r:embed="rId1"/>
            <a:stretch/>
          </p:blipFill>
          <p:spPr>
            <a:xfrm>
              <a:off x="6986520" y="4913280"/>
              <a:ext cx="1670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7072200" y="5429160"/>
              <a:ext cx="15004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iometric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CasellaDiTesto 4"/>
          <p:cNvSpPr/>
          <p:nvPr/>
        </p:nvSpPr>
        <p:spPr>
          <a:xfrm>
            <a:off x="1143000" y="171468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aratteristica Biometr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Ovale 5"/>
          <p:cNvGrpSpPr/>
          <p:nvPr/>
        </p:nvGrpSpPr>
        <p:grpSpPr>
          <a:xfrm>
            <a:off x="1127160" y="3413160"/>
            <a:ext cx="1744560" cy="1103400"/>
            <a:chOff x="1127160" y="3413160"/>
            <a:chExt cx="1744560" cy="1103400"/>
          </a:xfrm>
        </p:grpSpPr>
        <p:pic>
          <p:nvPicPr>
            <p:cNvPr id="343" name="Ovale 5" descr=""/>
            <p:cNvPicPr/>
            <p:nvPr/>
          </p:nvPicPr>
          <p:blipFill>
            <a:blip r:embed="rId2"/>
            <a:stretch/>
          </p:blipFill>
          <p:spPr>
            <a:xfrm>
              <a:off x="1127160" y="3413160"/>
              <a:ext cx="17445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444680" y="3637080"/>
              <a:ext cx="11113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enso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Rettangolo 6"/>
          <p:cNvGrpSpPr/>
          <p:nvPr/>
        </p:nvGrpSpPr>
        <p:grpSpPr>
          <a:xfrm>
            <a:off x="1274760" y="5126040"/>
            <a:ext cx="1382760" cy="1103400"/>
            <a:chOff x="1274760" y="5126040"/>
            <a:chExt cx="1382760" cy="1103400"/>
          </a:xfrm>
        </p:grpSpPr>
        <p:pic>
          <p:nvPicPr>
            <p:cNvPr id="346" name="Rettangolo 6" descr=""/>
            <p:cNvPicPr/>
            <p:nvPr/>
          </p:nvPicPr>
          <p:blipFill>
            <a:blip r:embed="rId3"/>
            <a:stretch/>
          </p:blipFill>
          <p:spPr>
            <a:xfrm>
              <a:off x="1274760" y="5126040"/>
              <a:ext cx="13827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357200" y="5214960"/>
              <a:ext cx="1214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/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Freccia a destra 7"/>
          <p:cNvSpPr/>
          <p:nvPr/>
        </p:nvSpPr>
        <p:spPr>
          <a:xfrm>
            <a:off x="2714760" y="5143680"/>
            <a:ext cx="857160" cy="1000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ccia in giù 8"/>
          <p:cNvSpPr/>
          <p:nvPr/>
        </p:nvSpPr>
        <p:spPr>
          <a:xfrm>
            <a:off x="1428840" y="2428920"/>
            <a:ext cx="1071360" cy="9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Freccia circolare a destra 9"/>
          <p:cNvSpPr/>
          <p:nvPr/>
        </p:nvSpPr>
        <p:spPr>
          <a:xfrm rot="21247200">
            <a:off x="213840" y="3901680"/>
            <a:ext cx="968400" cy="2135160"/>
          </a:xfrm>
          <a:custGeom>
            <a:avLst/>
            <a:gdLst>
              <a:gd name="textAreaLeft" fmla="*/ 129600 w 968400"/>
              <a:gd name="textAreaRight" fmla="*/ 838800 w 968400"/>
              <a:gd name="textAreaTop" fmla="*/ 439920 h 2135160"/>
              <a:gd name="textAreaBottom" fmla="*/ 1585800 h 213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3" stAng="-5400000" swAng="-5400000"/>
                <a:lnTo>
                  <a:pt x="0" y="11591"/>
                </a:lnTo>
                <a:arcTo wR="21600" hR="8903" stAng="10800000" swAng="-3476060"/>
                <a:lnTo>
                  <a:pt x="16200" y="21317"/>
                </a:lnTo>
                <a:lnTo>
                  <a:pt x="21600" y="19149"/>
                </a:lnTo>
                <a:lnTo>
                  <a:pt x="16200" y="16415"/>
                </a:lnTo>
                <a:lnTo>
                  <a:pt x="16200" y="17522"/>
                </a:lnTo>
                <a:arcTo wR="21600" hR="8903" stAng="7323940" swAng="3259961"/>
                <a:lnTo>
                  <a:pt x="248" y="10247"/>
                </a:lnTo>
                <a:arcTo wR="21600" hR="8903" stAng="-10583901" swAng="5183901"/>
                <a:close/>
              </a:path>
              <a:path fill="darkenLess" w="21600" h="21600">
                <a:moveTo>
                  <a:pt x="21600" y="0"/>
                </a:moveTo>
                <a:arcTo wR="21600" hR="8903" stAng="-5400000" swAng="-5400000"/>
                <a:lnTo>
                  <a:pt x="0" y="8903"/>
                </a:lnTo>
                <a:arcTo wR="21600" hR="8903" stAng="10800000" swAng="-216099"/>
                <a:lnTo>
                  <a:pt x="248" y="10247"/>
                </a:lnTo>
                <a:arcTo wR="21600" hR="8903" stAng="-10583901" swAng="5183901"/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Esplosione 1 10"/>
          <p:cNvGrpSpPr/>
          <p:nvPr/>
        </p:nvGrpSpPr>
        <p:grpSpPr>
          <a:xfrm>
            <a:off x="3560760" y="4700520"/>
            <a:ext cx="2309760" cy="1882800"/>
            <a:chOff x="3560760" y="4700520"/>
            <a:chExt cx="2309760" cy="1882800"/>
          </a:xfrm>
        </p:grpSpPr>
        <p:pic>
          <p:nvPicPr>
            <p:cNvPr id="352" name="Esplosione 1 10" descr=""/>
            <p:cNvPicPr/>
            <p:nvPr/>
          </p:nvPicPr>
          <p:blipFill>
            <a:blip r:embed="rId4"/>
            <a:stretch/>
          </p:blipFill>
          <p:spPr>
            <a:xfrm>
              <a:off x="3560760" y="4700520"/>
              <a:ext cx="230976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4102200" y="5288040"/>
              <a:ext cx="1198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eature Extrac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Esplosione 1 13"/>
          <p:cNvGrpSpPr/>
          <p:nvPr/>
        </p:nvGrpSpPr>
        <p:grpSpPr>
          <a:xfrm>
            <a:off x="3560760" y="1700280"/>
            <a:ext cx="2309760" cy="1884240"/>
            <a:chOff x="3560760" y="1700280"/>
            <a:chExt cx="2309760" cy="1884240"/>
          </a:xfrm>
        </p:grpSpPr>
        <p:pic>
          <p:nvPicPr>
            <p:cNvPr id="355" name="Esplosione 1 13" descr=""/>
            <p:cNvPicPr/>
            <p:nvPr/>
          </p:nvPicPr>
          <p:blipFill>
            <a:blip r:embed="rId5"/>
            <a:stretch/>
          </p:blipFill>
          <p:spPr>
            <a:xfrm>
              <a:off x="3560760" y="1700280"/>
              <a:ext cx="230976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102200" y="2287440"/>
              <a:ext cx="1198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Match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Freccia in giù 16"/>
          <p:cNvSpPr/>
          <p:nvPr/>
        </p:nvSpPr>
        <p:spPr>
          <a:xfrm rot="10800000">
            <a:off x="4214880" y="3714480"/>
            <a:ext cx="1071360" cy="928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Freccia in giù 17"/>
          <p:cNvSpPr/>
          <p:nvPr/>
        </p:nvSpPr>
        <p:spPr>
          <a:xfrm rot="7583400">
            <a:off x="9342360" y="5922720"/>
            <a:ext cx="1028520" cy="1013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CasellaDiTesto 18"/>
          <p:cNvSpPr/>
          <p:nvPr/>
        </p:nvSpPr>
        <p:spPr>
          <a:xfrm>
            <a:off x="6929280" y="2286000"/>
            <a:ext cx="17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Identificazione / Fallim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CasellaDiTesto 19"/>
          <p:cNvSpPr/>
          <p:nvPr/>
        </p:nvSpPr>
        <p:spPr>
          <a:xfrm>
            <a:off x="3571920" y="37861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umetto 4 21"/>
          <p:cNvSpPr/>
          <p:nvPr/>
        </p:nvSpPr>
        <p:spPr>
          <a:xfrm>
            <a:off x="6858000" y="3571920"/>
            <a:ext cx="1857240" cy="1214280"/>
          </a:xfrm>
          <a:prstGeom prst="cloudCallout">
            <a:avLst>
              <a:gd name="adj1" fmla="val 18111"/>
              <a:gd name="adj2" fmla="val 84976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Tem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ccia a destra 22"/>
          <p:cNvSpPr/>
          <p:nvPr/>
        </p:nvSpPr>
        <p:spPr>
          <a:xfrm>
            <a:off x="6000840" y="2071800"/>
            <a:ext cx="857160" cy="1000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687 -0.41651 L -0.23142 -0.25879 E">
                                      <p:cBhvr>
                                        <p:cTn id="443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-1928880" y="2000160"/>
            <a:ext cx="1285920" cy="2162160"/>
          </a:xfrm>
          <a:prstGeom prst="rect">
            <a:avLst/>
          </a:prstGeom>
          <a:ln w="0">
            <a:noFill/>
          </a:ln>
        </p:spPr>
      </p:pic>
      <p:sp>
        <p:nvSpPr>
          <p:cNvPr id="364" name="Freccia a destra 11"/>
          <p:cNvSpPr/>
          <p:nvPr/>
        </p:nvSpPr>
        <p:spPr>
          <a:xfrm>
            <a:off x="-1785960" y="4286160"/>
            <a:ext cx="928800" cy="1000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Templ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599840"/>
            <a:ext cx="461484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Le sagome riportano 1/100 - 1/1000 dell’informazione di un campione biometri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Da un template non si può ricostruire un campi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egnaposto contenuto 2"/>
          <p:cNvSpPr/>
          <p:nvPr/>
        </p:nvSpPr>
        <p:spPr>
          <a:xfrm>
            <a:off x="428760" y="4714920"/>
            <a:ext cx="81439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La dimensione ridotta favorisce la cifratura e la memorizzazione su più tipi di suppor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143680" y="2071800"/>
            <a:ext cx="1304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6267 -0.22918 L 0.92013 -0.22918 E">
                                      <p:cBhvr>
                                        <p:cTn id="471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481 0.0192 L 0.7981 0.0192 E">
                                      <p:cBhvr>
                                        <p:cTn id="474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Sicurezza nei Sistemi Biometrici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icurezza del dato biomet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sure di sicurezza per i dati adottate dura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La memorizzazi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Il traspor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L’integrazione nel siste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l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trasporto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riguar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collegamenti di r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dispositivi di acquisizione d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Attacchi ai sistemi Biometrici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Digital Spoofing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Replay Attack: furto di un’immagine digitalizz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Manipolazione: rivolto ad aumentare il F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Trojan: per fornire dati errati al Featur Extrac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lterazione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del risultato finale del sistema biometric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Physical Spoofing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Simulazione fisica della caratteristica biometr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G:\mAnEX_661\Università\Elementi di Sicurezza Informatica\Seminario\materiale\fingerprint.png"/>
          <p:cNvPicPr/>
          <p:nvPr/>
        </p:nvPicPr>
        <p:blipFill>
          <a:blip r:embed="rId1"/>
          <a:stretch/>
        </p:blipFill>
        <p:spPr>
          <a:xfrm>
            <a:off x="4929120" y="1071720"/>
            <a:ext cx="3884760" cy="56116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Fingerprint Recogn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811548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Un'impronta digitale appare come una serie di creste e solchi intervallate da discontinuità dette “minutiae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Ogni impronta è costituita da tre gruppi di segni o sistemi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basilare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: linee trasversali parallele alla linea interdigita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marginale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: linee arcuate che seguono il margine esterno del polpastrell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centrale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: costituite dal vortice o ansa al centr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indefinite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Fingerprint Recognition – Rappresentazione (1/2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14240" y="1571760"/>
            <a:ext cx="332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Local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Terminazion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Biforcazion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Global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Core poi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Delta poi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G:\mAnEX_661\Università\Elementi di Sicurezza Informatica\Seminario\materiale\fingerprint.png"/>
          <p:cNvPicPr/>
          <p:nvPr/>
        </p:nvPicPr>
        <p:blipFill>
          <a:blip r:embed="rId1"/>
          <a:stretch/>
        </p:blipFill>
        <p:spPr>
          <a:xfrm>
            <a:off x="4929120" y="1071720"/>
            <a:ext cx="3884760" cy="5611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uppo 49"/>
          <p:cNvGrpSpPr/>
          <p:nvPr/>
        </p:nvGrpSpPr>
        <p:grpSpPr>
          <a:xfrm>
            <a:off x="3643200" y="2000160"/>
            <a:ext cx="2928960" cy="928440"/>
            <a:chOff x="3643200" y="2000160"/>
            <a:chExt cx="2928960" cy="928440"/>
          </a:xfrm>
        </p:grpSpPr>
        <p:sp>
          <p:nvSpPr>
            <p:cNvPr id="380" name="Anello 14"/>
            <p:cNvSpPr/>
            <p:nvPr/>
          </p:nvSpPr>
          <p:spPr>
            <a:xfrm>
              <a:off x="6143760" y="2000160"/>
              <a:ext cx="428400" cy="428760"/>
            </a:xfrm>
            <a:prstGeom prst="pie">
              <a:avLst/>
            </a:prstGeom>
            <a:solidFill>
              <a:srgbClr val="ff000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1" name="Connettore 4 9"/>
            <p:cNvCxnSpPr>
              <a:endCxn id="380" idx="8"/>
            </p:cNvCxnSpPr>
            <p:nvPr/>
          </p:nvCxnSpPr>
          <p:spPr>
            <a:xfrm flipV="1">
              <a:off x="3643200" y="2213640"/>
              <a:ext cx="2501280" cy="715320"/>
            </a:xfrm>
            <a:prstGeom prst="bentConnector3">
              <a:avLst>
                <a:gd name="adj1" fmla="val 49992"/>
              </a:avLst>
            </a:prstGeom>
            <a:ln w="507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382" name="Gruppo 20"/>
          <p:cNvGrpSpPr/>
          <p:nvPr/>
        </p:nvGrpSpPr>
        <p:grpSpPr>
          <a:xfrm>
            <a:off x="3642840" y="3000240"/>
            <a:ext cx="4572360" cy="500040"/>
            <a:chOff x="3642840" y="3000240"/>
            <a:chExt cx="4572360" cy="500040"/>
          </a:xfrm>
        </p:grpSpPr>
        <p:sp>
          <p:nvSpPr>
            <p:cNvPr id="383" name="Anello 19"/>
            <p:cNvSpPr/>
            <p:nvPr/>
          </p:nvSpPr>
          <p:spPr>
            <a:xfrm>
              <a:off x="7715160" y="3000240"/>
              <a:ext cx="500040" cy="500040"/>
            </a:xfrm>
            <a:prstGeom prst="pie">
              <a:avLst/>
            </a:prstGeom>
            <a:solidFill>
              <a:srgbClr val="ff000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4" name="Connettore 4 17"/>
            <p:cNvCxnSpPr>
              <a:endCxn id="383" idx="8"/>
            </p:cNvCxnSpPr>
            <p:nvPr/>
          </p:nvCxnSpPr>
          <p:spPr>
            <a:xfrm flipV="1">
              <a:off x="3642840" y="3249720"/>
              <a:ext cx="4072680" cy="179280"/>
            </a:xfrm>
            <a:prstGeom prst="bentConnector3">
              <a:avLst>
                <a:gd name="adj1" fmla="val 30896"/>
              </a:avLst>
            </a:prstGeom>
            <a:ln w="507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385" name="Gruppo 54"/>
          <p:cNvGrpSpPr/>
          <p:nvPr/>
        </p:nvGrpSpPr>
        <p:grpSpPr>
          <a:xfrm>
            <a:off x="3571560" y="3857760"/>
            <a:ext cx="3715200" cy="1071000"/>
            <a:chOff x="3571560" y="3857760"/>
            <a:chExt cx="3715200" cy="1071000"/>
          </a:xfrm>
        </p:grpSpPr>
        <p:sp>
          <p:nvSpPr>
            <p:cNvPr id="386" name="Anello 24"/>
            <p:cNvSpPr/>
            <p:nvPr/>
          </p:nvSpPr>
          <p:spPr>
            <a:xfrm>
              <a:off x="6643800" y="3857760"/>
              <a:ext cx="642960" cy="642960"/>
            </a:xfrm>
            <a:prstGeom prst="pie">
              <a:avLst/>
            </a:prstGeom>
            <a:solidFill>
              <a:srgbClr val="ff000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7" name="Connettore 4 22"/>
            <p:cNvCxnSpPr>
              <a:endCxn id="386" idx="8"/>
            </p:cNvCxnSpPr>
            <p:nvPr/>
          </p:nvCxnSpPr>
          <p:spPr>
            <a:xfrm flipV="1">
              <a:off x="3571560" y="4178520"/>
              <a:ext cx="3072600" cy="750600"/>
            </a:xfrm>
            <a:prstGeom prst="bentConnector3">
              <a:avLst>
                <a:gd name="adj1" fmla="val 43332"/>
              </a:avLst>
            </a:prstGeom>
            <a:ln w="507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388" name="Gruppo 55"/>
          <p:cNvGrpSpPr/>
          <p:nvPr/>
        </p:nvGrpSpPr>
        <p:grpSpPr>
          <a:xfrm>
            <a:off x="3571920" y="4714920"/>
            <a:ext cx="2571840" cy="713880"/>
            <a:chOff x="3571920" y="4714920"/>
            <a:chExt cx="2571840" cy="713880"/>
          </a:xfrm>
        </p:grpSpPr>
        <p:sp>
          <p:nvSpPr>
            <p:cNvPr id="389" name="Anello 37"/>
            <p:cNvSpPr/>
            <p:nvPr/>
          </p:nvSpPr>
          <p:spPr>
            <a:xfrm>
              <a:off x="5500800" y="4714920"/>
              <a:ext cx="642960" cy="642960"/>
            </a:xfrm>
            <a:prstGeom prst="pie">
              <a:avLst/>
            </a:prstGeom>
            <a:solidFill>
              <a:srgbClr val="ff000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90" name="Connettore 4 35"/>
            <p:cNvCxnSpPr>
              <a:endCxn id="389" idx="8"/>
            </p:cNvCxnSpPr>
            <p:nvPr/>
          </p:nvCxnSpPr>
          <p:spPr>
            <a:xfrm flipV="1">
              <a:off x="3571920" y="5035680"/>
              <a:ext cx="1929600" cy="393480"/>
            </a:xfrm>
            <a:prstGeom prst="bentConnector3">
              <a:avLst>
                <a:gd name="adj1" fmla="val 68389"/>
              </a:avLst>
            </a:prstGeom>
            <a:ln w="507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indefinite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indefinite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indefinite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Fingerprint Recognition – Rappresentazione (2/2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14240" y="1571760"/>
            <a:ext cx="332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Altre Minutia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Po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a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4" descr="G:\mAnEX_661\Università\Elementi di Sicurezza Informatica\Seminario\materiale\fingerprint.png"/>
          <p:cNvPicPr/>
          <p:nvPr/>
        </p:nvPicPr>
        <p:blipFill>
          <a:blip r:embed="rId1"/>
          <a:stretch/>
        </p:blipFill>
        <p:spPr>
          <a:xfrm>
            <a:off x="4929120" y="1071720"/>
            <a:ext cx="3884760" cy="5611680"/>
          </a:xfrm>
          <a:prstGeom prst="rect">
            <a:avLst/>
          </a:prstGeom>
          <a:ln w="0">
            <a:noFill/>
          </a:ln>
        </p:spPr>
      </p:pic>
      <p:grpSp>
        <p:nvGrpSpPr>
          <p:cNvPr id="394" name="Gruppo 58"/>
          <p:cNvGrpSpPr/>
          <p:nvPr/>
        </p:nvGrpSpPr>
        <p:grpSpPr>
          <a:xfrm>
            <a:off x="2785680" y="1500120"/>
            <a:ext cx="4429440" cy="1428840"/>
            <a:chOff x="2785680" y="1500120"/>
            <a:chExt cx="4429440" cy="1428840"/>
          </a:xfrm>
        </p:grpSpPr>
        <p:cxnSp>
          <p:nvCxnSpPr>
            <p:cNvPr id="395" name="Connettore 4 21"/>
            <p:cNvCxnSpPr>
              <a:endCxn id="396" idx="8"/>
            </p:cNvCxnSpPr>
            <p:nvPr/>
          </p:nvCxnSpPr>
          <p:spPr>
            <a:xfrm flipV="1">
              <a:off x="2785680" y="1713960"/>
              <a:ext cx="4001400" cy="1215360"/>
            </a:xfrm>
            <a:prstGeom prst="bentConnector3">
              <a:avLst>
                <a:gd name="adj1" fmla="val 38734"/>
              </a:avLst>
            </a:prstGeom>
            <a:ln w="507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96" name="Anello 32"/>
            <p:cNvSpPr/>
            <p:nvPr/>
          </p:nvSpPr>
          <p:spPr>
            <a:xfrm>
              <a:off x="6786720" y="1500120"/>
              <a:ext cx="428400" cy="428400"/>
            </a:xfrm>
            <a:prstGeom prst="pie">
              <a:avLst/>
            </a:prstGeom>
            <a:solidFill>
              <a:srgbClr val="ff000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Gruppo 57"/>
          <p:cNvGrpSpPr/>
          <p:nvPr/>
        </p:nvGrpSpPr>
        <p:grpSpPr>
          <a:xfrm>
            <a:off x="2786040" y="2286000"/>
            <a:ext cx="3500640" cy="1107720"/>
            <a:chOff x="2786040" y="2286000"/>
            <a:chExt cx="3500640" cy="1107720"/>
          </a:xfrm>
        </p:grpSpPr>
        <p:sp>
          <p:nvSpPr>
            <p:cNvPr id="398" name="Anello 20"/>
            <p:cNvSpPr/>
            <p:nvPr/>
          </p:nvSpPr>
          <p:spPr>
            <a:xfrm>
              <a:off x="5643720" y="2286000"/>
              <a:ext cx="642960" cy="643320"/>
            </a:xfrm>
            <a:prstGeom prst="pie">
              <a:avLst/>
            </a:prstGeom>
            <a:solidFill>
              <a:srgbClr val="ff000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99" name="Connettore 4 39"/>
            <p:cNvCxnSpPr>
              <a:endCxn id="398" idx="8"/>
            </p:cNvCxnSpPr>
            <p:nvPr/>
          </p:nvCxnSpPr>
          <p:spPr>
            <a:xfrm flipV="1">
              <a:off x="2786040" y="2606760"/>
              <a:ext cx="2858400" cy="787320"/>
            </a:xfrm>
            <a:prstGeom prst="bentConnector3">
              <a:avLst>
                <a:gd name="adj1" fmla="val 73875"/>
              </a:avLst>
            </a:prstGeom>
            <a:ln w="507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400" name="Gruppo 55"/>
          <p:cNvGrpSpPr/>
          <p:nvPr/>
        </p:nvGrpSpPr>
        <p:grpSpPr>
          <a:xfrm>
            <a:off x="2786040" y="3928680"/>
            <a:ext cx="5214960" cy="2000520"/>
            <a:chOff x="2786040" y="3928680"/>
            <a:chExt cx="5214960" cy="2000520"/>
          </a:xfrm>
        </p:grpSpPr>
        <p:cxnSp>
          <p:nvCxnSpPr>
            <p:cNvPr id="401" name="Connettore 4 25"/>
            <p:cNvCxnSpPr>
              <a:endCxn id="402" idx="8"/>
            </p:cNvCxnSpPr>
            <p:nvPr/>
          </p:nvCxnSpPr>
          <p:spPr>
            <a:xfrm>
              <a:off x="2786040" y="3928680"/>
              <a:ext cx="4787280" cy="1786680"/>
            </a:xfrm>
            <a:prstGeom prst="bentConnector3">
              <a:avLst>
                <a:gd name="adj1" fmla="val 32029"/>
              </a:avLst>
            </a:prstGeom>
            <a:ln w="507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402" name="Anello 49"/>
            <p:cNvSpPr/>
            <p:nvPr/>
          </p:nvSpPr>
          <p:spPr>
            <a:xfrm>
              <a:off x="7572600" y="5500800"/>
              <a:ext cx="428400" cy="428400"/>
            </a:xfrm>
            <a:prstGeom prst="pie">
              <a:avLst/>
            </a:prstGeom>
            <a:solidFill>
              <a:srgbClr val="ff000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indefinite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indefinite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G:\mAnEX_661\Università\Elementi di Sicurezza Informatica\Seminario\materiale\fingerprint.png"/>
          <p:cNvPicPr/>
          <p:nvPr/>
        </p:nvPicPr>
        <p:blipFill>
          <a:blip r:embed="rId1"/>
          <a:stretch/>
        </p:blipFill>
        <p:spPr>
          <a:xfrm>
            <a:off x="4929120" y="1071720"/>
            <a:ext cx="3884760" cy="56116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Fingerprint Recognition – Registrazion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trollo della qualità: almeno 25 minutiae recuperabili dal camp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 campioni vengono acquisiti con una risoluzione di 500 d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trazione delle caratteristic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ima dell’orien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ppa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strazione delle minuti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indefinite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Immagine 3" descr="retina.png"/>
          <p:cNvPicPr/>
          <p:nvPr/>
        </p:nvPicPr>
        <p:blipFill>
          <a:blip r:embed="rId1"/>
          <a:stretch/>
        </p:blipFill>
        <p:spPr>
          <a:xfrm>
            <a:off x="7000920" y="-1643040"/>
            <a:ext cx="1401840" cy="10825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Sistemi di identificazione personal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Automated Identification and Data Capture (AID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Data Carri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upporti ottici, magnetici, elettro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Features Extra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Caratteristiche statich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Caratteristiche dinamich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G:\Documents and Settings\mAnEX\Desktop\iride-mappata.jpg"/>
          <p:cNvPicPr/>
          <p:nvPr/>
        </p:nvPicPr>
        <p:blipFill>
          <a:blip r:embed="rId2"/>
          <a:stretch/>
        </p:blipFill>
        <p:spPr>
          <a:xfrm>
            <a:off x="5786280" y="-1643040"/>
            <a:ext cx="1140120" cy="1090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G:\Documents and Settings\mAnEX\Desktop\fingerprint.jpg"/>
          <p:cNvPicPr/>
          <p:nvPr/>
        </p:nvPicPr>
        <p:blipFill>
          <a:blip r:embed="rId3"/>
          <a:stretch/>
        </p:blipFill>
        <p:spPr>
          <a:xfrm>
            <a:off x="4549680" y="-1714680"/>
            <a:ext cx="790560" cy="1143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G:\Documents and Settings\mAnEX\Desktop\face-recognition.jpg"/>
          <p:cNvPicPr/>
          <p:nvPr/>
        </p:nvPicPr>
        <p:blipFill>
          <a:blip r:embed="rId4"/>
          <a:stretch/>
        </p:blipFill>
        <p:spPr>
          <a:xfrm>
            <a:off x="3071880" y="-1714680"/>
            <a:ext cx="8571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91 0.07262 C -0.05295 0.15495 0.00034 0.23705 0.03333 0.33557 C 0.06632 0.43478 0.08698 0.571 0.09236 0.66628 C 0.09774 0.7618 0.08177 0.83488 0.0658 0.90796 E">
                                      <p:cBhvr>
                                        <p:cTn id="11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16 0.07193 C 0.08281 0.14455 0.13299 0.21693 0.16632 0.30273 C 0.19983 0.389 0.22222 0.52012 0.23385 0.58812 C 0.24583 0.65657 0.24062 0.68363 0.23576 0.71185 E">
                                      <p:cBhvr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75 0.08904 C 0.23264 0.14315 0.27882 0.1975 0.31024 0.26942 C 0.34132 0.34065 0.35868 0.42923 0.37656 0.51896 E">
                                      <p:cBhvr>
                                        <p:cTn id="27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49 0.0673 C 0.38941 0.11864 0.43438 0.1716 0.4592 0.21022 C 0.4842 0.24838 0.48941 0.27243 0.49514 0.2981 E">
                                      <p:cBhvr>
                                        <p:cTn id="30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G:\mAnEX_661\Università\Elementi di Sicurezza Informatica\Seminario\materiale\fingerprint.png"/>
          <p:cNvPicPr/>
          <p:nvPr/>
        </p:nvPicPr>
        <p:blipFill>
          <a:blip r:embed="rId1"/>
          <a:stretch/>
        </p:blipFill>
        <p:spPr>
          <a:xfrm>
            <a:off x="4929120" y="1071720"/>
            <a:ext cx="3884760" cy="5611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Fingerprint Recognition – Classificazione (1/2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Occorre ridurre il numero di confron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I migliori approcci non si basano solo sulle minutia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Integrano andamenti e mappe delle creste epidermich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Sfruttano anche le minutiae quando possibi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indefinite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G:\mAnEX_661\Università\Elementi di Sicurezza Informatica\Seminario\materiale\fingerprint.png"/>
          <p:cNvPicPr/>
          <p:nvPr/>
        </p:nvPicPr>
        <p:blipFill>
          <a:blip r:embed="rId1"/>
          <a:stretch/>
        </p:blipFill>
        <p:spPr>
          <a:xfrm>
            <a:off x="4929120" y="1071720"/>
            <a:ext cx="3884760" cy="56116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Fingerprint Recognition – Classificazione (2/2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599840"/>
            <a:ext cx="7467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Le 5 maggiori classi di impro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Immagine 4" descr=""/>
          <p:cNvPicPr/>
          <p:nvPr/>
        </p:nvPicPr>
        <p:blipFill>
          <a:blip r:embed="rId2"/>
          <a:stretch/>
        </p:blipFill>
        <p:spPr>
          <a:xfrm>
            <a:off x="1928880" y="2357280"/>
            <a:ext cx="5297400" cy="1467000"/>
          </a:xfrm>
          <a:prstGeom prst="rect">
            <a:avLst/>
          </a:prstGeom>
          <a:ln w="0">
            <a:noFill/>
          </a:ln>
        </p:spPr>
      </p:pic>
      <p:sp>
        <p:nvSpPr>
          <p:cNvPr id="413" name="Segnaposto contenuto 2"/>
          <p:cNvSpPr/>
          <p:nvPr/>
        </p:nvSpPr>
        <p:spPr>
          <a:xfrm>
            <a:off x="500040" y="4000680"/>
            <a:ext cx="7467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La FBI considera altre tre categori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3"/>
          <a:stretch/>
        </p:blipFill>
        <p:spPr>
          <a:xfrm>
            <a:off x="2857680" y="4714920"/>
            <a:ext cx="3609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indefinite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G:\mAnEX_661\Università\Elementi di Sicurezza Informatica\Seminario\materiale\fingerprint.png"/>
          <p:cNvPicPr/>
          <p:nvPr/>
        </p:nvPicPr>
        <p:blipFill>
          <a:blip r:embed="rId1"/>
          <a:stretch/>
        </p:blipFill>
        <p:spPr>
          <a:xfrm>
            <a:off x="4929120" y="1071720"/>
            <a:ext cx="3884760" cy="56116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Fingerprint Recognition – Matching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pprocc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Image bas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Ridge pattern bas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Point pattern bas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llineamento: Rotazione, traslazione e sca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lgoritmo adattivo di confronto basato su stringh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Raggi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Angolo radi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Direzione della singolarità rispetto alla cres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2"/>
          <a:stretch/>
        </p:blipFill>
        <p:spPr>
          <a:xfrm>
            <a:off x="4786200" y="1143000"/>
            <a:ext cx="29052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indefinite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G:\mAnEX_661\Università\Elementi di Sicurezza Informatica\Seminario\materiale\fingerprint.png"/>
          <p:cNvPicPr/>
          <p:nvPr/>
        </p:nvPicPr>
        <p:blipFill>
          <a:blip r:embed="rId1"/>
          <a:stretch/>
        </p:blipFill>
        <p:spPr>
          <a:xfrm>
            <a:off x="4929120" y="1071720"/>
            <a:ext cx="3884760" cy="56116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Fingerprint Recognition – Vantaggi e Svantaggi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21" name="Segnaposto contenuto 2" descr=""/>
          <p:cNvPicPr/>
          <p:nvPr/>
        </p:nvPicPr>
        <p:blipFill>
          <a:blip r:embed="rId2"/>
          <a:stretch/>
        </p:blipFill>
        <p:spPr>
          <a:xfrm>
            <a:off x="450720" y="1468440"/>
            <a:ext cx="83883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indefinite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Face Recogn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Tecnica poco intrusiva di riconoscimento biometric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Il volto umano è costituito da un complesso di immagini multidimensional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Si usa per lo più per sistemi di autenticazi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Non è richiesta alcuna cooperazione da parte dell’ut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Comunemente accettata dalle pers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Scarsa permanenza del carattere biometric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Connettore 1 4"/>
          <p:cNvSpPr/>
          <p:nvPr/>
        </p:nvSpPr>
        <p:spPr>
          <a:xfrm>
            <a:off x="571680" y="5072040"/>
            <a:ext cx="778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G:\Documents and Settings\mAnEX\Desktop\face-recognition.jpg"/>
          <p:cNvPicPr/>
          <p:nvPr/>
        </p:nvPicPr>
        <p:blipFill>
          <a:blip r:embed="rId5"/>
          <a:stretch/>
        </p:blipFill>
        <p:spPr>
          <a:xfrm>
            <a:off x="3071880" y="-1714680"/>
            <a:ext cx="8571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49 0.0673 C 0.38941 0.11864 0.43438 0.1716 0.4592 0.21022 C 0.4842 0.24838 0.48941 0.27243 0.49514 0.2981 E">
                                      <p:cBhvr>
                                        <p:cTn id="89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Iris and Retina Recogn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28400" y="15717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L’iride è la parte colorata che circonda la pupilla ed è delimitata dalla sclera del bulbo ocul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L’iride presenta un gran numero di particolari e dettagli di uno spiccato grado di unicit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5" descr="G:\Documents and Settings\mAnEX\Desktop\2007-11-28_iris-recognition-biometric-passport.jpg"/>
          <p:cNvPicPr/>
          <p:nvPr/>
        </p:nvPicPr>
        <p:blipFill>
          <a:blip r:embed="rId1"/>
          <a:stretch/>
        </p:blipFill>
        <p:spPr>
          <a:xfrm>
            <a:off x="6072120" y="4643280"/>
            <a:ext cx="2879640" cy="2051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G:\Documents and Settings\mAnEX\Desktop\iride-mappata.jpg"/>
          <p:cNvPicPr/>
          <p:nvPr/>
        </p:nvPicPr>
        <p:blipFill>
          <a:blip r:embed="rId2"/>
          <a:stretch/>
        </p:blipFill>
        <p:spPr>
          <a:xfrm>
            <a:off x="5786280" y="-1643040"/>
            <a:ext cx="114012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16 0.07193 C 0.08281 0.14455 0.13299 0.21693 0.16632 0.30273 C 0.19983 0.389 0.22222 0.52012 0.23385 0.58812 C 0.24583 0.65657 0.24062 0.68363 0.23576 0.71185 E">
                                      <p:cBhvr>
                                        <p:cTn id="946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Immagine 4" descr=""/>
          <p:cNvPicPr/>
          <p:nvPr/>
        </p:nvPicPr>
        <p:blipFill>
          <a:blip r:embed="rId1"/>
          <a:stretch/>
        </p:blipFill>
        <p:spPr>
          <a:xfrm>
            <a:off x="6357960" y="1214280"/>
            <a:ext cx="2543040" cy="17146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Iris and Retina Recogn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Lo schema vascolare della retina è permanente e uni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Memorizzazione del riflesso della retina mediante un dispositivo I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Sistema intrusivo e percepito come pericolos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Immagine 4" descr="retina.png"/>
          <p:cNvPicPr/>
          <p:nvPr/>
        </p:nvPicPr>
        <p:blipFill>
          <a:blip r:embed="rId2"/>
          <a:stretch/>
        </p:blipFill>
        <p:spPr>
          <a:xfrm>
            <a:off x="7000920" y="-1643040"/>
            <a:ext cx="14018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indefinite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91 0.07262 C -0.05295 0.15495 0.00034 0.23705 0.03333 0.33557 C 0.06632 0.43478 0.08698 0.571 0.09236 0.66628 C 0.09774 0.7618 0.08177 0.83488 0.0658 0.90796 E">
                                      <p:cBhvr>
                                        <p:cTn id="972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G:\mAnEX_661\Università\Elementi di Sicurezza Informatica\Seminario\materiale\voice-recognition.jpg"/>
          <p:cNvPicPr/>
          <p:nvPr/>
        </p:nvPicPr>
        <p:blipFill>
          <a:blip r:embed="rId1"/>
          <a:stretch/>
        </p:blipFill>
        <p:spPr>
          <a:xfrm>
            <a:off x="5929200" y="3786120"/>
            <a:ext cx="2911680" cy="28339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Voice Recogn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Individua l’impronta vocale di un individuo in base all’analisi in frequenza delle onde acustiche prodotte dalla risonanza delle corde vocal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Accettabilità da parte del pubblic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Sistema semplice da sviluppare con tecnologie comunemente presenti in ambienti informatizzat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Le impronte vocali sono soggette agli stati emotivi delle person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I rumori di fondo possono inficiare l’efficienza del sistem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Connettore 1 3"/>
          <p:cNvSpPr/>
          <p:nvPr/>
        </p:nvSpPr>
        <p:spPr>
          <a:xfrm>
            <a:off x="571680" y="3998880"/>
            <a:ext cx="77864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indefinite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Immagine 3" descr=""/>
          <p:cNvPicPr/>
          <p:nvPr/>
        </p:nvPicPr>
        <p:blipFill>
          <a:blip r:embed="rId1"/>
          <a:stretch/>
        </p:blipFill>
        <p:spPr>
          <a:xfrm>
            <a:off x="6357960" y="2214720"/>
            <a:ext cx="2443320" cy="17143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Signature Recogn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Esistono sistemi piuttosto avanzati per il riconoscimento della firma in grado di tenere conto di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Velocità d’esecu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aietto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cceler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odulazione della pressione durante la scrit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User friendly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Tecnica accettata e utilizzat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Le firme possono essere contraffatt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Condizioni fisiche ed emo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Cambiano con il passare del temp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Connettore 1 4"/>
          <p:cNvSpPr/>
          <p:nvPr/>
        </p:nvSpPr>
        <p:spPr>
          <a:xfrm>
            <a:off x="500040" y="4643280"/>
            <a:ext cx="7786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indefinite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500880" y="357120"/>
            <a:ext cx="2209680" cy="1305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Stile di Battitura (1/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i può ipotizzare che ogni individuo abbia un proprio stile di battitura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 realtà questa caratteristica comportamentale non rispetta a pieno l’unicità, ma in certe applicazioni può avere potere discrimin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well tim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 tempo di permanenza su un tasto batt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Flight tim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 periodo tra due key up o due key d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indefinite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Caratteristiche biometriche (1/2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Segnaposto contenuto 6" descr=""/>
          <p:cNvPicPr/>
          <p:nvPr/>
        </p:nvPicPr>
        <p:blipFill>
          <a:blip r:embed="rId1"/>
          <a:stretch/>
        </p:blipFill>
        <p:spPr>
          <a:xfrm>
            <a:off x="-6480" y="566640"/>
            <a:ext cx="916308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6500880" y="357120"/>
            <a:ext cx="2209680" cy="1305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Stile di Battitura (2/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o stile di battitura non è intru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on richiede ulteriori hardware collegati al 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È appropriata per l’immissione di grandi quantità di d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carsamente sicura ed affidab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lcuni individui hanno pattern di battitura altamente variab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oblemi di standardizzazione delle tasti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Connettore 1 4"/>
          <p:cNvSpPr/>
          <p:nvPr/>
        </p:nvSpPr>
        <p:spPr>
          <a:xfrm>
            <a:off x="571680" y="3784680"/>
            <a:ext cx="778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indefinite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Tabella riassuntiv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50" name="Segnaposto contenuto 3" descr=""/>
          <p:cNvPicPr/>
          <p:nvPr/>
        </p:nvPicPr>
        <p:blipFill>
          <a:blip r:embed="rId1"/>
          <a:stretch/>
        </p:blipFill>
        <p:spPr>
          <a:xfrm>
            <a:off x="1357200" y="2143080"/>
            <a:ext cx="63248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Motivazion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500040" y="157140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Aumento delle violazioni della sicurez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Attività fraudolente nelle transazioni economi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Consapevolezza diffusa dei problemi di sicurez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Applicazion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7686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trollo degli accessi fisici e informati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ccreditamento e servizi presso istituzio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irma digitale e firma biome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nticontraffazione dei documenti d’identit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assaporto elettro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Ministero degli Affari Esteri - Decreto 29/11/200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Passaporto con chip nascosto contenente dati anagrafici e biometrici (fingerpri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Verif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76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Arial"/>
              </a:rPr>
              <a:t>Corrispondenza tra i dati cartacei e digital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76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Arial"/>
              </a:rPr>
              <a:t>Verifica “dal vivo” delle impronte digital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Vantaggi e Svantagg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Gli aspetti non possono essere persi o dimenticat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Per autenticarsi basta presentarsi di perso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Falsificazione molto ardu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I dispositivi non garantiscono il 100% dell’accuratezz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lcuni utenti non possono usare certe tecnolog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728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Golden Window” 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passaporto biometric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Il dato biometrico è molto sensibile e in caso di “furto” è impossibile rigenerarl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Connettore 1 8"/>
          <p:cNvSpPr/>
          <p:nvPr/>
        </p:nvSpPr>
        <p:spPr>
          <a:xfrm>
            <a:off x="571680" y="3141720"/>
            <a:ext cx="778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5520" y="2714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Franklin Gothic Book"/>
              </a:rPr>
              <a:t>Grazie</a:t>
            </a:r>
            <a:br>
              <a:rPr sz="3600"/>
            </a:b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per la cortese attenzion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59" name="Picture 2" descr="G:\mAnEX_661\Università\Elementi di Sicurezza Informatica\Seminario\materiale\volley.png"/>
          <p:cNvPicPr/>
          <p:nvPr/>
        </p:nvPicPr>
        <p:blipFill>
          <a:blip r:embed="rId1"/>
          <a:stretch/>
        </p:blipFill>
        <p:spPr>
          <a:xfrm>
            <a:off x="2786040" y="192888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460" name="Titolo 3"/>
          <p:cNvSpPr/>
          <p:nvPr/>
        </p:nvSpPr>
        <p:spPr>
          <a:xfrm>
            <a:off x="857160" y="30718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ff0000"/>
                </a:solidFill>
                <a:latin typeface="Franklin Gothic Book"/>
              </a:rPr>
              <a:t>Volley Time!!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21" dur="5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500"/>
                            </p:stCondLst>
                            <p:childTnLst>
                              <p:par>
                                <p:cTn id="13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Caratteristiche biometriche (2/2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71320" y="157140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Una </a:t>
            </a: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grandezza biometrica 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è una caratteristica </a:t>
            </a: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fisiologica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comportamentale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misurabile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identificabile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, al fine di attestare l’identità di una perso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ou are your authenticato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cheiner, Secrets and Lies: Digital Security in a Networked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Aree di interes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Registrazione: 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di caratteristiche biometri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Autenticazione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verifica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 diretta dell’identità person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Identificazione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 indiretta tramite caratteristiche biometri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Proprietà degli Aspetti Biometrici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Universalità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 comune a tutti gli individu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Unicità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 carattere discriminator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Permanenza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 immutabilità nel temp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Misurabilità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 in senso quantit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Franklin Gothic Book"/>
              </a:rPr>
              <a:t>Valutazione delle Prestazioni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Performance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 rapporto tra efficacia ed efficien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Accettabilità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 da parte della maggior parte delle pers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Eludibilità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 eventualità di errore/raggiro del sistema biometri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Valutazione dell’erro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FAR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 False Acceptance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FRR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 False Rejection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EER</a:t>
            </a: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: Equal Error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Immagine 5" descr=""/>
          <p:cNvPicPr/>
          <p:nvPr/>
        </p:nvPicPr>
        <p:blipFill>
          <a:blip r:embed="rId1"/>
          <a:stretch/>
        </p:blipFill>
        <p:spPr>
          <a:xfrm>
            <a:off x="1714680" y="3429000"/>
            <a:ext cx="6057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Tipi di uten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Cooperativo/Non cooper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Pubblico/Priva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Abituato/Non abitua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Consapevole/Inconsapevo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8:54:17Z</dcterms:created>
  <dc:creator>Alessandro Manini</dc:creator>
  <dc:description/>
  <dc:language>en-US</dc:language>
  <cp:lastModifiedBy>Alessandro Manini</cp:lastModifiedBy>
  <dcterms:modified xsi:type="dcterms:W3CDTF">2010-06-02T21:57:37Z</dcterms:modified>
  <cp:revision>258</cp:revision>
  <dc:subject/>
  <dc:title>Sistemi di riconoscimento biometrici</dc:title>
</cp:coreProperties>
</file>