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48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Programmer Quiz. ©2002, Jedidiah R. Crandall, Susan L. Gerhart, Jan G. Hogle.  http://sfsecurity.pr.erau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248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fsecurity.pr.erau.edu/" TargetMode="External"/><Relationship Id="rId2" Type="http://schemas.openxmlformats.org/officeDocument/2006/relationships/hyperlink" Target="http://nsfsecurity.pr.erau.edu/" TargetMode="External"/><Relationship Id="rId3" Type="http://schemas.openxmlformats.org/officeDocument/2006/relationships/hyperlink" Target="http://nsfsecurity.pr.erau.edu/" TargetMode="External"/><Relationship Id="rId4" Type="http://schemas.openxmlformats.org/officeDocument/2006/relationships/hyperlink" Target="http://nsfsecurity.pr.erau.edu/" TargetMode="External"/><Relationship Id="rId5" Type="http://schemas.openxmlformats.org/officeDocument/2006/relationships/hyperlink" Target="http://nsfsecurity.pr.erau.edu/" TargetMode="External"/><Relationship Id="rId6" Type="http://schemas.openxmlformats.org/officeDocument/2006/relationships/hyperlink" Target="http://nsfsecurity.pr.erau.edu/feedback.html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iz: For C Program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: Jedidiah R. Crandall, crandaj@era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was Funded by the National Science Found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deral Cyber Service Scholarship For Service Progra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 No. 0113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-Riddle Aeronautical University • Prescott, Arizona •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1397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Questions, Answers follow the “About” 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Which of these is the best tool for finding unsafe library function ca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rning messages of the C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ing a hard-copy of the code to the wall and throwing darts a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bu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ic analyzer such as IT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Which of these kinds of buffer overflows can be a security thre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sma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afe library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-by-on errors where only one byte is over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overflows in buffers that store internal data and not user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If you want to use scanf() to read into a 64-byte buffer called MyBuff, which of these are corr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“%s”, MyBuf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“%s”, &amp;MyBuf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“%63s”, MyBuf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“%64s”, MyBuf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“%65s”, MyBuf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Which of these attack techniques is most appropriate for a UNICODE buffer overf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sma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p impl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dou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netian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 Which of these assumptions is always okay to make about old code used in a new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was already black-box tested then it doesn’t need to be tested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was already white-box tested then it doesn’t need to be tested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ld code was already inspected then it doesn’t need to be inspected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limits the number of characters passed to it for every input then there will be no buffer over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Which of these software engineering techniques can catch buffer overflow errors that the others might not ca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analysis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platfor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 What can happen if a buffer overflow causes a program to cra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re dump gives the attacker access to security-sensi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nial-of-service attack where other users on the network can no longer access that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uter can catch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hing bad can happen unless the attacker is able to hijack the machine or overwrite security-sensi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out this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resentation is part of a larger package of materials on buffer overflow vulnerabilities, defenses, and software practic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more  information, go to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nsfsecurity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.pr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era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available 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nstrations of how buffer overflows occur (Java appl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lecture-style presentations on an introduction to buffer overflows, preventing buffer overflows (for C programmers), and a case study of Cod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lists and Points to Remember for C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interactive module and quiz set with alternative paths for journalists/analysts and IT managers as well as programmers and 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cavenger hunt on implications of the buffer overflow vulnerabil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complete a feedback 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nsfsecurity.pr.erau.edu/feedback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tell us how you used this material and to offer suggestions for improv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447920"/>
            <a:ext cx="190980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C,D,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C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C,D,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C,D,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,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9760" y="1447920"/>
            <a:ext cx="191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C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C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9144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f you declare an array as A[100] in C and you try to write data to A[555], what will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 compiler will give you an error and won’t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ill always be a runtim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ever is at A[555] will be over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ich kinds of operations are most likely to lead to buffer overflows in 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of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ferencing a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here can an attacker who is trying to “smash the stack” put their attack code if the buffer to be overflowed is on the 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stack before the return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stack after the return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tack frame of anoth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global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hat can be overwritten by a buffer overflow that causes a security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-sensi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turn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kind of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thing that will make the program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What is likely to  happen if you find a buffer overflow during testing by entering a random, long string for a C pr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gives you a “Buffer overflow at line X”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co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 fairy sprinkles magic memory dust on the memory that was overwritten and makes everything oka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ich of these kinds of inputs can cause a buffer over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vironm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input from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loating poin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Which of these processes is likely to catch a buffer overf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by a software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(or using) by a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(or probing) by an 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Which of these library functions are safe as long as you tell it the correct buffer siz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t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can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cp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Webster Goodfellow</cp:lastModifiedBy>
  <dcterms:modified xsi:type="dcterms:W3CDTF">2002-07-06T22:35:27Z</dcterms:modified>
  <cp:revision>8</cp:revision>
  <dc:subject/>
  <dc:title>PowerPoint Presentation</dc:title>
</cp:coreProperties>
</file>