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71800" y="609120"/>
            <a:ext cx="54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Engineering Lifecycle. ©2002. Jan G. Hogle,  Susan L. Gerhart.  http://sfsecurity.pr.era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Engineering Lif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Jan G. Hogle, Susan Ger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ocument was Funded by the National Science Found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Cyber Service Scholarship For Service Progra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t No. 01136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bry-Riddle Aeronautical University • Prescott, Arizona •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80240" y="610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11480" cy="2667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ment organization responds to the buffer overflow vulnerability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the underlying code problem in its later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patches with correc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develpment processes and tools to avoid similar 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11120" cy="2667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feedback to academ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were, it c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the pipeline of students more sensitive to buffer overfl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education and training materials - books, exercises, to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authors and instructors to raise the visibility of the buffer overflow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porate economic lessons of publicity and cost analyses from journalists and industry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14935" b="23733"/>
          <a:stretch/>
        </p:blipFill>
        <p:spPr>
          <a:xfrm>
            <a:off x="2438280" y="190512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his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esentation is part of a larger package of materials on buffer overflow vulnerabilities, defenses, and software practices. For more  information, go to: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http://nsfsecurity.pr.era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so available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s of how buffer overflows occur (Java appl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lecture-style presentations on an introduction to buffer overflows, preventing buffer overflows (for C programmers), and a case study of Co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lists and Points to Remember for C Program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nteractive module and quiz set with alternative paths for journalists/analysts and IT managers as well as programmers and te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cavenger hunt on implications of the buffer overflow vulnerabil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ease complete a feedback form at http://nsfsecurity.pr.erau.edu/feedback.html to tell us how you used this material and to offer suggestions for improv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57120"/>
            <a:ext cx="8299440" cy="5738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Lifecycle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diagram sections to view a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860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28600"/>
            <a:ext cx="1676520" cy="16765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914400" y="2209680"/>
            <a:ext cx="2590920" cy="32004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4876920" y="1600200"/>
            <a:ext cx="3124080" cy="11430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6172200" y="3962520"/>
            <a:ext cx="11430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6324480" y="4114800"/>
            <a:ext cx="11430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7467480" y="3962520"/>
            <a:ext cx="1067040" cy="1981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4038480" y="4191120"/>
            <a:ext cx="1600200" cy="1523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2666880" y="5486400"/>
            <a:ext cx="990720" cy="3808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2666880" y="5867280"/>
            <a:ext cx="1143000" cy="3812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609480" y="5562720"/>
            <a:ext cx="1219320" cy="53316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1701720" cy="1498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a produces students w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n't tuned into the dangers of buffer overfl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't recognize a buffer overflow vulnerability when they see it, so they make the mistake in co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careless in their coding as well as inspection and testing ta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not made aware of buffer overflows by instructors or textboo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s, Developers and QA specialists iterate through cycles of detailed design and coding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loy poor coding and quality skills learned in sch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often forced to use low-level languages like 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established programming techniques that are highly error-pr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il to incorporate inspection and design techniques known to prevent and discover buffer overf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n levels of code they can't control but which are riddled with buffer overfl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959120" cy="236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994040" cy="1562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652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 Vulnerabil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etected during develop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QA get into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ulnerable code slips through tests and 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ducts expose buffer overflows in old code from libraries and other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use of products to avoid buffer overflows isn't known or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01800" cy="774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nd User may find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 unintentional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may search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dinary user may observe unusual activity or symptoms of buffer 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shops like Eeye and university groups search for vulnerabilities by playing the role of attackers on new and ol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42920" cy="224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acker finds a wa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orce a buffer overfl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their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know common vulnerabilities of vendors and their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learn from the web and from each other how to make buffer overflow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ers acquire ways to make buffer overflows lead to hijacking a system or planting seeds for futur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42920" cy="22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8680" y="152280"/>
            <a:ext cx="208440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roduct users find a buffer overflow and alert auth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urry of patching occu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ert goes to the vendor and official sites like cert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irmation, analysis, and explanation goes out to vendors and users as an advis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2209680" cy="101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8680" y="228600"/>
            <a:ext cx="22114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er reaction team, security shop, and author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pa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4266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of the product must install the patch to protect themselves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issue multiple patches, often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831" b="-1813"/>
          <a:stretch/>
        </p:blipFill>
        <p:spPr>
          <a:xfrm>
            <a:off x="2590920" y="2057400"/>
            <a:ext cx="2133360" cy="1733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4097400">
            <a:off x="1339560" y="2622600"/>
            <a:ext cx="1015920" cy="952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0:13:22Z</dcterms:created>
  <dc:creator>Webster Goodfellow</dc:creator>
  <dc:description/>
  <dc:language>en-US</dc:language>
  <cp:lastModifiedBy>Webster Goodfellow</cp:lastModifiedBy>
  <dcterms:modified xsi:type="dcterms:W3CDTF">2002-07-10T05:58:18Z</dcterms:modified>
  <cp:revision>23</cp:revision>
  <dc:subject/>
  <dc:title>PowerPoint Presentation  -  Software Engineering Lifecycle</dc:title>
</cp:coreProperties>
</file>