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52352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685800" y="383220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6848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31380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5941440" y="152352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68580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31380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5941440" y="3832200"/>
            <a:ext cx="250236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6848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68580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523520"/>
            <a:ext cx="3792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68480" y="383220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523520"/>
            <a:ext cx="37926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685800" y="3832200"/>
            <a:ext cx="7772400" cy="210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Cause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ffer Overflow Causes</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Jedidiah R. Crandall, crandaj@erau.edu</a:t>
            </a:r>
            <a:endParaRPr b="0" lang="en-US" sz="1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Document was Funded by the National Science Foundation </a:t>
            </a:r>
            <a:br>
              <a:rPr sz="1400"/>
            </a:br>
            <a:r>
              <a:rPr b="0" lang="en-US" sz="1400" spc="-1" strike="noStrike">
                <a:solidFill>
                  <a:srgbClr val="000000"/>
                </a:solidFill>
                <a:latin typeface="Times New Roman"/>
              </a:rPr>
              <a:t>Federal Cyber Service Scholarship For Service Program:</a:t>
            </a:r>
            <a:br>
              <a:rPr sz="1400"/>
            </a:br>
            <a:r>
              <a:rPr b="0" lang="en-US" sz="1400" spc="-1" strike="noStrike">
                <a:solidFill>
                  <a:srgbClr val="000000"/>
                </a:solidFill>
                <a:latin typeface="Times New Roman"/>
              </a:rPr>
              <a:t>Grant No. 0113627</a:t>
            </a:r>
            <a:endParaRPr b="0" lang="en-US" sz="14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ed July 2002</a:t>
            </a: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bry-Riddle Aeronautical University • Prescott, Arizona • USA</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sorts of other far-fetched but deadly-serious things you should think about.</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put is not always what causes buffer overflows, they may be caused through things like environment variables or race condi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don’t have to know all about environment variables or race conditions but if you’re managing a software project then your programmers shou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esentation is part of a larger package of materials on buffer overflow vulnerabilities, defenses, and software practices</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For more  information, go to: </a:t>
            </a:r>
            <a:r>
              <a:rPr b="0" lang="en-US" sz="1200" spc="-1" strike="noStrike" u="sng">
                <a:solidFill>
                  <a:srgbClr val="ccccff"/>
                </a:solidFill>
                <a:uFillTx/>
                <a:latin typeface="Times New Roman"/>
                <a:hlinkClick r:id="rId1"/>
              </a:rPr>
              <a:t>http://</a:t>
            </a:r>
            <a:r>
              <a:rPr b="0" lang="en-US" sz="1200" spc="-1" strike="noStrike" u="sng">
                <a:solidFill>
                  <a:srgbClr val="ccccff"/>
                </a:solidFill>
                <a:uFillTx/>
                <a:latin typeface="Times New Roman"/>
                <a:hlinkClick r:id="rId2"/>
              </a:rPr>
              <a:t>nsfsecurity</a:t>
            </a:r>
            <a:r>
              <a:rPr b="0" lang="en-US" sz="1200" spc="-1" strike="noStrike" u="sng">
                <a:solidFill>
                  <a:srgbClr val="ccccff"/>
                </a:solidFill>
                <a:uFillTx/>
                <a:latin typeface="Times New Roman"/>
                <a:hlinkClick r:id="rId3"/>
              </a:rPr>
              <a:t>.pr.</a:t>
            </a:r>
            <a:r>
              <a:rPr b="0" lang="en-US" sz="1200" spc="-1" strike="noStrike" u="sng">
                <a:solidFill>
                  <a:srgbClr val="ccccff"/>
                </a:solidFill>
                <a:uFillTx/>
                <a:latin typeface="Times New Roman"/>
                <a:hlinkClick r:id="rId4"/>
              </a:rPr>
              <a:t>erau</a:t>
            </a:r>
            <a:r>
              <a:rPr b="0" lang="en-US" sz="1200" spc="-1" strike="noStrike" u="sng">
                <a:solidFill>
                  <a:srgbClr val="ccccff"/>
                </a:solidFill>
                <a:uFillTx/>
                <a:latin typeface="Times New Roman"/>
                <a:hlinkClick r:id="rId5"/>
              </a:rPr>
              <a:t>.edu</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vailable are:</a:t>
            </a:r>
            <a:endParaRPr b="0" lang="en-US" sz="14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monstrations of how buffer overflows occur (Java applet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ecklists and Points to Remember for C Programmer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 interactive module and quiz set with alternative paths for journalists/analysts and IT managers as well as programmers and testers</a:t>
            </a:r>
            <a:endParaRPr b="0" lang="en-US" sz="1300" spc="-1" strike="noStrike">
              <a:solidFill>
                <a:srgbClr val="000000"/>
              </a:solidFill>
              <a:latin typeface="Times New Roman"/>
            </a:endParaRPr>
          </a:p>
          <a:p>
            <a:pPr lvl="1" marL="743040" indent="-285840">
              <a:lnSpc>
                <a:spcPct val="9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 scavenger hunt on implications of the buffer overflow vulnerability</a:t>
            </a:r>
            <a:br>
              <a:rPr sz="1300"/>
            </a:b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complete a feedback form</a:t>
            </a:r>
            <a:r>
              <a:rPr b="0" lang="en-US" sz="1200" spc="-1" strike="noStrike">
                <a:solidFill>
                  <a:srgbClr val="000000"/>
                </a:solidFill>
                <a:latin typeface="Times New Roman"/>
              </a:rPr>
              <a:t> at </a:t>
            </a:r>
            <a:r>
              <a:rPr b="0" lang="en-US" sz="1200" spc="-1" strike="noStrike" u="sng">
                <a:solidFill>
                  <a:srgbClr val="ccccff"/>
                </a:solidFill>
                <a:uFillTx/>
                <a:latin typeface="Times New Roman"/>
                <a:hlinkClick r:id="rId6"/>
              </a:rPr>
              <a:t>http://nsfsecurity.pr.erau.edu/feedback.html</a:t>
            </a:r>
            <a:r>
              <a:rPr b="0" lang="en-US" sz="1200" spc="-1" strike="noStrike">
                <a:solidFill>
                  <a:srgbClr val="000000"/>
                </a:solidFill>
                <a:latin typeface="Times New Roman"/>
              </a:rPr>
              <a:t> to tell us how you used this material and to offer suggestions for improv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uses of Buffer Overflow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explains some of the causes of buffer overflows and types of buffer overflow attacks in a not-too-technical man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ntion is to give the reader an appreciation for the complexity of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s of buffer overflow at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ck smashing or heap-based attack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can hijack execution of the program, and if the program was running with elevated privileges, the attacker now has those privileg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way many worms spread by tricking a network server into running the a program the attacker wro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rrup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tacker can change their privileges or other security-related data by overwriting it in mem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cra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crash can lead to denial-of-service because the service that program was providing will not be there until the program is restar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a program crash causes a “core dump” where the entire memory of the program (possibly security-sensitive data) is written out to a file the attacker may be able to re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an cause buffer overflow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less use of buffers without bounds chec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and logical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afe library function ca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by-one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code used for new purposes (like UNICODE international charac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other far-fetched but deadly-serious things you should think abo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a:t>
            </a:r>
            <a:br>
              <a:rPr sz="3600"/>
            </a:br>
            <a:r>
              <a:rPr b="0" lang="en-US" sz="3600" spc="-1" strike="noStrike">
                <a:solidFill>
                  <a:srgbClr val="000000"/>
                </a:solidFill>
                <a:latin typeface="Times New Roman"/>
              </a:rPr>
              <a:t>bounds checking</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classical cause of a buffer overflow.  It is a blatant programmer error analogous to trying to pour five gallons of water into a four gallon bucket.  It can lead to the program being hijacked, data being corrupted, or the program cras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s not the size of the input but the value of the input that causes a buffer to overflow.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might be an integer that you want to convert to an ASCII string. The buffer needs to be big enough to hold all of the digits of the biggest integer someone could enter. Otherwise the program might be vulnerable to program crashes or data corru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brary is a collection of useful subroutines that a programmer can use in their program.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ard C library, which every C compiler has, has subroutines in it that can cause buffer overflows if not used properly.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rs have to learn to use the library subroutines properly.  Unsafe library function calls are responsible for many vulnerabilities of all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 if you create a buffer that will hold 100 bytes then it will only hold 99 ASCII characters (other than the NULL character at the end) , the 9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haracter being indexed with the number 98.  This can lead to a lot of confusion even for seasoned C programmers who do bounds checking.  This can lead to a small amount of data corruption or even a program cra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rs often reuse code that someone else wrote a long time ago.  If you write a program and limit a user’s input to 100 characters and then put them into the old code’s 101-byte buffer you can still get a buffer overflow.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old code was written the programmer assumed the use of ASCII where 1 character fills 1 byte.  Your new code uses UNICODE (supports international character sets) where 1 character fills two bytes.  This was the cause of Code 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8:38Z</dcterms:modified>
  <cp:revision>9</cp:revision>
  <dc:subject/>
  <dc:title>PowerPoint Presentation</dc:title>
</cp:coreProperties>
</file>