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880" y="3875400"/>
            <a:ext cx="8382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387540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6040" y="387540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15160" y="144756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49440" y="144756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880" y="387540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15160" y="387540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49440" y="387540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82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880" y="387540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6040" y="387540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3875400"/>
            <a:ext cx="8382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2096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2096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80880" y="6324120"/>
            <a:ext cx="8305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ffer Overflow Defenses Quiz. ©2002, Jedidiah R. Crandall, Susan L. Gerhart, Jan G. Hogle.  http://sfsecurity.pr.erau.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24852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nsfsecurity.pr.erau.edu/" TargetMode="External"/><Relationship Id="rId2" Type="http://schemas.openxmlformats.org/officeDocument/2006/relationships/hyperlink" Target="http://nsfsecurity.pr.erau.edu/" TargetMode="External"/><Relationship Id="rId3" Type="http://schemas.openxmlformats.org/officeDocument/2006/relationships/hyperlink" Target="http://nsfsecurity.pr.erau.edu/" TargetMode="External"/><Relationship Id="rId4" Type="http://schemas.openxmlformats.org/officeDocument/2006/relationships/hyperlink" Target="http://nsfsecurity.pr.erau.edu/" TargetMode="External"/><Relationship Id="rId5" Type="http://schemas.openxmlformats.org/officeDocument/2006/relationships/hyperlink" Target="http://nsfsecurity.pr.erau.edu/" TargetMode="External"/><Relationship Id="rId6" Type="http://schemas.openxmlformats.org/officeDocument/2006/relationships/hyperlink" Target="http://nsfsecurity.pr.erau.edu/feedback.html" TargetMode="External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iz: Buffer Overflow Defen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: Jedidiah R. Crandall, crandaj@erau.e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cument was Funded by the National Science Foundatio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ederal Cyber Service Scholarship For Service Program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nt No. 01136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ctr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ctr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ributed July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ctr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ctr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mbry-Riddle Aeronautical University • Prescott, Arizona • U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3880" y="113976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 Questions, Answers follow the “About” pag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Which of these can prevent a buffer overflow before the software is release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ckGuar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 Insp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i-virus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Which of these will anti-virus software preven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n attacks on known vulnera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known attacks on known vulnera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acks on unknown vulnera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eless software engineering pract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Which of these statements are tru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s like Java and Ada are less susceptible to buffer overfl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ers who use Java or Ada don’t ever have to think about buffer overfl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 has better performance in terms of speed than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String libraries available for C/C++ that are safer than the standard libr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. Which of these tools would be appropriate during testi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tatic analysis t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ynamic analysis t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ckGu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ledge ham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 Which of these buffer overflow preventions has a negligible performance overhea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ckGu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compilers with automatic bounds chec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operating system patch that disables execution of code outside of the code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++ library for “limitless” buff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bout this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41400"/>
            <a:ext cx="77724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presentation is part of a larger package of materials on buffer overflow vulnerabilities, defenses, and software practice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more  information, go to: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nsfsecurity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pr.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erau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so available a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3840" indent="-285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monstrations of how buffer overflows occur (Java apple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3840" indent="-285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werPoint lecture-style presentations on an introduction to buffer overflows, preventing buffer overflows (for C programmers), and a case study of Cod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3840" indent="-285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ecklists and Points to Remember for C Programm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3840" indent="-285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 interactive module and quiz set with alternative paths for journalists/analysts and IT managers as well as programmers and tes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3840" indent="-285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scavenger hunt on implications of the buffer overflow vulnerabilit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ease complete a feedback for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at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http://nsfsecurity.pr.erau.edu/feedback.htm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o tell us how you used this material and to offer suggestions for improvemen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47920" y="1447920"/>
            <a:ext cx="1909800" cy="30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,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,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733920" y="914400"/>
            <a:ext cx="1676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Webster Goodfellow</cp:lastModifiedBy>
  <dcterms:modified xsi:type="dcterms:W3CDTF">2002-07-06T22:29:23Z</dcterms:modified>
  <cp:revision>3</cp:revision>
  <dc:subject/>
  <dc:title>PowerPoint Presentation</dc:title>
</cp:coreProperties>
</file>