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6840" y="1447560"/>
            <a:ext cx="838188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56840" y="3875400"/>
            <a:ext cx="838188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684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75200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75200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456840" y="144756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290760" y="144756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124680" y="144756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56840" y="387540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290760" y="387540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124680" y="3875400"/>
            <a:ext cx="26985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456840" y="1447560"/>
            <a:ext cx="838188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456840" y="1447560"/>
            <a:ext cx="8381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45684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75200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28240"/>
            <a:ext cx="83818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45684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75200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45684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456840" y="1447560"/>
            <a:ext cx="4090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75200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752000" y="387540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45684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52000" y="1447560"/>
            <a:ext cx="409032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6840" y="3875400"/>
            <a:ext cx="838188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28240"/>
            <a:ext cx="83818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456840" y="1447560"/>
            <a:ext cx="8381880" cy="46479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s Study: Code Red.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ye.com/html/Research/Advisories/AD20010618.html" TargetMode="External"/><Relationship Id="rId2" Type="http://schemas.openxmlformats.org/officeDocument/2006/relationships/hyperlink" Target="http://www.microsoft.com/technet/treeview/default.asp?url=/technet/security/bulletin/MS01-033.asp" TargetMode="External"/><Relationship Id="rId3" Type="http://schemas.openxmlformats.org/officeDocument/2006/relationships/hyperlink" Target="http://www.cert.org/advisories/CA-2001-13.html" TargetMode="External"/><Relationship Id="rId4" Type="http://schemas.openxmlformats.org/officeDocument/2006/relationships/hyperlink" Target="http://www.caida.org/analysis/security/code-red/" TargetMode="External"/><Relationship Id="rId5" Type="http://schemas.openxmlformats.org/officeDocument/2006/relationships/hyperlink" Target="http://www.cert.org/advisories/CA-2001-19.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Code Red</a:t>
            </a:r>
            <a:endParaRPr b="0" lang="en-US" sz="36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 Jedidiah R. Crandall, crandaj@erau.edu</a:t>
            </a:r>
            <a:endParaRPr b="0" lang="en-US" sz="20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cument was Funded by the National Science Foundation </a:t>
            </a:r>
            <a:br>
              <a:rPr sz="1600"/>
            </a:br>
            <a:r>
              <a:rPr b="0" lang="en-US" sz="1600" spc="-1" strike="noStrike">
                <a:solidFill>
                  <a:srgbClr val="000000"/>
                </a:solidFill>
                <a:latin typeface="Times New Roman"/>
              </a:rPr>
              <a:t>Federal Cyber Service Scholarship For Service Program:</a:t>
            </a:r>
            <a:br>
              <a:rPr sz="1600"/>
            </a:br>
            <a:r>
              <a:rPr b="0" lang="en-US" sz="1600" spc="-1" strike="noStrike">
                <a:solidFill>
                  <a:srgbClr val="000000"/>
                </a:solidFill>
                <a:latin typeface="Times New Roman"/>
              </a:rPr>
              <a:t>Grant No. 0113627</a:t>
            </a:r>
            <a:endParaRPr b="0" lang="en-US" sz="16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Code Red</a:t>
            </a:r>
            <a:endParaRPr b="0" lang="en-US" sz="3600" spc="-1" strike="noStrike">
              <a:solidFill>
                <a:srgbClr val="000000"/>
              </a:solidFill>
              <a:latin typeface="Times New Roman"/>
            </a:endParaRPr>
          </a:p>
        </p:txBody>
      </p:sp>
      <p:sp>
        <p:nvSpPr>
          <p:cNvPr id="43"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it hap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it hap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did it hap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me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happened?</a:t>
            </a:r>
            <a:endParaRPr b="0" lang="en-US" sz="3600" spc="-1" strike="noStrike">
              <a:solidFill>
                <a:srgbClr val="000000"/>
              </a:solidFill>
              <a:latin typeface="Times New Roman"/>
            </a:endParaRPr>
          </a:p>
        </p:txBody>
      </p:sp>
      <p:sp>
        <p:nvSpPr>
          <p:cNvPr id="45"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Red worm exploited a buffer overflow in Microsoft’s IIS server, defaced web sites on English-language servers, and made a failed attempt at a denial-of-service attack on www.whitehouse.gov.</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Red II worm exploited the very same vulnerability, except it installed a back door designed to make your entire hard drive available to attackers over the Intern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worms, about 800,000 machines infected and an estimated $2.5 billion in damages, lost productivity, and clean-up c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id it happen?</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rver running Microsoft’s IIS will send you a web page if you make a request to that server by telling it what you want (for example, you might tell www.momscookies.com that you want the hypertext file /oatmeal/raisin.html by typing http://www.momscookies.com/oatmeal/raisin.html).</a:t>
            </a:r>
            <a:br>
              <a:rPr sz="1600"/>
            </a:b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tring you send is stored in one buffer, which does not overflow because it was properly bounds-checked.  Each character is an ASCII character which takes one byte to sto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you requested some other http service, though, this buffer might be reformatted into UNICODE (used for international character sets, 1 character = 2 bytes) and stored in another buff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t was this other buffer that overflowed because there was no bounds checking to make sure the UNICODE buffer was twice as big as the ASCII buff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le it is not easy to exploit this kind of buffer overflow, it proved to not be impossible.  The buffer overflow allowed the attack code, which was included in the request string, to be execu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did it happen?</a:t>
            </a:r>
            <a:endParaRPr b="0" lang="en-US" sz="3600" spc="-1" strike="noStrike">
              <a:solidFill>
                <a:srgbClr val="000000"/>
              </a:solidFill>
              <a:latin typeface="Times New Roman"/>
            </a:endParaRPr>
          </a:p>
        </p:txBody>
      </p:sp>
      <p:sp>
        <p:nvSpPr>
          <p:cNvPr id="49" name="PlaceHolder 2"/>
          <p:cNvSpPr>
            <a:spLocks noGrp="1"/>
          </p:cNvSpPr>
          <p:nvPr>
            <p:ph/>
          </p:nvPr>
        </p:nvSpPr>
        <p:spPr>
          <a:xfrm>
            <a:off x="609480" y="1523880"/>
            <a:ext cx="77724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 June 2001- eEye Digital security </a:t>
            </a:r>
            <a:r>
              <a:rPr b="0" lang="en-US" sz="1600" spc="-1" strike="noStrike" u="sng">
                <a:solidFill>
                  <a:srgbClr val="0000ff"/>
                </a:solidFill>
                <a:uFillTx/>
                <a:latin typeface="Times New Roman"/>
                <a:hlinkClick r:id="rId1"/>
              </a:rPr>
              <a:t>reports</a:t>
            </a:r>
            <a:r>
              <a:rPr b="0" lang="en-US" sz="1600" spc="-1" strike="noStrike">
                <a:solidFill>
                  <a:srgbClr val="000000"/>
                </a:solidFill>
                <a:latin typeface="Times New Roman"/>
              </a:rPr>
              <a:t> the vulnerabilit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 June 2001- Microsoft releases a </a:t>
            </a:r>
            <a:r>
              <a:rPr b="0" lang="en-US" sz="1600" spc="-1" strike="noStrike" u="sng">
                <a:solidFill>
                  <a:srgbClr val="0000ff"/>
                </a:solidFill>
                <a:uFillTx/>
                <a:latin typeface="Times New Roman"/>
                <a:hlinkClick r:id="rId2"/>
              </a:rPr>
              <a:t>patch</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June 2001 – CERT Advisory </a:t>
            </a:r>
            <a:r>
              <a:rPr b="0" lang="en-US" sz="1600" spc="-1" strike="noStrike" u="sng">
                <a:solidFill>
                  <a:srgbClr val="0000ff"/>
                </a:solidFill>
                <a:uFillTx/>
                <a:latin typeface="Times New Roman"/>
                <a:hlinkClick r:id="rId3"/>
              </a:rPr>
              <a:t>CA-2001-13</a:t>
            </a:r>
            <a:r>
              <a:rPr b="0" lang="en-US" sz="1600" spc="-1" strike="noStrike">
                <a:solidFill>
                  <a:srgbClr val="000000"/>
                </a:solidFill>
                <a:latin typeface="Times New Roman"/>
              </a:rPr>
              <a:t> releas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July 2001 – </a:t>
            </a:r>
            <a:r>
              <a:rPr b="0" lang="en-US" sz="1600" spc="-1" strike="noStrike" u="sng">
                <a:solidFill>
                  <a:srgbClr val="0000ff"/>
                </a:solidFill>
                <a:uFillTx/>
                <a:latin typeface="Times New Roman"/>
                <a:hlinkClick r:id="rId4"/>
              </a:rPr>
              <a:t>First incarnation</a:t>
            </a:r>
            <a:r>
              <a:rPr b="0" lang="en-US" sz="1600" spc="-1" strike="noStrike">
                <a:solidFill>
                  <a:srgbClr val="000000"/>
                </a:solidFill>
                <a:latin typeface="Times New Roman"/>
              </a:rPr>
              <a:t> of Code Red released, doesn’t spread as well </a:t>
            </a:r>
            <a:r>
              <a:rPr b="0" lang="en-US" sz="1600" spc="-1" strike="noStrike">
                <a:solidFill>
                  <a:srgbClr val="000000"/>
                </a:solidFill>
                <a:latin typeface="Times New Roman"/>
              </a:rPr>
              <a:t>	</a:t>
            </a:r>
            <a:r>
              <a:rPr b="0" lang="en-US" sz="1600" spc="-1" strike="noStrike">
                <a:solidFill>
                  <a:srgbClr val="000000"/>
                </a:solidFill>
                <a:latin typeface="Times New Roman"/>
              </a:rPr>
              <a:t>as it cou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July 2001 – Second incarnation of Code Red released, nearly the same code but it spreads much better, failed attempt at a denial-of-service attack on www.whitehouse.gov (100’s of thousands of machines infect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July 2001 – CERT advisory </a:t>
            </a:r>
            <a:r>
              <a:rPr b="0" lang="en-US" sz="1600" spc="-1" strike="noStrike" u="sng">
                <a:solidFill>
                  <a:srgbClr val="0000ff"/>
                </a:solidFill>
                <a:uFillTx/>
                <a:latin typeface="Times New Roman"/>
                <a:hlinkClick r:id="rId5"/>
              </a:rPr>
              <a:t>CA-2001-19</a:t>
            </a:r>
            <a:r>
              <a:rPr b="0" lang="en-US" sz="1600" spc="-1" strike="noStrike">
                <a:solidFill>
                  <a:srgbClr val="000000"/>
                </a:solidFill>
                <a:latin typeface="Times New Roman"/>
              </a:rPr>
              <a:t> releas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 July 2001 – CAIDA follow-up survey shows that nearly a third of the machines infected by Code Red were still not patch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ugust 2001 – 16 days later, Code Red II is released, exploiting the very same vulnerability, but installing a back door on infected machines. 100’s of thousands more machines are infected or re-infected.  Code Red II was probably released by a different party as it shared no code with the original Code 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is mean?</a:t>
            </a:r>
            <a:endParaRPr b="0" lang="en-US" sz="3600" spc="-1" strike="noStrike">
              <a:solidFill>
                <a:srgbClr val="000000"/>
              </a:solidFill>
              <a:latin typeface="Times New Roman"/>
            </a:endParaRPr>
          </a:p>
        </p:txBody>
      </p:sp>
      <p:sp>
        <p:nvSpPr>
          <p:cNvPr id="51" name="PlaceHolder 2"/>
          <p:cNvSpPr>
            <a:spLocks noGrp="1"/>
          </p:cNvSpPr>
          <p:nvPr>
            <p:ph/>
          </p:nvPr>
        </p:nvSpPr>
        <p:spPr>
          <a:xfrm>
            <a:off x="609480" y="914400"/>
            <a:ext cx="7772400" cy="5105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ulnerable systems had plenty of opportunity to be patched and we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ors didn’t know there was a vulner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ors didn’t know there was a patc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didn’t explain that there was a vulnerability or a patch?”</a:t>
            </a:r>
            <a:endParaRPr b="0" lang="en-US" sz="20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yber terrorism” is a real thre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first things the worm did when it infected a machine was to check to see if that machine used English as the default language (If so the web page was defac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ly more than 200,000 of the infected machines were in the U.S., U.K., Canada, Australia, and New Zeala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m could have easily caused billions of dollars more in data loss for English-speaking-countries on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nial-of-service attack on the White House would probably have succeeded had the attacker used the URL instead of the IP add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53" name="PlaceHolder 2"/>
          <p:cNvSpPr>
            <a:spLocks noGrp="1"/>
          </p:cNvSpPr>
          <p:nvPr>
            <p:ph/>
          </p:nvPr>
        </p:nvSpPr>
        <p:spPr>
          <a:xfrm>
            <a:off x="762120" y="1841400"/>
            <a:ext cx="7772400" cy="42544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a:solidFill>
                  <a:srgbClr val="3333cc"/>
                </a:solidFill>
                <a:latin typeface="Times New Roman"/>
              </a:rPr>
              <a:t>http://nsfsecurity.pr.erau.edu</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onstrations of how buffer overflows occur (Java apple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lists and Points to Remember for C Programm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teractive module and quiz set with alternative paths for journalists/analysts and IT managers as well as programmers and test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cavenger hunt on implications of the buffer overflow vulnerability</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http://nsfsecurity.pr.erau.edu/feedback.html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4:13Z</dcterms:modified>
  <cp:revision>9</cp:revision>
  <dc:subject/>
  <dc:title>PowerPoint Presentation</dc:title>
</cp:coreProperties>
</file>