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Overflow Defenses. ©2002, Jedidiah R. Crandall, Susan L. Gerhart, Jan G. Hogle. http://sfsecurity.pr.erau.edu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sfsecurity.pr.erau.edu/" TargetMode="External"/><Relationship Id="rId2" Type="http://schemas.openxmlformats.org/officeDocument/2006/relationships/hyperlink" Target="http://nsfsecurity.pr.erau.edu/" TargetMode="External"/><Relationship Id="rId3" Type="http://schemas.openxmlformats.org/officeDocument/2006/relationships/hyperlink" Target="http://nsfsecurity.pr.erau.edu/" TargetMode="External"/><Relationship Id="rId4" Type="http://schemas.openxmlformats.org/officeDocument/2006/relationships/hyperlink" Target="http://nsfsecurity.pr.erau.edu/" TargetMode="External"/><Relationship Id="rId5" Type="http://schemas.openxmlformats.org/officeDocument/2006/relationships/hyperlink" Target="http://nsfsecurity.pr.erau.edu/" TargetMode="External"/><Relationship Id="rId6" Type="http://schemas.openxmlformats.org/officeDocument/2006/relationships/hyperlink" Target="http://nsfsecurity.pr.erau.edu/feedback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ffer Overflow Defe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46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Jedidiah R. Crandall, crandaj@era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more  information, go to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sfsecurity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pr.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rau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mplete a feedback 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nsfsecurity.pr.erau.edu/feedback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tell us how you used this material and to offer suggestions for improv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ffer Overflow Defen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ction presents some defenses against buffer overflows and their pros and cons in a not-too-technical m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ea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is is not intended to be a complete list of products that defend against buffer overf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re is no silver bullet that will stamp out buffer overflows, but some of these tools may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ds of Defen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oftware engineer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-and-patch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tter software engineering prac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Testing, code inspection, documentation of reus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event all types of buffer overflows before the software is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consuming, and time is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-and-patch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Software patches, anti-viru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effective at preventing known attacks, or even unknown attacks on known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does not require that the software be recomp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ffective at preventing attacks on unknown vulnerabilities, or sometimes unknown attacks on known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guage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, Perl, Ada, Cyclone, or any language that is not as susceptible to buffer overflows as C/C++, or components/libraries for C/C++ that are less susceptible to buffer over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better languages or libraries will greatly ameliorate the buffer overflow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grammer still has to be able to know how to handle long input strings – Should the input be truncated? Rejected?  Should the buffer be resized?  Should the program ha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/C++ are popular languages and there are valid reasons for us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d C code must be heavily modified to use new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analysis tools that search the source code for possible buffer overflows, dynamic analysis tools that help identify buffer overflows during program execution f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analysis tools can be very useful for code in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analysis tools can help you catch errors during testing that you might not have caught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analysis tools produce many false positives and only look for certain kinds of buffer overflows, such as unsafe library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iler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utomatic bounds checking to a C compiler, or protecting the return pointer (see StackGaurd ap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automatic bounds checking to a C compiler can prevent many buffer ove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ng the return pointer virtually eliminates stack smashing, which is currently the most prevalent and disastrous kind of buffer overflow at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performance overhead, especially for adding bounds checking to C comp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ng the return pointer does not prevent heap-based attacks, denial-of-service attacks, or data corru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ting system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usion detection, disabling execution of code where there shouldn’t b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bling the execution of code where there shouldn’t be code usually has a negligible performan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usion detection systems can detect unknown attacks by monitoring user behavior for anomalies or likely attack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ther of these will prevent every kind of buffer overflow at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usion detection is a developing technology and is no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Webster Goodfellow</cp:lastModifiedBy>
  <dcterms:modified xsi:type="dcterms:W3CDTF">2002-07-10T06:09:04Z</dcterms:modified>
  <cp:revision>5</cp:revision>
  <dc:subject/>
  <dc:title>PowerPoint Presentation</dc:title>
</cp:coreProperties>
</file>