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34840" indent="-376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87360" indent="-376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87360" indent="-376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87360" indent="-376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er Overflow Causes Quiz. ©2002, Jedidiah R. Crandall, Susan L. Gerhart, Jan G. Hogle.  http://sfsecurity.pr.erau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sfsecurity.pr.erau.edu/" TargetMode="External"/><Relationship Id="rId2" Type="http://schemas.openxmlformats.org/officeDocument/2006/relationships/hyperlink" Target="http://nsfsecurity.pr.erau.edu/" TargetMode="External"/><Relationship Id="rId3" Type="http://schemas.openxmlformats.org/officeDocument/2006/relationships/hyperlink" Target="http://nsfsecurity.pr.erau.edu/" TargetMode="External"/><Relationship Id="rId4" Type="http://schemas.openxmlformats.org/officeDocument/2006/relationships/hyperlink" Target="http://nsfsecurity.pr.erau.edu/" TargetMode="External"/><Relationship Id="rId5" Type="http://schemas.openxmlformats.org/officeDocument/2006/relationships/hyperlink" Target="http://nsfsecurity.pr.erau.edu/" TargetMode="External"/><Relationship Id="rId6" Type="http://schemas.openxmlformats.org/officeDocument/2006/relationships/hyperlink" Target="http://nsfsecurity.pr.erau.edu/feedback.html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z: Buffer Overflow Ca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98560" y="2048040"/>
            <a:ext cx="720576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: Jedidiah R. Crandall, crandaj@era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Document was Funded by the National Science Founda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deral Cyber Service Scholarship For Service Progra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nt No. 01136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ted July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ry-Riddle Aeronautical University • Prescott, Arizona • 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113976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Questions, Answers follow the “About” p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Which of these are a security probl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ck sma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p-based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rrup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 cra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e du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Which of these statements is tru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always the size of the input and not the input itself that causes a buffer over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buffer overflows are caused by blatantly careless programmer err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very careful and very skilled programmers can produce software with buffer overflo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f the subroutines included in the Standard C Library will do bounds checking for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Which of these statements is true about a 50 byte buffer in C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ill hold 50 ASCII characters (other than the NULL at the en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ill hold 100 UNICODE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ASCII character (other than NULL) is indexed with the number 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ASCII character (other than NULL) is indexed with the number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ASCII character (other than NULL) is indexed with the number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ut this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68400" y="2330280"/>
            <a:ext cx="72072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presentation is part of a larger package of materials on buffer overflow vulnerabilities, defenses, and software practic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more  information, go to: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nsfsecurity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pr.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erau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so available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onstrations of how buffer overflows occur (Java appl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Point lecture-style presentations on an introduction to buffer overflows, preventing buffer overflows (for C programmers), and a case study of Cod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lists and Points to Remember for C Program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interactive module and quiz set with alternative paths for journalists/analysts and IT managers as well as programmers and te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scavenger hunt on implications of the buffer overflow vulnerabilit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ease complete a feedback fo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nsfsecurity.pr.erau.edu/feedback.htm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tell us how you used this material and to offer suggestions for improve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1447920"/>
            <a:ext cx="190980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B,C,D,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9144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621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Webster Goodfellow</cp:lastModifiedBy>
  <dcterms:modified xsi:type="dcterms:W3CDTF">2002-07-06T22:45:26Z</dcterms:modified>
  <cp:revision>3</cp:revision>
  <dc:subject/>
  <dc:title>PowerPoint Presentation</dc:title>
</cp:coreProperties>
</file>