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71800" y="609120"/>
            <a:ext cx="54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 Engineering Lifecycle. ©2002. Jan G. Hogle,  Susan L. Gerhart.  http://sfsecurity.pr.erau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ftware Engineering Life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Jan G. Hogle, Susan Ger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Document was Funded by the National Science Founda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deral Cyber Service Scholarship For Service Progra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nt No. 01136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ted July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bry-Riddle Aeronautical University • Prescott, Arizona •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80240" y="6107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211480" cy="26672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velopment organization responds to the buffer overflow vulnerability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33526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ing the underlying code problem in its later ver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ing patches with correcte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ing develpment processes and tools to avoid similar buffer over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059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9094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7249" y="3794"/>
                </a:lnTo>
                <a:lnTo>
                  <a:pt x="7249" y="17806"/>
                </a:lnTo>
                <a:lnTo>
                  <a:pt x="558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211120" cy="26672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feedback to academi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were, it c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 the pipeline of students more sensitive to buffer overflo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rove education and training materials - books, exercises, too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ourage authors and instructors to raise the visibility of the buffer overflow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orporate economic lessons of publicity and cost analyses from journalists and industry analy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0" t="0" r="14935" b="23733"/>
          <a:stretch/>
        </p:blipFill>
        <p:spPr>
          <a:xfrm>
            <a:off x="2438280" y="1905120"/>
            <a:ext cx="1447920" cy="1143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3059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9094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7249" y="3794"/>
                </a:lnTo>
                <a:lnTo>
                  <a:pt x="7249" y="17806"/>
                </a:lnTo>
                <a:lnTo>
                  <a:pt x="558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his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presentation is part of a larger package of materials on buffer overflow vulnerabilities, defenses, and software practices. For more  information, go to: 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http://nsfsecurity.pr.era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so available 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monstrations of how buffer overflows occur (Java apple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 lecture-style presentations on an introduction to buffer overflows, preventing buffer overflows (for C programmers), and a case study of Co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ecklists and Points to Remember for C Program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 interactive module and quiz set with alternative paths for journalists/analysts and IT managers as well as programmers and te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scavenger hunt on implications of the buffer overflow vulnerabil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ease complete a feedback form at http://nsfsecurity.pr.erau.edu/feedback.html to tell us how you used this material and to offer suggestions for improv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357120"/>
            <a:ext cx="8299440" cy="5738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Engineering Lifecycle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on the diagram sections to view a 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22860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1143000" y="228600"/>
            <a:ext cx="1676520" cy="167652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914400" y="2209680"/>
            <a:ext cx="2590920" cy="320040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4" action="ppaction://hlinksldjump"/>
          </p:cNvPr>
          <p:cNvSpPr/>
          <p:nvPr/>
        </p:nvSpPr>
        <p:spPr>
          <a:xfrm>
            <a:off x="4876920" y="1600200"/>
            <a:ext cx="3124080" cy="114300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5" action="ppaction://hlinksldjump"/>
          </p:cNvPr>
          <p:cNvSpPr/>
          <p:nvPr/>
        </p:nvSpPr>
        <p:spPr>
          <a:xfrm>
            <a:off x="6172200" y="3962520"/>
            <a:ext cx="1143000" cy="15238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6" action="ppaction://hlinksldjump"/>
          </p:cNvPr>
          <p:cNvSpPr/>
          <p:nvPr/>
        </p:nvSpPr>
        <p:spPr>
          <a:xfrm>
            <a:off x="6324480" y="4114800"/>
            <a:ext cx="1143000" cy="15238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7" action="ppaction://hlinksldjump"/>
          </p:cNvPr>
          <p:cNvSpPr/>
          <p:nvPr/>
        </p:nvSpPr>
        <p:spPr>
          <a:xfrm>
            <a:off x="7467480" y="3962520"/>
            <a:ext cx="1067040" cy="1981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8" action="ppaction://hlinksldjump"/>
          </p:cNvPr>
          <p:cNvSpPr/>
          <p:nvPr/>
        </p:nvSpPr>
        <p:spPr>
          <a:xfrm>
            <a:off x="4038480" y="4191120"/>
            <a:ext cx="1600200" cy="15238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9" action="ppaction://hlinksldjump"/>
          </p:cNvPr>
          <p:cNvSpPr/>
          <p:nvPr/>
        </p:nvSpPr>
        <p:spPr>
          <a:xfrm>
            <a:off x="2666880" y="5486400"/>
            <a:ext cx="990720" cy="3808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0" action="ppaction://hlinksldjump"/>
          </p:cNvPr>
          <p:cNvSpPr/>
          <p:nvPr/>
        </p:nvSpPr>
        <p:spPr>
          <a:xfrm>
            <a:off x="2666880" y="5867280"/>
            <a:ext cx="1143000" cy="38124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1" action="ppaction://hlinksldjump"/>
          </p:cNvPr>
          <p:cNvSpPr/>
          <p:nvPr/>
        </p:nvSpPr>
        <p:spPr>
          <a:xfrm>
            <a:off x="609480" y="5562720"/>
            <a:ext cx="1219320" cy="53316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1701720" cy="1498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ademia produces students wh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6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n't tuned into the dangers of buffer overflow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't recognize a buffer overflow vulnerability when they see it, so they make the mistake in cod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careless in their coding as well as inspection and testing tas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not made aware of buffer overflows by instructors or textboo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059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9094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7249" y="3794"/>
                </a:lnTo>
                <a:lnTo>
                  <a:pt x="7249" y="17806"/>
                </a:lnTo>
                <a:lnTo>
                  <a:pt x="558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2320" y="76176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rs, Developers and QA specialists iterate through cycles of detailed design and coding bu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26668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mploy poor coding and quality skills learned in sch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often forced to use low-level languages like 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established programming techniques that are highly error-pr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il to incorporate inspection and design techniques known to prevent and discover buffer overfl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n levels of code they can't control but which are riddled with buffer overflow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959120" cy="2362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059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9094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7249" y="3794"/>
                </a:lnTo>
                <a:lnTo>
                  <a:pt x="7249" y="17806"/>
                </a:lnTo>
                <a:lnTo>
                  <a:pt x="558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994040" cy="1562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66520" y="7617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 Overflow Vulnerabiliti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detected during developm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QA get into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ulnerable code slips through tests and insp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products expose buffer overflows in old code from libraries and other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 use of products to avoid buffer overflows isn't known or docu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901800" cy="774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059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9094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7249" y="3794"/>
                </a:lnTo>
                <a:lnTo>
                  <a:pt x="7249" y="17806"/>
                </a:lnTo>
                <a:lnTo>
                  <a:pt x="558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nd User may find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 Overflow unintentionall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may search for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rdinary user may observe unusual activity or symptoms of buffer over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shops like Eeye and university groups search for vulnerabilities by playing the role of attackers on new and old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42920" cy="2249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059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9094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7249" y="3794"/>
                </a:lnTo>
                <a:lnTo>
                  <a:pt x="7249" y="17806"/>
                </a:lnTo>
                <a:lnTo>
                  <a:pt x="558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ttacker finds a wa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orce a buffer overflow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eet their purpo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ers know common vulnerabilities of vendors and their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ers learn from the web and from each other how to make buffer overflows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ers acquire ways to make buffer overflows lead to hijacking a system or planting seeds for future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42920" cy="224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059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9094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7249" y="3794"/>
                </a:lnTo>
                <a:lnTo>
                  <a:pt x="7249" y="17806"/>
                </a:lnTo>
                <a:lnTo>
                  <a:pt x="558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8680" y="152280"/>
            <a:ext cx="2084400" cy="25146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product users find a buffer overflow and alert auth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lurry of patching occu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3124080"/>
            <a:ext cx="80773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ert goes to the vendor and official sites like cert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firmation, analysis, and explanation goes out to vendors and users as an advis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2209680" cy="1015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3059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9094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7249" y="3794"/>
                </a:lnTo>
                <a:lnTo>
                  <a:pt x="7249" y="17806"/>
                </a:lnTo>
                <a:lnTo>
                  <a:pt x="558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8680" y="228600"/>
            <a:ext cx="2211480" cy="2666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veloper reaction team, security shop, and authoriti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a pat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426672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of the product must install the patch to protect themselves and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 issue multiple patches, often da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0" t="0" r="831" b="-1813"/>
          <a:stretch/>
        </p:blipFill>
        <p:spPr>
          <a:xfrm>
            <a:off x="2590920" y="2057400"/>
            <a:ext cx="2133360" cy="1733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4097400">
            <a:off x="1339560" y="2622600"/>
            <a:ext cx="1015920" cy="952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059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9094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7249" y="3794"/>
                </a:lnTo>
                <a:lnTo>
                  <a:pt x="7249" y="17806"/>
                </a:lnTo>
                <a:lnTo>
                  <a:pt x="558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4T00:13:22Z</dcterms:created>
  <dc:creator>Webster Goodfellow</dc:creator>
  <dc:description/>
  <dc:language>en-US</dc:language>
  <cp:lastModifiedBy>Webster Goodfellow</cp:lastModifiedBy>
  <dcterms:modified xsi:type="dcterms:W3CDTF">2002-07-10T05:51:22Z</dcterms:modified>
  <cp:revision>22</cp:revision>
  <dc:subject/>
  <dc:title>PowerPoint Presentation  -  Software Engineering Lifecycle</dc:title>
</cp:coreProperties>
</file>