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er Overflow Defenses. ©2002, Jedidiah R. Crandall, Susan L. Gerhart, Jan G. Hogle. http://sfsecurity.pr.erau.edu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sfsecurity.pr.erau.edu/" TargetMode="External"/><Relationship Id="rId2" Type="http://schemas.openxmlformats.org/officeDocument/2006/relationships/hyperlink" Target="http://nsfsecurity.pr.erau.edu/" TargetMode="External"/><Relationship Id="rId3" Type="http://schemas.openxmlformats.org/officeDocument/2006/relationships/hyperlink" Target="http://nsfsecurity.pr.erau.edu/" TargetMode="External"/><Relationship Id="rId4" Type="http://schemas.openxmlformats.org/officeDocument/2006/relationships/hyperlink" Target="http://nsfsecurity.pr.erau.edu/" TargetMode="External"/><Relationship Id="rId5" Type="http://schemas.openxmlformats.org/officeDocument/2006/relationships/hyperlink" Target="http://nsfsecurity.pr.erau.edu/" TargetMode="External"/><Relationship Id="rId6" Type="http://schemas.openxmlformats.org/officeDocument/2006/relationships/hyperlink" Target="http://nsfsecurity.pr.erau.edu/feedback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ffer Overflow Defen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46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: Jedidiah R. Crandall, crandaj@erau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cument was Funded by the National Science Found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deral Cyber Service Scholarship For Service Progra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nt No. 0113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 July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-Riddle Aeronautical University • Prescott, Arizona •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out this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resentation is part of a larger package of materials on buffer overflow vulnerabilities, defenses, and software practic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more  information, go to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nsfsecurity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pr.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rau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available 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onstrations of how buffer overflows occur (Java appl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Point lecture-style presentations on an introduction to buffer overflows, preventing buffer overflows (for C programmers), and a case study of Cod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lists and Points to Remember for C Program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interactive module and quiz set with alternative paths for journalists/analysts and IT managers as well as programmers and te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cavenger hunt on implications of the buffer overflow vulnerabili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ease complete a feedback for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nsfsecurity.pr.erau.edu/feedback.htm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tell us how you used this material and to offer suggestions for improv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ffer Overflow Defen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ection presents some defenses against buffer overflows and their pros and cons in a not-too-technical m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ea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is is not intended to be a complete list of products that defend against buffer overfl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here is no silver bullet that will stamp out buffer overflows, but some of these tools may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nds of Defen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software engineering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-and-patch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tter software engineering pract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Testing, code inspection, documentation of reuse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308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revent all types of buffer overflows before the software is rel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308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consuming, and time is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-and-patch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Software patches, anti-viru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effective at preventing known attacks, or even unknown attacks on known vulner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does not require that the software be recomp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effective at preventing attacks on unknown vulnerabilities, or sometimes unknown attacks on known vulner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nguage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, Perl, Ada, Cyclone, or any language that is not as susceptible to buffer overflows as C/C++, or components/libraries for C/C++ that are less susceptible to buffer over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f better languages or libraries will greatly ameliorate the buffer overflow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grammer still has to be able to know how to handle long input strings – Should the input be truncated? Rejected?  Should the buffer be resized?  Should the program hal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/C++ are popular languages and there are valid reasons for using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sed C code must be heavily modified to use new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sis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analysis tools that search the source code for possible buffer overflows, dynamic analysis tools that help identify buffer overflows during program execution for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analysis tools can be very useful for code insp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analysis tools can help you catch errors during testing that you might not have caught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analysis tools produce many false positives and only look for certain kinds of buffer overflows, such as unsafe library func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iler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automatic bounds checking to a C compiler, or protecting the return pointer (see StackGaurd appl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automatic bounds checking to a C compiler can prevent many buffer ove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ing the return pointer virtually eliminates stack smashing, which is currently the most prevalent and disastrous kind of buffer overflow at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a performance overhead, especially for adding bounds checking to C compi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ing the return pointer does not prevent heap-based attacks, denial-of-service attacks, or data corru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rating system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usion detection, disabling execution of code where there shouldn’t b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bling the execution of code where there shouldn’t be code usually has a negligible performanc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usion detection systems can detect unknown attacks by monitoring user behavior for anomalies or likely attack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ther of these will prevent every kind of buffer overflow at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usion detection is a developing technology and is not per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Webster Goodfellow</cp:lastModifiedBy>
  <dcterms:modified xsi:type="dcterms:W3CDTF">2002-07-10T06:09:13Z</dcterms:modified>
  <cp:revision>6</cp:revision>
  <dc:subject/>
  <dc:title>PowerPoint Presentation</dc:title>
</cp:coreProperties>
</file>