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 to Buffer Overflow Quiz. ©2002, Jedidiah R. Crandall, Susan L. Gerhart, Jan G. Hogle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: Buffer Overflow In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98560" y="2048040"/>
            <a:ext cx="72057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397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Questions, Answers follow the “About”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What prevents a typical computer from jumping and starting to execute data instead of instru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s are used to separate instructions an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uter can always tell the difference based on what is in the memor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instructions are stored in separate memory spaces on most modern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What operations are permissible on a sta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ng things in the 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things out of the 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things off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hings on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hings on the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things off the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207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057400"/>
            <a:ext cx="19098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6080" y="2057400"/>
            <a:ext cx="120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914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Which of these statements about the buffer overflow problem are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er overflow problem is partly caused by the way the C language handles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er overflow problem is partly caused by C programmers not handling their own memory management properly by checking boundaries of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uffer overflows are simple programmer errors that are easily spo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complexity of the problem, buffer overflows may be overlooked by the most seasoned 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can make a buffer overflow a security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hen the attacker is able to hijack the execution of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hen the buffer overflow is between two computers on a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curity-sensitive data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ata that is critical to the execution of the program is overwritten causing the program to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can be stored using a single by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from 0 to 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from 0 to 42949672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variables (i.e. 1 = Okay to access the file and 0 = Not okay to access the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What can be stored in a computer’s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uch as integers and ASCII charca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s for a program that the computer is r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er to the address of some other data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er to the address of some more instruction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What typically happens when a buffer is overflow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ory space that comes after the buffer holds the extra data as well as keeping the data that it contain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ever is in the memory space that comes after the buffer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ory chip in the computer gets too big and expl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s fall out of the memory chip and start a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What does it mean for a program to ju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program gets moved from one place in memory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starts executing instructions at a different location in memory instead of moving on to the nex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jumps outside the bounds of a buffer to stor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 is only used to refer to when a program starts executing instructions somewhere where it’s not suppos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Which of these is a good example of subrout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ck of trays in the cafe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ing five gallons of water into a four-gallon bu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S form which has boxes where you write things like adjusted income, exemptions, wages, ti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 for brushing your teeth is broken up into subroutines: getting out your toothbrush and toothpaste, putting toothpaste on the toothbrush, brushing your molars on the right, brushing your molars on the lef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What does a typical C program usually use stacks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ry storage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oring the computer-level instructions of a subroutine while the subroutine is being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track of where it was within subroutines that called other subroutines so it knows where to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reventing 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06T22:39:47Z</dcterms:modified>
  <cp:revision>6</cp:revision>
  <dc:subject/>
  <dc:title>PowerPoint Presentation</dc:title>
</cp:coreProperties>
</file>