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Defenses. ©2002, Jedidiah R. Crandall, Susan L. Gerhart, Jan G. Hogle. http://sfsecurity.pr.erau.edu.</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research.att.com/projects/cyclone/"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bsoftware.com/libmib/astring/"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igital.com/its4/"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rational.com/products/purify_nt/index.jsp"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gcc.gnu.org/projects/bp/main.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se.ogi.edu/DISC/projects/immunix/StackGuard/usenixsc98_html/" TargetMode="External"/><Relationship Id="rId2" Type="http://schemas.openxmlformats.org/officeDocument/2006/relationships/hyperlink" Target="http://www.lucent.com/press/0400/000420.bla.html"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openwall.com/linux/"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Defenses</a:t>
            </a:r>
            <a:endParaRPr b="0" lang="en-US" sz="44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and-patch Methods– </a:t>
            </a:r>
            <a:br>
              <a:rPr sz="3200"/>
            </a:br>
            <a:r>
              <a:rPr b="0" lang="en-US" sz="3200" spc="-1" strike="noStrike">
                <a:solidFill>
                  <a:srgbClr val="000000"/>
                </a:solidFill>
                <a:latin typeface="Times New Roman"/>
              </a:rPr>
              <a:t>Programs that block known attacks</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r>
              <a:rPr b="0" lang="en-US" sz="2000" spc="-1" strike="noStrike">
                <a:solidFill>
                  <a:srgbClr val="000000"/>
                </a:solidFill>
                <a:latin typeface="Times New Roman"/>
              </a:rPr>
              <a:t>An anti-virus program that checks files and other inputs to the system for signatures of known attacks</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effective against specific attacks that are known</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effective against unknown attacks or attacks for which the anti-virus program does not yet have the signatu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gram must keep a current list of signatures for known attacks and must be updated regular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guage tool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s less susceptible to buffer overflows – Languages other than C/C++ that are less susceptible to buffer overflows when used proper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s based on C – Languages like Cyclone that were designed with preventing buffer overflows in mi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afe” buffers – Buffers that automatically truncate inputs, generate exceptions, are grow bigg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r library functions – Library functions that are less susceptible to buffer overflows than the standard C libr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a:t>
            </a:r>
            <a:br>
              <a:rPr sz="3200"/>
            </a:br>
            <a:r>
              <a:rPr b="0" lang="en-US" sz="3200" spc="-1" strike="noStrike">
                <a:solidFill>
                  <a:srgbClr val="000000"/>
                </a:solidFill>
                <a:latin typeface="Times New Roman"/>
              </a:rPr>
              <a:t>Languages less susceptible to buffer overflows</a:t>
            </a:r>
            <a:endParaRPr b="0" lang="en-US" sz="3200" spc="-1" strike="noStrike">
              <a:solidFill>
                <a:srgbClr val="000000"/>
              </a:solidFill>
              <a:latin typeface="Times New Roman"/>
            </a:endParaRPr>
          </a:p>
        </p:txBody>
      </p:sp>
      <p:sp>
        <p:nvSpPr>
          <p:cNvPr id="63"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r>
              <a:rPr b="0" lang="en-US" sz="2000" spc="-1" strike="noStrike">
                <a:solidFill>
                  <a:srgbClr val="000000"/>
                </a:solidFill>
                <a:latin typeface="Times New Roman"/>
              </a:rPr>
              <a:t> </a:t>
            </a:r>
            <a:r>
              <a:rPr b="0" lang="en-US" sz="1600" spc="-1" strike="noStrike">
                <a:solidFill>
                  <a:srgbClr val="000000"/>
                </a:solidFill>
                <a:latin typeface="Times New Roman"/>
              </a:rPr>
              <a:t>Ada, Java, Perl, Python, etc.</a:t>
            </a:r>
            <a:endParaRPr b="0" lang="en-US" sz="16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bounds checking makes them less susceptible to the buffer overflow problem</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ption handling can greatly ameliorate the problem</a:t>
            </a:r>
            <a:endParaRPr b="0" lang="en-US" sz="16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different languages can increase development cost</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 of these languages give the programmer access to the machine at a low level</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 of these languages give you the performance of  C/C++, most require distributable run-time environments</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 are popular languages that many programmers are familiar with</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happens when a string that is too long is entered or an array is referenced out of bounds, is an exception generated, does the buffer grow, does the program just halt, is the user asked to provide different input?</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mer still must be aware of buffer overflows to provide exception handlers to do what they want (Exception handling comes with its own set of probl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Languages based on C</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r>
              <a:rPr b="0" lang="en-US" sz="2000" spc="-1" strike="noStrike" u="sng">
                <a:solidFill>
                  <a:srgbClr val="0000ff"/>
                </a:solidFill>
                <a:uFillTx/>
                <a:latin typeface="Times New Roman"/>
                <a:hlinkClick r:id="rId1"/>
              </a:rPr>
              <a:t>Cyclone</a:t>
            </a:r>
            <a:r>
              <a:rPr b="0" lang="en-US" sz="2000" spc="-1" strike="noStrike">
                <a:solidFill>
                  <a:srgbClr val="000000"/>
                </a:solidFill>
                <a:latin typeface="Times New Roman"/>
              </a:rPr>
              <a:t> is a different dialect of C that handles pointers in a much safer manner</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ition from C to Cyclone is an easy one because Cyclone is nearly identical to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 source code must be recompiled and probably modifi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ported to Cyclone must be debugged, and gdb (a commonly used UNIX-based debugger) doesn’t work well with Cycl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pointers in Cyclone is considerably more complicated than using pointers in C (‘*’ is replaced with ‘*’, ‘@’, an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one does not provide object-oriented feat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Safe” buffers</a:t>
            </a:r>
            <a:endParaRPr b="0" lang="en-US" sz="3200" spc="-1" strike="noStrike">
              <a:solidFill>
                <a:srgbClr val="000000"/>
              </a:solidFill>
              <a:latin typeface="Times New Roman"/>
            </a:endParaRPr>
          </a:p>
        </p:txBody>
      </p:sp>
      <p:sp>
        <p:nvSpPr>
          <p:cNvPr id="67"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r>
              <a:rPr b="0" lang="en-US" sz="2000" spc="-1" strike="noStrike">
                <a:solidFill>
                  <a:srgbClr val="000000"/>
                </a:solidFill>
                <a:latin typeface="Times New Roman"/>
              </a:rPr>
              <a:t>:  C++ class objects that do bounds checking like CString,  or “limitless” strings like </a:t>
            </a:r>
            <a:r>
              <a:rPr b="0" lang="en-US" sz="2000" spc="-1" strike="noStrike" u="sng">
                <a:solidFill>
                  <a:srgbClr val="0000ff"/>
                </a:solidFill>
                <a:uFillTx/>
                <a:latin typeface="Times New Roman"/>
                <a:hlinkClick r:id="rId1"/>
              </a:rPr>
              <a:t>libmib</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safer than standard string handling in C</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s can be handled instead of a program hal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the use of different library functions, meaning that existing code has to be modified or interfaced with in a low-level wa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mitless” string has to continually be reallocated meaning a bigger heap and a performance cos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you don’t want the buffer to grow and accept a bigger 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 – Safer library function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1800" spc="-1" strike="noStrike">
                <a:solidFill>
                  <a:srgbClr val="000000"/>
                </a:solidFill>
                <a:latin typeface="Times New Roman"/>
              </a:rPr>
              <a:t>Use of a different library than the standard C libraries</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es problems with unsafe library function calls in C/C++</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code has to be modifi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ers have to become familiar with a different set of librar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string and memory handling libraries are replaced, but not standard library functions specific to an operating system like file handling and environment variable functions which can also lead to buffer overflow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buffer overflows are caused by library func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happens when a buffer’s limit is reached?  Does the program halt?  Is the string truncated?  Is an exception gener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analysis – Tools that find possible defects in the source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analysis – Tools that find possible defects by analyzing things like memory usage during execution of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 - Static</a:t>
            </a:r>
            <a:endParaRPr b="0" lang="en-US" sz="4000" spc="-1" strike="noStrike">
              <a:solidFill>
                <a:srgbClr val="000000"/>
              </a:solidFill>
              <a:latin typeface="Times New Roman"/>
            </a:endParaRPr>
          </a:p>
        </p:txBody>
      </p:sp>
      <p:sp>
        <p:nvSpPr>
          <p:cNvPr id="7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2400" spc="-1" strike="noStrike">
                <a:solidFill>
                  <a:srgbClr val="000000"/>
                </a:solidFill>
                <a:latin typeface="Times New Roman"/>
              </a:rPr>
              <a:t>Software that searches source code for unsafe library function calls like </a:t>
            </a:r>
            <a:r>
              <a:rPr b="0" lang="en-US" sz="2400" spc="-1" strike="noStrike" u="sng">
                <a:solidFill>
                  <a:srgbClr val="0000ff"/>
                </a:solidFill>
                <a:uFillTx/>
                <a:latin typeface="Times New Roman"/>
                <a:hlinkClick r:id="rId1"/>
              </a:rPr>
              <a:t>ITS4</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a very effective tool during code inspection by finding unsafe library function calls and making recommendation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effective against buffer overflows caused by unsafe standard C library function cal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s many false positives, only a fraction of the library function calls that are reported are actually unsa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tools - Dynamic</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2000" spc="-1" strike="noStrike">
                <a:solidFill>
                  <a:srgbClr val="000000"/>
                </a:solidFill>
                <a:latin typeface="Times New Roman"/>
              </a:rPr>
              <a:t>Tools that analyze memory use of a program during testing, like </a:t>
            </a:r>
            <a:r>
              <a:rPr b="0" lang="en-US" sz="2000" spc="-1" strike="noStrike" u="sng">
                <a:solidFill>
                  <a:srgbClr val="0000ff"/>
                </a:solidFill>
                <a:uFillTx/>
                <a:latin typeface="Times New Roman"/>
                <a:hlinkClick r:id="rId1"/>
              </a:rPr>
              <a:t>Purify</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detect buffer overflows that occur during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esting won’t catch buffer overflows where data is corrupted but program behavior is not affected, dynamic analysis will</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overflows that lead to erratic program behavior can usually be found during testing without dynamic analysis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tool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bounds checking to all buf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 the return pointer on the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ffer Overflow Defenses</a:t>
            </a:r>
            <a:endParaRPr b="0" lang="en-US" sz="3600" spc="-1" strike="noStrike">
              <a:solidFill>
                <a:srgbClr val="000000"/>
              </a:solidFill>
              <a:latin typeface="Times New Roman"/>
            </a:endParaRPr>
          </a:p>
        </p:txBody>
      </p:sp>
      <p:sp>
        <p:nvSpPr>
          <p:cNvPr id="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s some examples, pros, and cons of various defenses against buffer overflows.</a:t>
            </a:r>
            <a:endParaRPr b="0" lang="en-US" sz="2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is is not intended to be a complete list of products that defend against buffer overflow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re is no silver bullet that will stamp out buffer overflows, but some of these tools may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tools – Bounds checking</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tempts to add bounds checking to </a:t>
            </a:r>
            <a:r>
              <a:rPr b="0" lang="en-US" sz="2800" spc="-1" strike="noStrike" u="sng">
                <a:solidFill>
                  <a:srgbClr val="0000ff"/>
                </a:solidFill>
                <a:uFillTx/>
                <a:latin typeface="Times New Roman"/>
                <a:hlinkClick r:id="rId1"/>
              </a:rPr>
              <a:t>gc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require modification of the source code, although you do still have to recompile</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significant decrease in performance, code size and execution time can dou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programs that a systems administrator wants to protect must be recompil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prevent every possible buffer over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iler tools – </a:t>
            </a:r>
            <a:br>
              <a:rPr sz="3600"/>
            </a:br>
            <a:r>
              <a:rPr b="0" lang="en-US" sz="3600" spc="-1" strike="noStrike">
                <a:solidFill>
                  <a:srgbClr val="000000"/>
                </a:solidFill>
                <a:latin typeface="Times New Roman"/>
              </a:rPr>
              <a:t>Protect the return pointer</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1600" spc="-1" strike="noStrike">
                <a:solidFill>
                  <a:srgbClr val="000000"/>
                </a:solidFill>
                <a:latin typeface="Times New Roman"/>
              </a:rPr>
              <a:t>Placing a canary on the stack to detect buffer overflows such as </a:t>
            </a:r>
            <a:r>
              <a:rPr b="0" lang="en-US" sz="1600" spc="-1" strike="noStrike" u="sng">
                <a:solidFill>
                  <a:srgbClr val="0000ff"/>
                </a:solidFill>
                <a:uFillTx/>
                <a:latin typeface="Times New Roman"/>
                <a:hlinkClick r:id="rId1"/>
              </a:rPr>
              <a:t>StackGuard</a:t>
            </a:r>
            <a:r>
              <a:rPr b="0" lang="en-US" sz="1600" spc="-1" strike="noStrike">
                <a:solidFill>
                  <a:srgbClr val="000000"/>
                </a:solidFill>
                <a:latin typeface="Times New Roman"/>
              </a:rPr>
              <a:t>, or adding automatic bounds checking for all strings on the stack like </a:t>
            </a:r>
            <a:r>
              <a:rPr b="0" lang="en-US" sz="1600" spc="-1" strike="noStrike" u="sng">
                <a:solidFill>
                  <a:srgbClr val="0000ff"/>
                </a:solidFill>
                <a:uFillTx/>
                <a:latin typeface="Times New Roman"/>
                <a:hlinkClick r:id="rId2"/>
              </a:rPr>
              <a:t>libsafe</a:t>
            </a:r>
            <a:endParaRPr b="0" lang="en-US" sz="1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not require that existing code be modified (although it sometimes must be recompil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effectively prevent stack smashing attacks</a:t>
            </a:r>
            <a:endParaRPr b="0" lang="en-US" sz="1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all buffer overflow attacks are stack smashing attacks, program execution can be hijacked using heap-based attacks and data can always be corrup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ificant performance overhea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ckGuard causes the program to halt upon detection of a buffer overflow leaving it open to denial-of-service attack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ckGuard requires that the target program to be protected is recompiled, libsafe does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system tools</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le execution of code outside the code space – It is possible on some architectures to distinguish between code and data and not allow data to be executed as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usion detection systems – These are programs that watch for abnormal behavior or behavior that is similar to attack behav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on of an interrupt – With hardware support it is possible to set bounds on a buffer and generate an interrupt when an attempt is made to access or change memory outside those bo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tools – </a:t>
            </a:r>
            <a:br>
              <a:rPr sz="3200"/>
            </a:br>
            <a:r>
              <a:rPr b="0" lang="en-US" sz="3200" spc="-1" strike="noStrike">
                <a:solidFill>
                  <a:srgbClr val="000000"/>
                </a:solidFill>
                <a:latin typeface="Times New Roman"/>
              </a:rPr>
              <a:t>Disable code execution outside the code space</a:t>
            </a:r>
            <a:endParaRPr b="0" lang="en-US" sz="3200" spc="-1" strike="noStrike">
              <a:solidFill>
                <a:srgbClr val="000000"/>
              </a:solidFill>
              <a:latin typeface="Times New Roman"/>
            </a:endParaRPr>
          </a:p>
        </p:txBody>
      </p:sp>
      <p:sp>
        <p:nvSpPr>
          <p:cNvPr id="85"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1400" spc="-1" strike="noStrike">
                <a:solidFill>
                  <a:srgbClr val="000000"/>
                </a:solidFill>
                <a:latin typeface="Times New Roman"/>
              </a:rPr>
              <a:t>A </a:t>
            </a:r>
            <a:r>
              <a:rPr b="0" lang="en-US" sz="1400" spc="-1" strike="noStrike" u="sng">
                <a:solidFill>
                  <a:srgbClr val="0000ff"/>
                </a:solidFill>
                <a:uFillTx/>
                <a:latin typeface="Times New Roman"/>
                <a:hlinkClick r:id="rId1"/>
              </a:rPr>
              <a:t>patch</a:t>
            </a:r>
            <a:r>
              <a:rPr b="0" lang="en-US" sz="1400" spc="-1" strike="noStrike">
                <a:solidFill>
                  <a:srgbClr val="000000"/>
                </a:solidFill>
                <a:latin typeface="Times New Roman"/>
              </a:rPr>
              <a:t> for Linux that disables execution of code on the stack as well as maps library function calls to addresses with a zero byte in them</a:t>
            </a:r>
            <a:endParaRPr b="0" lang="en-US" sz="1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ly, the most common and most devastating buffer overflow exploit is stack smashing and this patch makes stack smashing much more difficul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not require that existing software be modified or recompil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zero byte in the address of a system call forces the attacker to have a null character in the attack string</a:t>
            </a:r>
            <a:endParaRPr b="0" lang="en-US" sz="1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not prevent all stack smashing attacks, often attack code can be placed in global variables or on the heap, or library code to spin a shell already exists in the code space (i.e., system() or execv())</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ashing still leaves programs open to denial-of-service and core dump attack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ull character in just the right place in an attack string is not always impossible for an attacker to accomplish, and they can always jump to a small piece of code in variable space that contains a second jump to the desired locati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legitimate programs execute code on the stack, but very few, and there is a work-around for thi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 tools – </a:t>
            </a:r>
            <a:br>
              <a:rPr sz="3600"/>
            </a:br>
            <a:r>
              <a:rPr b="0" lang="en-US" sz="3600" spc="-1" strike="noStrike">
                <a:solidFill>
                  <a:srgbClr val="000000"/>
                </a:solidFill>
                <a:latin typeface="Times New Roman"/>
              </a:rPr>
              <a:t>Intrusion detection</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An intrusion detection system could keep track of what patterns of system calls programs usually exhibit, and then report or react to anomalies such as an “execv()” call when the next system call is usually to close a file</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be able to detect a variety of hijacking attacks, not just stack smash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be able to detect many attacks on unknown vulnerabilitie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usion detection is a developing technolog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ffending process will probably be killed leaving it open to a denial-of-service at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 tools – </a:t>
            </a:r>
            <a:br>
              <a:rPr sz="3600"/>
            </a:br>
            <a:r>
              <a:rPr b="0" lang="en-US" sz="3600" spc="-1" strike="noStrike">
                <a:solidFill>
                  <a:srgbClr val="000000"/>
                </a:solidFill>
                <a:latin typeface="Times New Roman"/>
              </a:rPr>
              <a:t>Generation of an Interrupt</a:t>
            </a:r>
            <a:endParaRPr b="0" lang="en-US" sz="3600" spc="-1" strike="noStrike">
              <a:solidFill>
                <a:srgbClr val="000000"/>
              </a:solidFill>
              <a:latin typeface="Times New Roman"/>
            </a:endParaRPr>
          </a:p>
        </p:txBody>
      </p:sp>
      <p:sp>
        <p:nvSpPr>
          <p:cNvPr id="89"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With hardware support the program could set the bounds of every buffer and an interrupt would be generated if an attempt was made to access or change memory outside of those bound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prevent many buffer overflows if done properly</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er arithmetic would still be unbounded as a pointer might be pointing to an array of 100 bytes, and array of 50 bytes, or to the 4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yte of an array of 50 by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rs would still have to be educated about buffer overflows because they need to write an interrupt handler to do what they want it to (halt, truncate the buffer, ask the user for different 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out this Project</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esentation is part of a larger package of materials on buffer overflow vulnerabilities, defenses, and software practices</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For more  information, go to: </a:t>
            </a:r>
            <a:r>
              <a:rPr b="0" lang="en-US" sz="1600" spc="-1" strike="noStrike">
                <a:solidFill>
                  <a:srgbClr val="3333cc"/>
                </a:solidFill>
                <a:latin typeface="Times New Roman"/>
              </a:rPr>
              <a:t>http://nsfsecurity.pr.erau.edu</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available ar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onstrations of how buffer overflows occur (Java apple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 and Points to Remember for C Programm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teractive module and quiz set with alternative paths for journalists/analysts and IT managers as well as programmers and teste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avenger hunt on implications of the buffer overflow vulnerability</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se complete a feedback form</a:t>
            </a:r>
            <a:r>
              <a:rPr b="0" lang="en-US" sz="1600" spc="-1" strike="noStrike">
                <a:solidFill>
                  <a:srgbClr val="000000"/>
                </a:solidFill>
                <a:latin typeface="Times New Roman"/>
              </a:rPr>
              <a:t> at http://nsfsecurity.pr.erau.edu/feedback.html to tell us how you used this material and to offer suggestions for improve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nds of Defenses</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and-patch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t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 Execution of the software with selected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 Inspection of the code by humans with a checklist to make sure the code meets certain crite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of vendor code – Documentation of vendor code components that others may reuse in their own pro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ter Software Engineering Practices - Testing</a:t>
            </a:r>
            <a:endParaRPr b="0" lang="en-US" sz="3600" spc="-1" strike="noStrike">
              <a:solidFill>
                <a:srgbClr val="000000"/>
              </a:solidFill>
              <a:latin typeface="Times New Roman"/>
            </a:endParaRPr>
          </a:p>
        </p:txBody>
      </p:sp>
      <p:sp>
        <p:nvSpPr>
          <p:cNvPr id="49"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testing practices should catch most buffer overflow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s money, sometimes it’s a more economically sound solution to allow buffer overflows than to find the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vendor software, you can’t white-box test software that you don’t have the source code or the documentation f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rruption is harder to detect than abnormal program behavior without dynamic analysis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r>
              <a:rPr b="0" lang="en-US" sz="4000" spc="-1" strike="noStrike">
                <a:solidFill>
                  <a:srgbClr val="000000"/>
                </a:solidFill>
                <a:latin typeface="Times New Roman"/>
              </a:rPr>
              <a:t>– </a:t>
            </a:r>
            <a:br>
              <a:rPr sz="4000"/>
            </a:br>
            <a:r>
              <a:rPr b="0" lang="en-US" sz="3200" spc="-1" strike="noStrike">
                <a:solidFill>
                  <a:srgbClr val="000000"/>
                </a:solidFill>
                <a:latin typeface="Times New Roman"/>
              </a:rPr>
              <a:t>Code Inspection</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may catch many buffer overflows that testing won’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mon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vendor software, you can’t do a code inspection if you don’t have the source 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oftware Engineering Practices</a:t>
            </a:r>
            <a:r>
              <a:rPr b="0" lang="en-US" sz="4000" spc="-1" strike="noStrike">
                <a:solidFill>
                  <a:srgbClr val="000000"/>
                </a:solidFill>
                <a:latin typeface="Times New Roman"/>
              </a:rPr>
              <a:t> - </a:t>
            </a: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documentation of reusable software components will allow people who use your code in their own projects to test and inspect i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money, and the cost of documenting the code gets passed on to the custom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software companies don’t want to release the source code for libraries that they s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and-patch Methods</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patches – released by vendors a security problem in their software is found to fix the vulner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that block known attacks – Programs that keep a list of known attacks and watch for those attacks on your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and-patch Methods – </a:t>
            </a:r>
            <a:br>
              <a:rPr sz="3600"/>
            </a:br>
            <a:r>
              <a:rPr b="0" lang="en-US" sz="3600" spc="-1" strike="noStrike">
                <a:solidFill>
                  <a:srgbClr val="000000"/>
                </a:solidFill>
                <a:latin typeface="Times New Roman"/>
              </a:rPr>
              <a:t>Software patches</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000" spc="-1" strike="noStrike">
                <a:solidFill>
                  <a:srgbClr val="000000"/>
                </a:solidFill>
                <a:latin typeface="Times New Roman"/>
              </a:rPr>
              <a:t>The vendor, the customer, or a group concerned about software security finds a buffer overflow and a patch is written and released</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effective at preventing known buffer overflow attacks for specific vulnerabilities</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tection against unknown attacks or known attacks for which a patch has not been releas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patches fix the buffer overflow, some are specific to one attack but leave the buffer overflow itself in pl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stomer must regularly check for patches for their system (at the vendor’s website or www.cert.org) and install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6:02:08Z</dcterms:modified>
  <cp:revision>16</cp:revision>
  <dc:subject/>
  <dc:title>PowerPoint Presentation</dc:title>
</cp:coreProperties>
</file>