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67D6-40F2-4DA7-8CAE-D60EB6D61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ABED-9E66-4A87-9284-94F4D920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60C7-1912-47E5-A768-9C8287C8F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B8EB-AD92-42FC-95AC-A28E6A0DB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D3C2-424F-4A96-B2BB-70587BB9F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4C3F-4B62-4D4C-A118-56F4BD9B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C5C4-6BDD-4A91-8515-6A62095F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8725-24B9-4182-A0C3-9380DEEB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BB90-0FDE-4B12-8C26-847E0E33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5E9D-D686-4C93-A639-58AD17F0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571D-2E30-4908-B5DA-12BD1438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BDBF-6926-47C4-8DF9-21014601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4D27B-84E6-462E-974C-F435DDB0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B878-1FA0-4695-BC6A-630008EC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3F0F-0BD0-4766-8D90-0E2E7926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0EC3-A35C-4159-BD85-8E927B15B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39433-5406-4BE9-88C2-5AC659A6F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8C6A-9DD5-4755-A6AA-2C25C78D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619F-0666-4005-9308-4C301A23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8390-ABBE-4A26-AEFC-495183C1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C484-A606-4C27-8EF3-61D6631F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388E-24A9-4C8B-A309-8D426190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4A9F-7CDF-4DA2-8572-3BDC72FB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C175-7365-4E60-BC64-C255AE73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43A2-1345-4E20-B0FC-B5CB1F422466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4B05-EF28-4B96-B85E-98C00EFDE1AC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nternet e </a:t>
            </a:r>
            <a:br>
              <a:rPr sz="4400"/>
            </a:b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la Quality of Ser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d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Colarusso Gabriell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449360" y="0"/>
            <a:ext cx="5331600" cy="1037880"/>
            <a:chOff x="1449360" y="0"/>
            <a:chExt cx="5331600" cy="1037880"/>
          </a:xfrm>
        </p:grpSpPr>
        <p:sp>
          <p:nvSpPr>
            <p:cNvPr id="211" name=""/>
            <p:cNvSpPr/>
            <p:nvPr/>
          </p:nvSpPr>
          <p:spPr>
            <a:xfrm>
              <a:off x="2169720" y="0"/>
              <a:ext cx="3006000" cy="5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1449360" y="368280"/>
              <a:ext cx="5331600" cy="669600"/>
              <a:chOff x="1449360" y="368280"/>
              <a:chExt cx="5331600" cy="669600"/>
            </a:xfrm>
          </p:grpSpPr>
          <p:sp>
            <p:nvSpPr>
              <p:cNvPr id="213" name=""/>
              <p:cNvSpPr/>
              <p:nvPr/>
            </p:nvSpPr>
            <p:spPr>
              <a:xfrm>
                <a:off x="2290320" y="395280"/>
                <a:ext cx="4490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76360"/>
                    <a:tab algn="l" pos="1152360"/>
                    <a:tab algn="l" pos="1728720"/>
                    <a:tab algn="l" pos="2305080"/>
                    <a:tab algn="l" pos="2881440"/>
                    <a:tab algn="l" pos="3457440"/>
                    <a:tab algn="l" pos="4033800"/>
                    <a:tab algn="l" pos="4610160"/>
                    <a:tab algn="l" pos="5186520"/>
                    <a:tab algn="l" pos="5762520"/>
                    <a:tab algn="l" pos="6338880"/>
                    <a:tab algn="l" pos="6915240"/>
                    <a:tab algn="l" pos="7491240"/>
                    <a:tab algn="l" pos="8067600"/>
                    <a:tab algn="l" pos="8643960"/>
                    <a:tab algn="l" pos="9220320"/>
                    <a:tab algn="l" pos="9796320"/>
                    <a:tab algn="l" pos="10372680"/>
                    <a:tab algn="l" pos="10949040"/>
                  </a:tabLst>
                </a:pPr>
                <a:r>
                  <a:rPr b="0" lang="it-IT" sz="1800" spc="-1" strike="noStrike">
                    <a:solidFill>
                      <a:srgbClr val="40458c"/>
                    </a:solidFill>
                    <a:latin typeface="Times New Roman"/>
                  </a:rPr>
                  <a:t>Università di Chieti-Pescara “G. D’Annunzio”</a:t>
                </a: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576360"/>
                    <a:tab algn="l" pos="1152360"/>
                    <a:tab algn="l" pos="1728720"/>
                    <a:tab algn="l" pos="2305080"/>
                    <a:tab algn="l" pos="2881440"/>
                    <a:tab algn="l" pos="3457440"/>
                    <a:tab algn="l" pos="4033800"/>
                    <a:tab algn="l" pos="4610160"/>
                    <a:tab algn="l" pos="5186520"/>
                    <a:tab algn="l" pos="5762520"/>
                    <a:tab algn="l" pos="6338880"/>
                    <a:tab algn="l" pos="6915240"/>
                    <a:tab algn="l" pos="7491240"/>
                    <a:tab algn="l" pos="8067600"/>
                    <a:tab algn="l" pos="8643960"/>
                    <a:tab algn="l" pos="9220320"/>
                    <a:tab algn="l" pos="9796320"/>
                    <a:tab algn="l" pos="10372680"/>
                    <a:tab algn="l" pos="1094904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pic>
            <p:nvPicPr>
              <p:cNvPr id="21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449360" y="368280"/>
                <a:ext cx="840960" cy="628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15" name=""/>
          <p:cNvSpPr/>
          <p:nvPr/>
        </p:nvSpPr>
        <p:spPr>
          <a:xfrm>
            <a:off x="2286000" y="8380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Reti di Calcolatori e Sicurezza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Principi di QoS: </a:t>
            </a: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I principi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1828800"/>
            <a:ext cx="335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Tahoma"/>
              </a:rPr>
              <a:t>I Principio)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La marcatura dei pacchetti permette a un router di distinguere fra pacchetti appartenenti a due diverse classi di traffico.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343400" y="1676520"/>
            <a:ext cx="4191120" cy="32004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914400" y="50292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Tahoma"/>
              </a:rPr>
              <a:t>I Principio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modificato</a:t>
            </a:r>
            <a:r>
              <a:rPr b="1" lang="it-IT" sz="2400" spc="-1" strike="noStrike">
                <a:solidFill>
                  <a:srgbClr val="40458c"/>
                </a:solidFill>
                <a:latin typeface="Tahoma"/>
              </a:rPr>
              <a:t>)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La classificazione dei pacchetti permette a un router di distinguere fra pacchetti appartenenti a diverse classi di traffico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e la Quality of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ECCE-EDEC-486B-B84A-8B1A226B831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Principi di QoS: </a:t>
            </a: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II principi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182880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Tahoma"/>
              </a:rPr>
              <a:t>II Principio)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E’ desiderabile fornire un grado di isolamento fra i flussi di traffico, in modo che un flusso non subisca gli effetti avversi di un altro flusso che si comporta in modo scorretto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14400" y="3581280"/>
            <a:ext cx="7543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Per fornire l’isolamento tra i flussi consideriamo due approcci: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1025640" indent="-457200" algn="just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Sorvegliare i flussi di traffico;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1025640" indent="-457200" algn="just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Fornire un isolamento tra i flussi di traffico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e la Quality of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1119-D5F0-4304-A5B0-B042C37B5B1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914400" y="17524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Sorvegliare i flussi di traffico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3352680" cy="33526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824360" y="2743200"/>
            <a:ext cx="3786120" cy="33526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4572000" y="17683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Fornire l’isolamento tra i flussi di traffico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4320" y="685800"/>
            <a:ext cx="661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Principi di QoS: </a:t>
            </a: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II principio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e la Quality of Serv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4F86-084B-4842-8097-9272C54926A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Principi di QoS: </a:t>
            </a: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III principi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"/>
          <p:cNvSpPr/>
          <p:nvPr/>
        </p:nvSpPr>
        <p:spPr>
          <a:xfrm>
            <a:off x="914400" y="30481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Tahoma"/>
              </a:rPr>
              <a:t>III Principio)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Mentre si fornisce l’isolamento tra i flussi, è desiderabile usare risorse (buffer, larghezza di banda) il più efficientemente possibile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e la Quality of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3B15-06AA-4472-B37F-832134D1CA7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Principi di QoS: </a:t>
            </a: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IV principi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"/>
          <p:cNvSpPr/>
          <p:nvPr/>
        </p:nvSpPr>
        <p:spPr>
          <a:xfrm>
            <a:off x="914400" y="1828800"/>
            <a:ext cx="3429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Tahoma"/>
              </a:rPr>
              <a:t>IV Principio)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È necessario un processo di </a:t>
            </a:r>
            <a:r>
              <a:rPr b="0" lang="it-IT" sz="2400" spc="-1" strike="noStrike" u="sng">
                <a:solidFill>
                  <a:srgbClr val="40458c"/>
                </a:solidFill>
                <a:uFillTx/>
                <a:latin typeface="Tahoma"/>
              </a:rPr>
              <a:t>ammissione della chiamata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in cui i flussi dichiarano i loro requisiti di QoS per poter essere ammessi alla rete (alla QoS richiesta) o bloccati dalla rete (se la QoS non può essere fornita).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4419720" y="2133720"/>
            <a:ext cx="4425840" cy="36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e la Quality of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E9D2-F063-4059-A9D8-D62C5A595C7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Meccanismi di Q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838080" y="18288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Sono 2 i meccanismi in grado di fornire garanzie di QoS: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14400" y="2514600"/>
            <a:ext cx="7620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Tahoma"/>
              </a:rPr>
              <a:t>1)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2400" spc="-1" strike="noStrike" u="sng">
                <a:solidFill>
                  <a:srgbClr val="40458c"/>
                </a:solidFill>
                <a:uFillTx/>
                <a:latin typeface="Tahoma"/>
              </a:rPr>
              <a:t>Meccanismi di SCHEDULING</a:t>
            </a:r>
            <a:r>
              <a:rPr b="1" lang="it-IT" sz="2400" spc="-1" strike="noStrike">
                <a:solidFill>
                  <a:srgbClr val="40458c"/>
                </a:solidFill>
                <a:latin typeface="Tahoma"/>
              </a:rPr>
              <a:t>: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il modo in cui i pacchetti nelle code sono selezionati per la trasmissione sul link. Le modalità di scheduling più importanti sono: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Tahoma"/>
              </a:rPr>
              <a:t>FIFO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(First-In-First-Out)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Tahoma"/>
              </a:rPr>
              <a:t>Accodamento prioritario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Tahoma"/>
              </a:rPr>
              <a:t>Round Robin e WFO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(Weighted Fair Queueing)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e la Quality of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79C7-9E2B-4F61-8872-119CAEEAD6A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Accodamento FIF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317600" y="2668680"/>
            <a:ext cx="7140600" cy="243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e la Quality of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A4FD-D46C-4E11-8B56-B8B25196B99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La coda FIFO in funzio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066680" y="2430360"/>
            <a:ext cx="7543800" cy="2370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e la Quality of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0675-5C9E-420A-8880-FFECA2537B5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Accodamento prioritari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1066680" y="2236680"/>
            <a:ext cx="7288200" cy="324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e la Quality of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43C3-6AE7-476B-B945-7C7C8A4430E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Operazioni nella coda con priorità</a:t>
            </a: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955800" y="2514600"/>
            <a:ext cx="7654680" cy="240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e la Quality of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AFDD-C16A-419B-8D09-6D0FCE776CD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Sommari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914400" y="1828800"/>
            <a:ext cx="76201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40458c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Introduzione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40458c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Che cos’è la QoS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40458c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Obiettivi della Qos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40458c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Componenti base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40458c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Compiti della QoS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40458c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Soluzioni Attuali e Proposte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40458c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Conclusioni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e la Quality of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395E-E0A6-4412-8748-BEFD921AAA9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660066"/>
                </a:solidFill>
                <a:latin typeface="Tahoma"/>
              </a:rPr>
              <a:t>Operazioni della coda Round Robin</a:t>
            </a:r>
            <a:endParaRPr b="0" lang="en-US" sz="3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973080" y="2209680"/>
            <a:ext cx="7637400" cy="235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e la Quality of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167D-3E6F-46D9-8C1C-59E260D3BD4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WFQ - Weighted Fair Queue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990720" y="2048040"/>
            <a:ext cx="7569000" cy="3286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e la Quality of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B059-F210-4055-A57B-6E08D8A3C00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Meccanismi di Q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"/>
          <p:cNvSpPr/>
          <p:nvPr/>
        </p:nvSpPr>
        <p:spPr>
          <a:xfrm>
            <a:off x="914400" y="1828800"/>
            <a:ext cx="7620120" cy="34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Tahoma"/>
              </a:rPr>
              <a:t>2)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2400" spc="-1" strike="noStrike" u="sng">
                <a:solidFill>
                  <a:srgbClr val="40458c"/>
                </a:solidFill>
                <a:uFillTx/>
                <a:latin typeface="Tahoma"/>
              </a:rPr>
              <a:t>Meccanismi di POLICING</a:t>
            </a:r>
            <a:r>
              <a:rPr b="1" lang="it-IT" sz="2400" spc="-1" strike="noStrike">
                <a:solidFill>
                  <a:srgbClr val="40458c"/>
                </a:solidFill>
                <a:latin typeface="Tahoma"/>
              </a:rPr>
              <a:t>: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la sorveglianza è la regolazione della velocità a cui un flusso è consentito di inviare pacchetti nella rete.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2500" spc="-1" strike="noStrike" u="sng">
                <a:solidFill>
                  <a:srgbClr val="40458c"/>
                </a:solidFill>
                <a:uFillTx/>
                <a:latin typeface="Tahoma"/>
              </a:rPr>
              <a:t>3 criteri di sorveglianza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Tahoma"/>
              </a:rPr>
              <a:t>Velocità media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Tahoma"/>
              </a:rPr>
              <a:t>Velocità di picco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Tahoma"/>
              </a:rPr>
              <a:t>Dimensione della raffica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e la Quality of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1E41-FFB1-48D4-9E9F-EAA7C3D1447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Le Soluzioni Attuali e Le Propost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1066680" y="1981080"/>
            <a:ext cx="7162920" cy="38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Tecnologie adottate per garantire una QoS: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ATM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IP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- IntServ e RSVP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- DiffServ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MPLS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38080" y="3200400"/>
            <a:ext cx="4191120" cy="175248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e la Quality of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447D-D141-439E-8842-B9063DF26A5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P: Integrated Services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2743200"/>
            <a:ext cx="76201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Può essere definito, inoltre, come: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un ambiente per il controllo della QoS capace di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fornire un supporto appropriato alle applicazioni;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un’estensione dell’architettura e dei protocolli di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nternet (in primo luogo IP) con lo scopo di rendere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disponibili, sulla rete, servizi con richieste differenti in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termini qualitativi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66680" y="548640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18288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40458c"/>
                </a:solidFill>
                <a:uFillTx/>
                <a:latin typeface="Tahoma"/>
              </a:rPr>
              <a:t>È un modello di servizio per fornire garanzie precise ai singoli flussi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e la Quality of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66D4-3BDE-4FEB-8770-93B95D1861B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P: Integrated Services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3" name=""/>
          <p:cNvSpPr/>
          <p:nvPr/>
        </p:nvSpPr>
        <p:spPr>
          <a:xfrm>
            <a:off x="1066680" y="548640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914400" y="1828800"/>
            <a:ext cx="7696080" cy="48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Le caratteristiche basilari che costituiscono il nucleo dell’architettura IntServ sono due: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AutoNum type="arabicPeriod"/>
              <a:tabLst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 u="sng">
                <a:solidFill>
                  <a:srgbClr val="40458c"/>
                </a:solidFill>
                <a:uFillTx/>
                <a:latin typeface="Tahoma"/>
              </a:rPr>
              <a:t>Risorse riservate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: a un router è richiesto di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conoscere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la quantità delle risorse (buffer, larg. di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banda del link) che sono già state riservate nella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sessione in corso;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AutoNum type="arabicPeriod"/>
              <a:tabLst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 u="sng">
                <a:solidFill>
                  <a:srgbClr val="40458c"/>
                </a:solidFill>
                <a:uFillTx/>
                <a:latin typeface="Tahoma"/>
              </a:rPr>
              <a:t>Impostazione della chiamata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576360" indent="-385920" algn="just">
              <a:lnSpc>
                <a:spcPct val="100000"/>
              </a:lnSpc>
              <a:spcBef>
                <a:spcPts val="1250"/>
              </a:spcBef>
              <a:buClr>
                <a:srgbClr val="40458c"/>
              </a:buClr>
              <a:buFont typeface="Wingdings" charset="2"/>
              <a:buChar char=""/>
              <a:tabLst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Caratterizzazione del traffico e specifica della QoS desiderata;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576360" indent="-385920" algn="just">
              <a:lnSpc>
                <a:spcPct val="100000"/>
              </a:lnSpc>
              <a:spcBef>
                <a:spcPts val="1250"/>
              </a:spcBef>
              <a:buClr>
                <a:srgbClr val="40458c"/>
              </a:buClr>
              <a:buFont typeface="Wingdings" charset="2"/>
              <a:buChar char=""/>
              <a:tabLst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Segnalazione per l’impostazione della chiamata (RSVP);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576360" indent="-385920" algn="just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Wingdings" charset="2"/>
              <a:buChar char=""/>
              <a:tabLst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mmissione della chiamata per elemento.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e la Quality of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E22D-1540-4672-A789-4F3DEFA4D7F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660066"/>
                </a:solidFill>
                <a:latin typeface="Tahoma"/>
              </a:rPr>
              <a:t>Processo di instaurazione della chiamata</a:t>
            </a:r>
            <a:endParaRPr b="0" lang="en-US" sz="3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620120" cy="42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e la Quality of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644B-89A8-4F49-A34B-C47FDA5BF09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660066"/>
                </a:solidFill>
                <a:latin typeface="Tahoma"/>
              </a:rPr>
              <a:t>Comportamento della chiamata per elemento</a:t>
            </a:r>
            <a:endParaRPr b="0" lang="en-US" sz="3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620120" cy="42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e la Quality of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18EC-DB86-4DC6-A495-DFED85483C9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P: Integrated Services (3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0" name=""/>
          <p:cNvSpPr/>
          <p:nvPr/>
        </p:nvSpPr>
        <p:spPr>
          <a:xfrm>
            <a:off x="1066680" y="1752480"/>
            <a:ext cx="7467840" cy="40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Nella prima fase del protocollo vieni memorizzato tutto il percorso che collega la sorgente del flusso con il destinatario: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40458c"/>
              </a:buClr>
              <a:buFont typeface="Tahoma"/>
              <a:buAutoNum type="arabicPeriod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La sorgente del flusso determina il Tspec del flusso e 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invia un messaggio PATH al destinatario;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40458c"/>
              </a:buClr>
              <a:buFont typeface="Tahoma"/>
              <a:buAutoNum type="arabicPeriod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Quando un router riceve un pacchetto PATH memorizza 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nel pacchetto stesso l’indirizzo del router precedente e, 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poi, lo inoltra verso la destinazione;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40458c"/>
              </a:buClr>
              <a:buFont typeface="Tahoma"/>
              <a:buAutoNum type="arabicPeriod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Il destinatario riceve il pacchetto PATH.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e la Quality of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D127-7914-401B-90C0-5D48F94147CE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P: Integrated Services (4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1066680" y="198108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66680" y="198108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2133720"/>
            <a:ext cx="7620120" cy="36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 questo punto il destinatario conosce il percorso seguito dal messaggio del mittente, e su questo percorso invia un messaggio RESV.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Quando un router riceve un pacchetto RESV decide (con admission control) se può fornire le risorse richieste per processare i pacchetti del flusso. In caso affermativo inoltra il Pacchetto RESV al router successivo.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ltrimenti comunica al destinatario il rifiuto.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e la Quality of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4FE4-E44A-40E1-B805-633DAD1FC6A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ntroduzio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914400" y="1828800"/>
            <a:ext cx="76201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La rete Internet attualmente è in grado di offrire un’unica e semplice classe di servizio denominata </a:t>
            </a:r>
            <a:r>
              <a:rPr b="1" i="1" lang="it-IT" sz="2400" spc="-1" strike="noStrike" u="sng">
                <a:solidFill>
                  <a:srgbClr val="40458c"/>
                </a:solidFill>
                <a:uFillTx/>
                <a:latin typeface="Tahoma"/>
              </a:rPr>
              <a:t>best effort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. Conseguenza di ciò è che: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 u="sng">
                <a:solidFill>
                  <a:srgbClr val="40458c"/>
                </a:solidFill>
                <a:uFillTx/>
                <a:latin typeface="Tahoma"/>
              </a:rPr>
              <a:t>non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vi è alcuna garanzia che i pacchetti spediti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raggiungano la destinazione;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 tempi per la consegna possono </a:t>
            </a:r>
            <a:r>
              <a:rPr b="0" lang="it-IT" sz="2400" spc="-1" strike="noStrike" u="sng">
                <a:solidFill>
                  <a:srgbClr val="40458c"/>
                </a:solidFill>
                <a:uFillTx/>
                <a:latin typeface="Tahoma"/>
              </a:rPr>
              <a:t>variare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lcuni pacchetti possono </a:t>
            </a:r>
            <a:r>
              <a:rPr b="0" lang="it-IT" sz="2400" spc="-1" strike="noStrike" u="sng">
                <a:solidFill>
                  <a:srgbClr val="40458c"/>
                </a:solidFill>
                <a:uFillTx/>
                <a:latin typeface="Tahoma"/>
              </a:rPr>
              <a:t>andar persi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e, di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conseguenza, essere ritrasmessi;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 u="sng">
                <a:solidFill>
                  <a:srgbClr val="40458c"/>
                </a:solidFill>
                <a:uFillTx/>
                <a:latin typeface="Tahoma"/>
              </a:rPr>
              <a:t>manca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il vincolo real-time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e la Quality of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75DF-D107-41C9-9137-73C3A815932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P: Integrated Services (5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6" name=""/>
          <p:cNvSpPr/>
          <p:nvPr/>
        </p:nvSpPr>
        <p:spPr>
          <a:xfrm>
            <a:off x="990720" y="2133720"/>
            <a:ext cx="754380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Se la sorgente riceve il pacchetto RESV vuol dire che il circuito virtuale è stato creato, e può cominciare ad inviare pacchetti. Quando il flusso non serve più invia ai router del percorso una notifica di chiusura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l mittente deve reinviare periodicamente un pacchetto PATH altrimenti i router rilasciano le risorse associate al flusso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e la Quality of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13CE-B56C-46A5-B9EF-417E3EE8437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P: Integrated Services (6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914400" y="2133720"/>
            <a:ext cx="762012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d oggi nel modello sono definite due classi di servizi: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40458c"/>
                </a:solidFill>
                <a:latin typeface="Tahoma"/>
              </a:rPr>
              <a:t>Guaranteed service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che fornisce dei limiti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quantitativi sul ritardo (delay) ai flussi che si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deguano a precise specifiche del traffico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40458c"/>
                </a:solidFill>
                <a:latin typeface="Tahoma"/>
              </a:rPr>
              <a:t>Controller load service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che fornisce valori di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ritardo e perdita di pacchetto equivalenti a quelli di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una rete poco carica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e la Quality of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96F9-74EB-420E-8E0A-7D871E5AAE66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RSV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914400" y="1828800"/>
            <a:ext cx="76201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L’ </a:t>
            </a:r>
            <a:r>
              <a:rPr b="1" lang="it-IT" sz="2400" spc="-1" strike="noStrike" u="sng">
                <a:solidFill>
                  <a:srgbClr val="40458c"/>
                </a:solidFill>
                <a:uFillTx/>
                <a:latin typeface="Tahoma"/>
              </a:rPr>
              <a:t>RSVP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lang="it-IT" sz="2400" spc="-1" strike="noStrike" u="sng">
                <a:solidFill>
                  <a:srgbClr val="40458c"/>
                </a:solidFill>
                <a:uFillTx/>
                <a:latin typeface="Tahoma"/>
              </a:rPr>
              <a:t>Resource ReSerVation Protocol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) è il protocollo di segnalazione per Internet, permette alle applicazioni di prenotare larghezza di banda per i loro flussi di dati.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È usato da un host per richiedere alla rete una quantità specifica di larghezza di banda e, inoltre, dai router per inoltrare le richieste di prenotazione della larghezza di banda.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Per implementare l’RSVP, il software deve essere presente nel receiver, sender e router.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e la Quality of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E8C9-CC5C-4F71-BBAE-29B5EA22108F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Problemi dell’IntServ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2" name=""/>
          <p:cNvSpPr/>
          <p:nvPr/>
        </p:nvSpPr>
        <p:spPr>
          <a:xfrm>
            <a:off x="914400" y="1828800"/>
            <a:ext cx="762012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40458c"/>
                </a:solidFill>
                <a:uFillTx/>
                <a:latin typeface="Tahoma"/>
              </a:rPr>
              <a:t>Problema di scala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. La prenotazione delle risorse per-flusso, usando l’RSVP, implica la necessità per un router di elaborare le prenotazioni di risorse e di mantenere uno stato per-flusso per ogni flusso che lo attraversa, ciò comporta notevoli sovraccarichi nelle grandi reti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40458c"/>
                </a:solidFill>
                <a:uFillTx/>
                <a:latin typeface="Tahoma"/>
              </a:rPr>
              <a:t>Modelli di servizio flessibili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. La struttura IntServ supporta un piccolo numero di classi di servizio prespecificate. Questo particolare set di classi di servizio non permette la distinzione di classi più qualitative o la definizione relativa dei servizi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e la Quality of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C987-3C9E-444B-8F91-265BDCE9E71E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P: Differentiated Services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>
            <a:off x="914400" y="1752480"/>
            <a:ext cx="76201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Per ovviare ai problemi derivanti dall’IntServ è stata progettata una nuova architettura in grado di fornire una “</a:t>
            </a:r>
            <a:r>
              <a:rPr b="0" i="1" lang="it-IT" sz="2400" spc="-1" strike="noStrike" u="sng">
                <a:solidFill>
                  <a:srgbClr val="40458c"/>
                </a:solidFill>
                <a:uFillTx/>
                <a:latin typeface="Tahoma"/>
              </a:rPr>
              <a:t>differenziazione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” fra servizi flessibile e scalabile, cioè avente l’abilità di gestire differenti classi di traffico in modi diversi all’interno di Internet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L’architettura DiffServ è flessibile in quanto fornisce i componenti funzionali con cui i servizi possono essere costituiti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e la Quality of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11BF-5440-4EE2-93AB-42121851DE6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P: Differentiated Services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6" name=""/>
          <p:cNvSpPr/>
          <p:nvPr/>
        </p:nvSpPr>
        <p:spPr>
          <a:xfrm>
            <a:off x="914400" y="1752480"/>
            <a:ext cx="762012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L’architettura del DiffServ è costituita da due insiemi di elementi funzionali: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 u="sng">
                <a:solidFill>
                  <a:srgbClr val="40458c"/>
                </a:solidFill>
                <a:uFillTx/>
                <a:latin typeface="Tahoma"/>
              </a:rPr>
              <a:t>Funzioni di estremità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: classificazione dei pacchetti e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condizionamento del traffico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 u="sng">
                <a:solidFill>
                  <a:srgbClr val="40458c"/>
                </a:solidFill>
                <a:uFillTx/>
                <a:latin typeface="Tahoma"/>
              </a:rPr>
              <a:t>Funzioni della sezione interna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: inoltro: quando un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pacchetto marcato DS arriva a un router DiffServ-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compatibile, viene inoltrato al suo prossimo hop in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ccordo al comportamento per-hop associato alla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classe del pacchetto.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e la Quality of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0B2F-A746-4B6A-8176-8210007B8DA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P: Differentiated Services (3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" y="1752480"/>
            <a:ext cx="7620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40458c"/>
                </a:solidFill>
                <a:uFillTx/>
                <a:latin typeface="Tahoma"/>
              </a:rPr>
              <a:t>Classificazione e condizionamento del traffico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7620120" cy="19382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914400" y="4419720"/>
            <a:ext cx="762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Un pacchetto è contrassegnato assegnando il suo valore del campo DiffServ alle estremità della rete. Questo può avvenire sia in un host DiffServ-compatibile sia al primo punto in cui incontra un router DiffServ-compatibile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e la Quality of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5293-0AAB-4471-81A1-5BFB846B6748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P: Differentiated Services (4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1752480"/>
            <a:ext cx="7620120" cy="52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40458c"/>
                </a:solidFill>
                <a:uFillTx/>
                <a:latin typeface="Tahoma"/>
              </a:rPr>
              <a:t>Comportamenti per-hop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Sono implementati dai router DiffServ-compatibili e sono definiti come “una descrizione osservabile dall’esterno del comportamento di lancio di un nodo DiffServ applicato ad un particolare insieme di aggregati di comportamento DiffServ”.</a:t>
            </a:r>
            <a:endParaRPr b="0" lang="en-US" sz="23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40458c"/>
              </a:buClr>
              <a:buFont typeface="Tahoma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un PHB può far si che diverse classi di traffico ricevano diverse 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prestazioni;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40458c"/>
              </a:buClr>
              <a:buFont typeface="Tahoma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un PHB non comanda alcun meccanismo particolare per 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raggiungere questi comportamenti;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40458c"/>
              </a:buClr>
              <a:buFont typeface="Tahoma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Le differenze in prestazioni devono essere osservabili e, quindi, 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misurabili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e la Quality of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E309-40FC-4444-8661-E819927451F2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P: Differentiated Services (5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7620120" cy="36576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914400" y="18288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Tahoma"/>
              </a:rPr>
              <a:t>Un esempio di rete DiffServ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e la Quality of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E3DE-D09B-48BD-A5F8-1626EA46147F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ntServ e DiffServ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"/>
          <p:cNvSpPr/>
          <p:nvPr/>
        </p:nvSpPr>
        <p:spPr>
          <a:xfrm>
            <a:off x="990720" y="23004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IntServ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590920" y="2286000"/>
            <a:ext cx="1371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fdbfd"/>
          </a:solidFill>
          <a:ln w="316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419720" y="1587600"/>
            <a:ext cx="3886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ntroduce il concetto fondamentale di QoS associata al singolo flusso, ma porta inevitabilmente a problemi di scalabilità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14400" y="4815000"/>
            <a:ext cx="144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DiffServ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590920" y="4724280"/>
            <a:ext cx="1371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fdbfd"/>
          </a:solidFill>
          <a:ln w="316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733920"/>
            <a:ext cx="3886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Elimina l’esigenza di mantenere informazioni di stato per i singoli flussi e non ha bisogno di alcun protocollo di signalling, ma perde la capacità di isolare le singole richieste di Qo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e la Quality of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C7BC-877F-4E63-8097-9D7609E3D669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914400" y="1828800"/>
            <a:ext cx="76201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imes New Roman"/>
              </a:rPr>
              <a:t>Ma ……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40458c"/>
              </a:buClr>
              <a:buFont typeface="Times New Roman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40458c"/>
                </a:solidFill>
                <a:latin typeface="Times New Roman"/>
              </a:rPr>
              <a:t>nuove applicazioni real-time;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40458c"/>
              </a:buClr>
              <a:buFont typeface="Times New Roman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40458c"/>
                </a:solidFill>
                <a:latin typeface="Times New Roman"/>
              </a:rPr>
              <a:t>sviluppo di architetture hardware dotate di </a:t>
            </a:r>
            <a:r>
              <a:rPr b="0" lang="it-IT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40458c"/>
                </a:solidFill>
                <a:latin typeface="Times New Roman"/>
              </a:rPr>
              <a:t>componenti multimediali;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40458c"/>
              </a:buClr>
              <a:buFont typeface="Times New Roman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40458c"/>
                </a:solidFill>
                <a:latin typeface="Times New Roman"/>
              </a:rPr>
              <a:t>nuove architetture di rete.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ntroduzio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914400" y="548640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541008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40458c"/>
                </a:solidFill>
                <a:latin typeface="Times New Roman"/>
              </a:rPr>
              <a:t>QoS</a:t>
            </a:r>
            <a:endParaRPr b="0" lang="en-US" sz="5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724280"/>
            <a:ext cx="609480" cy="609840"/>
          </a:xfrm>
          <a:prstGeom prst="downArrow">
            <a:avLst>
              <a:gd name="adj1" fmla="val 50000"/>
              <a:gd name="adj2" fmla="val 25015"/>
            </a:avLst>
          </a:prstGeom>
          <a:solidFill>
            <a:srgbClr val="cfdbfd"/>
          </a:solidFill>
          <a:ln w="316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09880" y="5410080"/>
            <a:ext cx="2057400" cy="990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e la Quality of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0E14-4A04-45C2-AF51-87FF03DFA40A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n Conclusio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1143000" y="213372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Quello che emerge dalla studio effettuato è che l’approccio migliore al problema della QoS in Internet è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981080" y="4084560"/>
            <a:ext cx="18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IntServ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486400" y="4084560"/>
            <a:ext cx="18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DiffServ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e la Quality of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A769-E023-4CD8-921C-AA00D8CAC500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n Conclusio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8" name=""/>
          <p:cNvSpPr/>
          <p:nvPr/>
        </p:nvSpPr>
        <p:spPr>
          <a:xfrm>
            <a:off x="3733920" y="2835360"/>
            <a:ext cx="1828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IntServ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DiffServ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1800" y="2209680"/>
            <a:ext cx="3238560" cy="2340000"/>
          </a:xfrm>
          <a:prstGeom prst="ellipse">
            <a:avLst/>
          </a:prstGeom>
          <a:noFill/>
          <a:ln w="63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e la Quality of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6BFE-31E9-4FBB-93A2-86664FC8C003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2971800" y="1981080"/>
            <a:ext cx="373392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700" spc="-1" strike="noStrike">
                <a:solidFill>
                  <a:srgbClr val="40458c"/>
                </a:solidFill>
                <a:latin typeface="Tahoma"/>
              </a:rPr>
              <a:t>FINE</a:t>
            </a:r>
            <a:endParaRPr b="0" lang="en-US" sz="127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e la Quality of Serv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72A5-F2AC-4B97-A59F-2704306141D5}" type="slidenum">
              <a:t>42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QoS: definizio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2514600"/>
            <a:ext cx="7620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imes New Roman"/>
              </a:rPr>
              <a:t>La </a:t>
            </a:r>
            <a:r>
              <a:rPr b="1" lang="it-IT" sz="3200" spc="-1" strike="noStrike">
                <a:solidFill>
                  <a:srgbClr val="40458c"/>
                </a:solidFill>
                <a:latin typeface="Times New Roman"/>
              </a:rPr>
              <a:t>QoS</a:t>
            </a:r>
            <a:r>
              <a:rPr b="0" lang="it-IT" sz="3200" spc="-1" strike="noStrike">
                <a:solidFill>
                  <a:srgbClr val="40458c"/>
                </a:solidFill>
                <a:latin typeface="Times New Roman"/>
              </a:rPr>
              <a:t> (Quality of Service) si definisce come la capacità di un’infrastruttura di differenziare il servizio fornito da più classi di traffico concorrentemente presenti sulla rete [RFC 2990].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e la Quality of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BE25-A4FF-49F0-9371-F0B681B61B6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Componenti ba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1905120"/>
            <a:ext cx="2438280" cy="533160"/>
          </a:xfrm>
          <a:prstGeom prst="rect">
            <a:avLst/>
          </a:prstGeom>
          <a:solidFill>
            <a:srgbClr val="cfdbfd">
              <a:alpha val="50000"/>
            </a:srgbClr>
          </a:solidFill>
          <a:ln w="316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L’Utente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581280" y="1828800"/>
            <a:ext cx="2438640" cy="533520"/>
          </a:xfrm>
          <a:prstGeom prst="rect">
            <a:avLst/>
          </a:prstGeom>
          <a:solidFill>
            <a:srgbClr val="cfdbfd">
              <a:alpha val="50000"/>
            </a:srgbClr>
          </a:solidFill>
          <a:ln w="316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L’Applicazione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943600" y="2590920"/>
            <a:ext cx="2819520" cy="914400"/>
          </a:xfrm>
          <a:prstGeom prst="rect">
            <a:avLst/>
          </a:prstGeom>
          <a:solidFill>
            <a:srgbClr val="cfdbfd">
              <a:alpha val="50000"/>
            </a:srgbClr>
          </a:solidFill>
          <a:ln w="316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Il Sistema operativo e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Protocolli di trasporto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2" name="Cloud"/>
          <p:cNvSpPr/>
          <p:nvPr/>
        </p:nvSpPr>
        <p:spPr>
          <a:xfrm>
            <a:off x="5334120" y="4038480"/>
            <a:ext cx="2743200" cy="18385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095880" y="46483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imes New Roman"/>
              </a:rPr>
              <a:t>La Rete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143000" y="3886200"/>
            <a:ext cx="1295280" cy="14479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590920" y="3975120"/>
            <a:ext cx="1752480" cy="17398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 flipV="1">
            <a:off x="1981080" y="2590560"/>
            <a:ext cx="0" cy="1143000"/>
          </a:xfrm>
          <a:prstGeom prst="line">
            <a:avLst/>
          </a:prstGeom>
          <a:ln w="316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962520" y="2438280"/>
            <a:ext cx="0" cy="1447920"/>
          </a:xfrm>
          <a:prstGeom prst="line">
            <a:avLst/>
          </a:prstGeom>
          <a:ln w="316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962520" y="3048120"/>
            <a:ext cx="1828800" cy="838080"/>
          </a:xfrm>
          <a:prstGeom prst="line">
            <a:avLst/>
          </a:prstGeom>
          <a:ln w="316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343400" y="4800600"/>
            <a:ext cx="914400" cy="0"/>
          </a:xfrm>
          <a:prstGeom prst="line">
            <a:avLst/>
          </a:prstGeom>
          <a:ln w="7632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e la Quality of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2EC4-71A0-4E76-9787-7007CDF1DF4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Obiettivi della Q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914400" y="1981080"/>
            <a:ext cx="762012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40458c"/>
              </a:buClr>
              <a:buFont typeface="Times New Roman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40458c"/>
                </a:solidFill>
                <a:latin typeface="Times New Roman"/>
              </a:rPr>
              <a:t>permettere di stabilire in anticipo il livello di </a:t>
            </a:r>
            <a:r>
              <a:rPr b="0" lang="it-IT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40458c"/>
                </a:solidFill>
                <a:latin typeface="Times New Roman"/>
              </a:rPr>
              <a:t>servizio che si otterrà dalla rete;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40458c"/>
              </a:buClr>
              <a:buFont typeface="Times New Roman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40458c"/>
                </a:solidFill>
                <a:latin typeface="Times New Roman"/>
              </a:rPr>
              <a:t>controllare l’accesso alla rete in modo tale che </a:t>
            </a:r>
            <a:r>
              <a:rPr b="0" lang="it-IT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40458c"/>
                </a:solidFill>
                <a:latin typeface="Times New Roman"/>
              </a:rPr>
              <a:t>alcuni servizi siano privilegiati;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40458c"/>
              </a:buClr>
              <a:buFont typeface="Times New Roman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40458c"/>
                </a:solidFill>
                <a:latin typeface="Times New Roman"/>
              </a:rPr>
              <a:t>fornire un accesso equo alla rete;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40458c"/>
              </a:buClr>
              <a:buFont typeface="Times New Roman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40458c"/>
                </a:solidFill>
                <a:latin typeface="Times New Roman"/>
              </a:rPr>
              <a:t>massimizzare l’uso della rete.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40458c"/>
              </a:buClr>
              <a:buFont typeface="Times New Roman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40458c"/>
                </a:solidFill>
                <a:latin typeface="Times New Roman"/>
              </a:rPr>
              <a:t>controllare la rete in modo che i tempi di risposta </a:t>
            </a:r>
            <a:r>
              <a:rPr b="0" lang="it-IT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40458c"/>
                </a:solidFill>
                <a:latin typeface="Times New Roman"/>
              </a:rPr>
              <a:t>siano predicibili.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e la Quality of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0516-71D7-4234-9BE5-D540972827D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QoS: compiti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2286000"/>
            <a:ext cx="1371600" cy="1752480"/>
          </a:xfrm>
          <a:prstGeom prst="rect">
            <a:avLst/>
          </a:prstGeom>
          <a:solidFill>
            <a:srgbClr val="ccffff"/>
          </a:solidFill>
          <a:ln w="3168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4 compiti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di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base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0" y="2286000"/>
            <a:ext cx="533520" cy="1752480"/>
          </a:xfrm>
          <a:custGeom>
            <a:avLst/>
            <a:gdLst>
              <a:gd name="textAreaLeft" fmla="*/ 340920 w 533520"/>
              <a:gd name="textAreaRight" fmla="*/ 533880 w 53352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505320" y="2590920"/>
            <a:ext cx="4267080" cy="457200"/>
          </a:xfrm>
          <a:prstGeom prst="rect">
            <a:avLst/>
          </a:prstGeom>
          <a:solidFill>
            <a:srgbClr val="cfdbfd">
              <a:alpha val="50000"/>
            </a:srgbClr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Classificare e controllare l’accesso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29000" y="3352680"/>
            <a:ext cx="1600200" cy="457200"/>
          </a:xfrm>
          <a:prstGeom prst="rect">
            <a:avLst/>
          </a:prstGeom>
          <a:solidFill>
            <a:srgbClr val="cfdbfd">
              <a:alpha val="50000"/>
            </a:srgbClr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marcare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10080" y="3352680"/>
            <a:ext cx="1600200" cy="457200"/>
          </a:xfrm>
          <a:prstGeom prst="rect">
            <a:avLst/>
          </a:prstGeom>
          <a:solidFill>
            <a:srgbClr val="cfdbfd">
              <a:alpha val="50000"/>
            </a:srgbClr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scartare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391520" y="3352680"/>
            <a:ext cx="1600200" cy="457200"/>
          </a:xfrm>
          <a:prstGeom prst="rect">
            <a:avLst/>
          </a:prstGeom>
          <a:solidFill>
            <a:srgbClr val="cfdbfd">
              <a:alpha val="50000"/>
            </a:srgbClr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scheduling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666880" y="2666880"/>
            <a:ext cx="685800" cy="990720"/>
          </a:xfrm>
          <a:custGeom>
            <a:avLst/>
            <a:gdLst>
              <a:gd name="textAreaLeft" fmla="*/ 91800 w 685800"/>
              <a:gd name="textAreaRight" fmla="*/ 594000 w 685800"/>
              <a:gd name="textAreaTop" fmla="*/ 173160 h 990720"/>
              <a:gd name="textAreaBottom" fmla="*/ 71820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f89f7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29200" y="358128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6f89f7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010280" y="358128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6f89f7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14400" y="4343400"/>
            <a:ext cx="1371600" cy="1752480"/>
          </a:xfrm>
          <a:prstGeom prst="rect">
            <a:avLst/>
          </a:prstGeom>
          <a:solidFill>
            <a:srgbClr val="ccffff"/>
          </a:solidFill>
          <a:ln w="3168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4 compiti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vanzati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362320" y="4343400"/>
            <a:ext cx="533160" cy="1752480"/>
          </a:xfrm>
          <a:custGeom>
            <a:avLst/>
            <a:gdLst>
              <a:gd name="textAreaLeft" fmla="*/ 340560 w 533160"/>
              <a:gd name="textAreaRight" fmla="*/ 533520 w 53316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95480" y="4419720"/>
            <a:ext cx="2895840" cy="761760"/>
          </a:xfrm>
          <a:prstGeom prst="rect">
            <a:avLst/>
          </a:prstGeom>
          <a:solidFill>
            <a:srgbClr val="cfdbfd">
              <a:alpha val="50000"/>
            </a:srgbClr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Adottare contromisure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per la congestione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819520" y="5638680"/>
            <a:ext cx="2819160" cy="457200"/>
          </a:xfrm>
          <a:prstGeom prst="rect">
            <a:avLst/>
          </a:prstGeom>
          <a:solidFill>
            <a:srgbClr val="cfdbfd">
              <a:alpha val="50000"/>
            </a:srgbClr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Raccogliere statistiche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943600" y="5181480"/>
            <a:ext cx="2514600" cy="914400"/>
          </a:xfrm>
          <a:prstGeom prst="rect">
            <a:avLst/>
          </a:prstGeom>
          <a:solidFill>
            <a:srgbClr val="cfdbfd">
              <a:alpha val="50000"/>
            </a:srgbClr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Propagare le regole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di Qo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324480" y="4495680"/>
            <a:ext cx="2590920" cy="457200"/>
          </a:xfrm>
          <a:prstGeom prst="rect">
            <a:avLst/>
          </a:prstGeom>
          <a:solidFill>
            <a:srgbClr val="cfdbfd">
              <a:alpha val="50000"/>
            </a:srgbClr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Formare il segnale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14400" y="18288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Ogni nodo nel dominio di QoS ha: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e la Quality of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51D7-DD4F-4E27-9738-A34C5107CE7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Rete con due applicazion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620120" cy="42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e la Quality of Serv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73F2-773A-4237-A28D-080857E412E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18:25:31Z</dcterms:created>
  <dc:creator>Giuseppina</dc:creator>
  <dc:description/>
  <dc:language>en-US</dc:language>
  <cp:lastModifiedBy>Giuseppina</cp:lastModifiedBy>
  <dcterms:modified xsi:type="dcterms:W3CDTF">2004-11-15T14:44:03Z</dcterms:modified>
  <cp:revision>67</cp:revision>
  <dc:subject/>
  <dc:title>Presentazione di PowerPoint</dc:title>
</cp:coreProperties>
</file>