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D3A-A026-49FA-A537-840C9511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626-A9D6-4505-8E79-0384E52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6E0-9D2E-4983-8CCE-4A642CA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6F3-B45C-4263-B77D-4CFBE8E4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BBC-C9F9-41E0-901D-35DBCFDE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07C2-D00B-4E7C-BECB-42077BA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FE36-B6AA-4624-AD07-F2FC8FF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D0C-C4EA-46E5-AEF6-85D8BC6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A23B-7E11-4D29-867B-758C8D8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6E63-C266-4FF5-B927-1CFF1D2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6F60-8149-4085-A9F2-0390FEC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2D6-7BE6-418F-8911-AA730A49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2EF-0676-4323-BA7F-D811824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45C-7A47-42ED-88DD-2E247E7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F14B-36D3-4E77-81ED-4823196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793D-55A2-4D10-A990-5BBAD3E6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7320-E87A-47E2-BB2B-A252F3EE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D71-F18D-4B94-843D-B1F787C6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144-6D0E-4B36-B492-1BAB9AA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279-2302-4BBE-97F6-8D1D8CC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B36-F0BB-424E-86F9-979F3EAA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913-8E68-464F-B796-5A0F3E2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F07-B1EE-4050-85B8-626E1CD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78D-833E-4C22-8D23-2BFB734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8D2-88EF-466C-B871-A509D06CFE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68C-9F60-481C-9607-E53EA05844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rid.unina.it/comics/Didattica/RetiDiCalcolatori" TargetMode="External"/><Relationship Id="rId2" Type="http://schemas.openxmlformats.org/officeDocument/2006/relationships/hyperlink" Target="http://www.telematica.polito.it/casetti/corsi/reti_nettuno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" y="260280"/>
            <a:ext cx="9072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IVERSITA’ DEGLI STUDI“G. D’ANNUNZIO”</a:t>
            </a:r>
            <a:br>
              <a:rPr sz="36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COLTA’ DI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so di laurea specialistica in Economia Infor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minario del corso di “Reti di calcolo e sicure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f.  Bist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GORITMI  DI  INSTRADA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udente Cirmignani Vinc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cola il percorso di minor costo da un nodo(sorgente)a tutti gli altri nodi della 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la k-esima iterazione esso conosce il percorso di minor costo per k nodi di desti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(i,j)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sto del link dal nodo i al nod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D(v)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sto del percorso dal nodo sorgente al nodo di destinazione v che ha attualmente il minor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P(v)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do precedente lungo il percorso attuale di minor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N=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gruppo di nod il cui percorso di minor costo è conosci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tivamente dalla sorgente a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EMPIO   DIJKS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Problema …..oscillazion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92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to dei link non simmetrici: c(a,b)= c(b,a) solo se il carico trasportato in entrambe le direzioni sul link AB è lo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4535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79280" y="2421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tradamento ini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68360" y="213372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C rilevano il miglior percorso verso A in senso or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22050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,C,D rilevano il miogliore percorso verso A in senso antior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93080" y="1773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,C,D rilevano il mior percorso verso A in senso or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luzion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a possiamo fare per prevenire queste oscillazio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vitare che i costi dei link dipendano dalla quantità di traffico trasportat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NO!! Obbiettivo instradamento è evitare i link congestio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vitare che i router mettano in funzione l’algoritmo LS nello stesso momento,è ragionevole perché l’algoritmo LS funziona sui router con la stessa periodicità ,ma l’istante di esecuzione non sarà lo stesso in tutti 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ANCE VECTO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TERA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continua fino a quando i nodi non scambiano più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UTONOM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non vi sono segnali espliciti di fine algoritmo,termina autonom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STRIBUI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ogni nodo comunica solo con i nodi adiac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SINCRON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non richiede a tutti i nodi di operare con sincrono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gni nodo scambia periodicamente con i vicini diretti informazioni conten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destinazioni che può raggiun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stanza delle destinazioni misurata in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odo che riceve le inform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aggiunge nuove destin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cambia instradamenti se i nuovi sono più br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modifica il costo se usa il nodo adiacente come miglior sc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truttura principale di dati nell’algoritmo è la tabella delle dista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nodo possi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una riga per ogni possibile desti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colonna per ogni nodo adia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nodo X,per la destinazione Y,attraverso il nodo adiacent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 (Y,Z) = C(X,Z) + min  (D (Y,w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486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522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944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84000" y="4797360"/>
            <a:ext cx="64764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892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68360" y="5444640"/>
            <a:ext cx="28728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950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115640" y="5444640"/>
            <a:ext cx="64764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do adia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SEMPIO TAB DISTAN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6308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1557360"/>
            <a:ext cx="237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1268280"/>
            <a:ext cx="0" cy="309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8000" y="1125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508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96000" y="1844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9600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284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6000" y="393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10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0072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1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43640" y="256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      8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43640" y="3284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    9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16720" y="40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 11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433400" y="241632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9228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O VERSO DEST ATTRAVERSO N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84360" y="2203560"/>
            <a:ext cx="568080" cy="272520"/>
            <a:chOff x="684360" y="2203560"/>
            <a:chExt cx="568080" cy="272520"/>
          </a:xfrm>
        </p:grpSpPr>
        <p:sp>
          <p:nvSpPr>
            <p:cNvPr id="383" name=""/>
            <p:cNvSpPr/>
            <p:nvPr/>
          </p:nvSpPr>
          <p:spPr>
            <a:xfrm flipV="1" rot="10800000">
              <a:off x="684360" y="232560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47760" y="23133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4360" y="23133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0800000">
              <a:off x="689040" y="231300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10800000">
              <a:off x="689040" y="220320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837360" y="2242800"/>
              <a:ext cx="278640" cy="102240"/>
              <a:chOff x="837360" y="2242800"/>
              <a:chExt cx="278640" cy="10224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1016640" y="22428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837360" y="23450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920880" y="224496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837360" y="2241360"/>
              <a:ext cx="278640" cy="102600"/>
              <a:chOff x="837360" y="2241360"/>
              <a:chExt cx="278640" cy="10260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1016640" y="23421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837360" y="2241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flipV="1">
                <a:off x="920880" y="224172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1692360" y="1339920"/>
            <a:ext cx="568080" cy="272520"/>
            <a:chOff x="1692360" y="1339920"/>
            <a:chExt cx="568080" cy="272520"/>
          </a:xfrm>
        </p:grpSpPr>
        <p:sp>
          <p:nvSpPr>
            <p:cNvPr id="397" name=""/>
            <p:cNvSpPr/>
            <p:nvPr/>
          </p:nvSpPr>
          <p:spPr>
            <a:xfrm flipV="1" rot="10800000">
              <a:off x="1692360" y="146196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55760" y="144972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2360" y="144972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10800000">
              <a:off x="1697040" y="144936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10800000">
              <a:off x="1697040" y="133956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845360" y="1379160"/>
              <a:ext cx="278640" cy="102240"/>
              <a:chOff x="1845360" y="1379160"/>
              <a:chExt cx="278640" cy="102240"/>
            </a:xfrm>
          </p:grpSpPr>
          <p:sp>
            <p:nvSpPr>
              <p:cNvPr id="403" name=""/>
              <p:cNvSpPr/>
              <p:nvPr/>
            </p:nvSpPr>
            <p:spPr>
              <a:xfrm flipH="1" flipV="1">
                <a:off x="2024640" y="13791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845360" y="14814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928880" y="138132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845360" y="1377720"/>
              <a:ext cx="278640" cy="102600"/>
              <a:chOff x="1845360" y="1377720"/>
              <a:chExt cx="278640" cy="10260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2024640" y="147852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845360" y="13777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1928880" y="137808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1620720" y="2852640"/>
            <a:ext cx="568080" cy="272880"/>
            <a:chOff x="1620720" y="2852640"/>
            <a:chExt cx="568080" cy="272880"/>
          </a:xfrm>
        </p:grpSpPr>
        <p:sp>
          <p:nvSpPr>
            <p:cNvPr id="411" name=""/>
            <p:cNvSpPr/>
            <p:nvPr/>
          </p:nvSpPr>
          <p:spPr>
            <a:xfrm flipV="1" rot="10800000">
              <a:off x="1620720" y="297432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8412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2072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10800000">
              <a:off x="1625400" y="29620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10800000">
              <a:off x="1625400" y="285264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773720" y="2891880"/>
              <a:ext cx="278640" cy="102240"/>
              <a:chOff x="1773720" y="2891880"/>
              <a:chExt cx="278640" cy="102240"/>
            </a:xfrm>
          </p:grpSpPr>
          <p:sp>
            <p:nvSpPr>
              <p:cNvPr id="417" name=""/>
              <p:cNvSpPr/>
              <p:nvPr/>
            </p:nvSpPr>
            <p:spPr>
              <a:xfrm flipH="1" flipV="1">
                <a:off x="1953000" y="28918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773720" y="29941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857240" y="28940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773720" y="2890440"/>
              <a:ext cx="278640" cy="102600"/>
              <a:chOff x="1773720" y="2890440"/>
              <a:chExt cx="278640" cy="10260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1953000" y="2991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773720" y="28904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1857240" y="28908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3278160" y="1413000"/>
            <a:ext cx="568080" cy="272520"/>
            <a:chOff x="3278160" y="1413000"/>
            <a:chExt cx="568080" cy="272520"/>
          </a:xfrm>
        </p:grpSpPr>
        <p:sp>
          <p:nvSpPr>
            <p:cNvPr id="425" name=""/>
            <p:cNvSpPr/>
            <p:nvPr/>
          </p:nvSpPr>
          <p:spPr>
            <a:xfrm flipV="1" rot="10800000">
              <a:off x="3278160" y="153504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41560" y="15228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78160" y="15228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0800000">
              <a:off x="3282840" y="152244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0800000">
              <a:off x="3282840" y="141264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31160" y="1452240"/>
              <a:ext cx="278640" cy="102240"/>
              <a:chOff x="3431160" y="1452240"/>
              <a:chExt cx="278640" cy="102240"/>
            </a:xfrm>
          </p:grpSpPr>
          <p:sp>
            <p:nvSpPr>
              <p:cNvPr id="431" name=""/>
              <p:cNvSpPr/>
              <p:nvPr/>
            </p:nvSpPr>
            <p:spPr>
              <a:xfrm flipH="1" flipV="1">
                <a:off x="3610440" y="1452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3431160" y="155448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3514680" y="145440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431160" y="1450800"/>
              <a:ext cx="278640" cy="102600"/>
              <a:chOff x="3431160" y="1450800"/>
              <a:chExt cx="278640" cy="10260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3610440" y="15516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431160" y="14508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3514680" y="145116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3276720" y="2852640"/>
            <a:ext cx="568080" cy="272880"/>
            <a:chOff x="3276720" y="2852640"/>
            <a:chExt cx="568080" cy="272880"/>
          </a:xfrm>
        </p:grpSpPr>
        <p:sp>
          <p:nvSpPr>
            <p:cNvPr id="439" name=""/>
            <p:cNvSpPr/>
            <p:nvPr/>
          </p:nvSpPr>
          <p:spPr>
            <a:xfrm flipV="1" rot="10800000">
              <a:off x="3276720" y="297432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4012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7672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10800000">
              <a:off x="3281400" y="29620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10800000">
              <a:off x="3281400" y="285264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429720" y="2891880"/>
              <a:ext cx="278640" cy="102240"/>
              <a:chOff x="3429720" y="2891880"/>
              <a:chExt cx="278640" cy="102240"/>
            </a:xfrm>
          </p:grpSpPr>
          <p:sp>
            <p:nvSpPr>
              <p:cNvPr id="445" name=""/>
              <p:cNvSpPr/>
              <p:nvPr/>
            </p:nvSpPr>
            <p:spPr>
              <a:xfrm flipH="1" flipV="1">
                <a:off x="3609000" y="28918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429720" y="29941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513240" y="28940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429720" y="2890440"/>
              <a:ext cx="278640" cy="102600"/>
              <a:chOff x="3429720" y="2890440"/>
              <a:chExt cx="278640" cy="1026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3609000" y="2991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429720" y="28904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3513240" y="28908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2268360" y="1555920"/>
            <a:ext cx="10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97080" y="29955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116000" y="1557360"/>
            <a:ext cx="7920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90520" y="2421000"/>
            <a:ext cx="43200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908000" y="1628640"/>
            <a:ext cx="0" cy="122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3564000" y="1699920"/>
            <a:ext cx="3168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334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57440" y="126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744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16000" y="2563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258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10160" y="105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658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2108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3933720"/>
            <a:ext cx="38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 (C,D) = C(E,D) + min  (D (C,w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 2+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3789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414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87640" y="3789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 (C,D) = C(B,D) + min  (D (A,w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 2+3 =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6360" y="4797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578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17800" y="47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72360" y="1773360"/>
            <a:ext cx="287280" cy="433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28000" y="2492280"/>
            <a:ext cx="287280" cy="50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28000" y="3213000"/>
            <a:ext cx="287280" cy="50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28000" y="3933720"/>
            <a:ext cx="287280" cy="50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332000" y="2349360"/>
            <a:ext cx="2376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2060640"/>
            <a:ext cx="0" cy="3097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79640" y="1917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27280" y="191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191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87280" y="26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8728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87280" y="4076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87280" y="47260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191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184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92360" y="256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1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33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           8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3528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        9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08000" y="479736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 11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-174960" y="320868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63640" y="2565360"/>
            <a:ext cx="287280" cy="433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284640"/>
            <a:ext cx="287280" cy="504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19640" y="4005360"/>
            <a:ext cx="287280" cy="504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19640" y="4726080"/>
            <a:ext cx="287280" cy="504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37080" y="2421000"/>
            <a:ext cx="237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869080" y="2131920"/>
            <a:ext cx="0" cy="309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155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nk in uscita da us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3272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92720" y="2708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9272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92720" y="4148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92720" y="479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263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321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2000" y="393372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             4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13440" y="48690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3930120" y="3279960"/>
            <a:ext cx="24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155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a 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CORSO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 E CARATTERISTICHE ALGORITMI DI INSTRAD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DI DIJK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 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748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Distance Vector algorit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9d8ec"/>
                </a:solidFill>
                <a:latin typeface="Arial"/>
              </a:rPr>
              <a:t>Ad ogni nodo 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 inizi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 per tutti i nodi adiacenti a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 D =(*,V)= infinito            //* significa per ogni r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 D (V,V)= C(X,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 per tutte le destinazioni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 manda min D(y,w) a ogni vi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00000" y="2781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2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9564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V esempio funzionam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645300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908000" y="1989000"/>
            <a:ext cx="568080" cy="272880"/>
            <a:chOff x="1908000" y="1989000"/>
            <a:chExt cx="568080" cy="272880"/>
          </a:xfrm>
        </p:grpSpPr>
        <p:sp>
          <p:nvSpPr>
            <p:cNvPr id="527" name=""/>
            <p:cNvSpPr/>
            <p:nvPr/>
          </p:nvSpPr>
          <p:spPr>
            <a:xfrm flipV="1" rot="10800000">
              <a:off x="1908000" y="211068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71400" y="20988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8000" y="20988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 rot="10800000">
              <a:off x="1912680" y="209844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10800000">
              <a:off x="1912680" y="198900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061000" y="2028240"/>
              <a:ext cx="278640" cy="102240"/>
              <a:chOff x="2061000" y="2028240"/>
              <a:chExt cx="278640" cy="102240"/>
            </a:xfrm>
          </p:grpSpPr>
          <p:sp>
            <p:nvSpPr>
              <p:cNvPr id="533" name=""/>
              <p:cNvSpPr/>
              <p:nvPr/>
            </p:nvSpPr>
            <p:spPr>
              <a:xfrm flipH="1" flipV="1">
                <a:off x="2240280" y="2028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061000" y="213048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144520" y="203040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2061000" y="2026800"/>
              <a:ext cx="278640" cy="102600"/>
              <a:chOff x="2061000" y="2026800"/>
              <a:chExt cx="278640" cy="102600"/>
            </a:xfrm>
          </p:grpSpPr>
          <p:sp>
            <p:nvSpPr>
              <p:cNvPr id="537" name=""/>
              <p:cNvSpPr/>
              <p:nvPr/>
            </p:nvSpPr>
            <p:spPr>
              <a:xfrm flipH="1">
                <a:off x="2240280" y="21276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061000" y="20268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2144520" y="202716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2050920" y="2205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35280" y="1413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3640" y="1844640"/>
            <a:ext cx="43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87640" y="1700280"/>
            <a:ext cx="36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08360" y="1916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893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V esemp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difica dei costi dei collegamen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V modifica c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ro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omplessità messagg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S necessita che ciascun nodo conosca il costo di ciascun link nella rete richiede la spedizione di O(nE) messaggi n=nodi E= link se cambia il nuovo costo del link deve essere inviato a tutti 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V per ciascuna iterazione richiede lo scambio dei messaggi trai vicini direttamente collegati,DV propagherà i risultati della variazione del costo del linksolo se il nuovo costo si tradurrà in una variazione del percorso di minor costo per uno dei nodi collegati a que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47560" y="488880"/>
            <a:ext cx="7956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Velocità di convergen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S soffre potenzialmente di oscill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V può convergere lentamente ed avere percorsi ciclici durante la convergen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obus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a accade se un router si rompe,funziona male od è sabota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nodo LS calcola solo la propia tabella di instradamento,gli altri eseguono lo stesso calcolo per se stessi,i calcoli in Ls sono separati buon grado di robus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V un nodo può notificare percorsi di minor costo sbagliati verso tutte le direzioni il calcolo di un nodo DV e passato ai suoi vicini e ai vicini dei suoi vicini all’iterazione successiv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grid.unina.it/comics/Didattica/RetiDiCalcol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telematica.polito.it/casetti/corsi/reti_nett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Introduzione …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trasferire i pacchetti lo strato di rete deve determinare il percorso (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gni terminale è collegato al router di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: Instradare il pacchetto dal router sor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router destin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51920" y="60800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GORITMO DI INSTRADAM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gruppo di router ,con i link che li collegano,un algoritmo di instradamento trova un buon percorso dalla sorgente alla desti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LIZZIAMO LA RETE COME GRA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nodi sono router,gli archi sono i link,il costo associato ad ogni 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14560" y="5699160"/>
            <a:ext cx="568080" cy="272520"/>
            <a:chOff x="1114560" y="5699160"/>
            <a:chExt cx="568080" cy="272520"/>
          </a:xfrm>
        </p:grpSpPr>
        <p:sp>
          <p:nvSpPr>
            <p:cNvPr id="105" name=""/>
            <p:cNvSpPr/>
            <p:nvPr/>
          </p:nvSpPr>
          <p:spPr>
            <a:xfrm flipV="1" rot="10800000">
              <a:off x="1114560" y="582120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7960" y="58089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4560" y="58089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10800000">
              <a:off x="1119240" y="580860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10800000">
              <a:off x="1119240" y="569880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67560" y="5738400"/>
              <a:ext cx="278640" cy="102240"/>
              <a:chOff x="1267560" y="5738400"/>
              <a:chExt cx="278640" cy="102240"/>
            </a:xfrm>
          </p:grpSpPr>
          <p:sp>
            <p:nvSpPr>
              <p:cNvPr id="111" name=""/>
              <p:cNvSpPr/>
              <p:nvPr/>
            </p:nvSpPr>
            <p:spPr>
              <a:xfrm flipH="1" flipV="1">
                <a:off x="1446840" y="57384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67560" y="5840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351080" y="574056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267560" y="5736960"/>
              <a:ext cx="278640" cy="102600"/>
              <a:chOff x="1267560" y="5736960"/>
              <a:chExt cx="278640" cy="10260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1446840" y="58377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267560" y="57369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1351080" y="573732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2122560" y="4835520"/>
            <a:ext cx="568080" cy="272520"/>
            <a:chOff x="2122560" y="4835520"/>
            <a:chExt cx="568080" cy="272520"/>
          </a:xfrm>
        </p:grpSpPr>
        <p:sp>
          <p:nvSpPr>
            <p:cNvPr id="119" name=""/>
            <p:cNvSpPr/>
            <p:nvPr/>
          </p:nvSpPr>
          <p:spPr>
            <a:xfrm flipV="1" rot="10800000">
              <a:off x="2122560" y="495756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94532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22560" y="494532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0800000">
              <a:off x="2127240" y="494496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10800000">
              <a:off x="2127240" y="483516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275560" y="4874760"/>
              <a:ext cx="278640" cy="102240"/>
              <a:chOff x="2275560" y="4874760"/>
              <a:chExt cx="278640" cy="102240"/>
            </a:xfrm>
          </p:grpSpPr>
          <p:sp>
            <p:nvSpPr>
              <p:cNvPr id="125" name=""/>
              <p:cNvSpPr/>
              <p:nvPr/>
            </p:nvSpPr>
            <p:spPr>
              <a:xfrm flipH="1" flipV="1">
                <a:off x="2454840" y="48747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275560" y="49770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359080" y="487692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275560" y="4873320"/>
              <a:ext cx="278640" cy="102600"/>
              <a:chOff x="2275560" y="4873320"/>
              <a:chExt cx="278640" cy="10260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2454840" y="497412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275560" y="487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2359080" y="487368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2050920" y="6348240"/>
            <a:ext cx="568080" cy="272880"/>
            <a:chOff x="2050920" y="6348240"/>
            <a:chExt cx="568080" cy="272880"/>
          </a:xfrm>
        </p:grpSpPr>
        <p:sp>
          <p:nvSpPr>
            <p:cNvPr id="133" name=""/>
            <p:cNvSpPr/>
            <p:nvPr/>
          </p:nvSpPr>
          <p:spPr>
            <a:xfrm flipV="1" rot="10800000">
              <a:off x="2050920" y="646992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14320" y="64580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50920" y="64580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10800000">
              <a:off x="2055600" y="64576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0800000">
              <a:off x="2055600" y="634824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03920" y="6387480"/>
              <a:ext cx="278640" cy="102240"/>
              <a:chOff x="2203920" y="6387480"/>
              <a:chExt cx="278640" cy="102240"/>
            </a:xfrm>
          </p:grpSpPr>
          <p:sp>
            <p:nvSpPr>
              <p:cNvPr id="139" name=""/>
              <p:cNvSpPr/>
              <p:nvPr/>
            </p:nvSpPr>
            <p:spPr>
              <a:xfrm flipH="1" flipV="1">
                <a:off x="2383200" y="63874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203920" y="64897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287440" y="63896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203920" y="6386040"/>
              <a:ext cx="278640" cy="102600"/>
              <a:chOff x="2203920" y="6386040"/>
              <a:chExt cx="278640" cy="102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383200" y="64868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203920" y="63860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2287440" y="63864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780000" y="4908600"/>
            <a:ext cx="568080" cy="272520"/>
            <a:chOff x="3780000" y="4908600"/>
            <a:chExt cx="568080" cy="272520"/>
          </a:xfrm>
        </p:grpSpPr>
        <p:sp>
          <p:nvSpPr>
            <p:cNvPr id="147" name=""/>
            <p:cNvSpPr/>
            <p:nvPr/>
          </p:nvSpPr>
          <p:spPr>
            <a:xfrm flipV="1" rot="10800000">
              <a:off x="3780000" y="503064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3400" y="50184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50184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0800000">
              <a:off x="3784680" y="501804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0800000">
              <a:off x="3784680" y="490824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933000" y="4947840"/>
              <a:ext cx="278640" cy="102240"/>
              <a:chOff x="3933000" y="4947840"/>
              <a:chExt cx="278640" cy="102240"/>
            </a:xfrm>
          </p:grpSpPr>
          <p:sp>
            <p:nvSpPr>
              <p:cNvPr id="153" name=""/>
              <p:cNvSpPr/>
              <p:nvPr/>
            </p:nvSpPr>
            <p:spPr>
              <a:xfrm flipH="1" flipV="1">
                <a:off x="4112280" y="49478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933000" y="505008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4016520" y="495000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33000" y="4946400"/>
              <a:ext cx="278640" cy="102600"/>
              <a:chOff x="3933000" y="4946400"/>
              <a:chExt cx="278640" cy="1026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4112280" y="50472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933000" y="49464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016520" y="494676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706920" y="6348240"/>
            <a:ext cx="568080" cy="272880"/>
            <a:chOff x="3706920" y="6348240"/>
            <a:chExt cx="568080" cy="272880"/>
          </a:xfrm>
        </p:grpSpPr>
        <p:sp>
          <p:nvSpPr>
            <p:cNvPr id="161" name=""/>
            <p:cNvSpPr/>
            <p:nvPr/>
          </p:nvSpPr>
          <p:spPr>
            <a:xfrm flipV="1" rot="10800000">
              <a:off x="3706920" y="646992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70320" y="64580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06920" y="64580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0800000">
              <a:off x="3711600" y="64576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0800000">
              <a:off x="3711600" y="634824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859920" y="6387480"/>
              <a:ext cx="278640" cy="102240"/>
              <a:chOff x="3859920" y="6387480"/>
              <a:chExt cx="278640" cy="102240"/>
            </a:xfrm>
          </p:grpSpPr>
          <p:sp>
            <p:nvSpPr>
              <p:cNvPr id="167" name=""/>
              <p:cNvSpPr/>
              <p:nvPr/>
            </p:nvSpPr>
            <p:spPr>
              <a:xfrm flipH="1" flipV="1">
                <a:off x="4039200" y="63874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859920" y="64897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943440" y="63896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859920" y="6386040"/>
              <a:ext cx="278640" cy="102600"/>
              <a:chOff x="3859920" y="6386040"/>
              <a:chExt cx="278640" cy="10260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4039200" y="64868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859920" y="63860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3943440" y="63864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4643280" y="5699160"/>
            <a:ext cx="568080" cy="272520"/>
            <a:chOff x="4643280" y="5699160"/>
            <a:chExt cx="568080" cy="272520"/>
          </a:xfrm>
        </p:grpSpPr>
        <p:sp>
          <p:nvSpPr>
            <p:cNvPr id="175" name=""/>
            <p:cNvSpPr/>
            <p:nvPr/>
          </p:nvSpPr>
          <p:spPr>
            <a:xfrm flipV="1" rot="10800000">
              <a:off x="4643280" y="582120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6680" y="58089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3280" y="58089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10800000">
              <a:off x="4647960" y="580860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10800000">
              <a:off x="4647960" y="569880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796280" y="5738400"/>
              <a:ext cx="278640" cy="102240"/>
              <a:chOff x="4796280" y="5738400"/>
              <a:chExt cx="278640" cy="102240"/>
            </a:xfrm>
          </p:grpSpPr>
          <p:sp>
            <p:nvSpPr>
              <p:cNvPr id="181" name=""/>
              <p:cNvSpPr/>
              <p:nvPr/>
            </p:nvSpPr>
            <p:spPr>
              <a:xfrm flipH="1" flipV="1">
                <a:off x="4975560" y="57384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4796280" y="5840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879800" y="574056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796280" y="5736960"/>
              <a:ext cx="278640" cy="102600"/>
              <a:chOff x="4796280" y="5736960"/>
              <a:chExt cx="278640" cy="10260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4975560" y="58377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4796280" y="57369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4879800" y="573732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627280" y="5013360"/>
            <a:ext cx="115272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64911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46200" y="5124240"/>
            <a:ext cx="72072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354200" y="5124240"/>
            <a:ext cx="3618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11640" y="5949720"/>
            <a:ext cx="504720" cy="46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877000"/>
            <a:ext cx="4316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338560" y="5124240"/>
            <a:ext cx="0" cy="12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995640" y="5195520"/>
            <a:ext cx="3024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82920" y="5157360"/>
            <a:ext cx="1441440" cy="11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0200" y="4548240"/>
            <a:ext cx="2845080" cy="1139760"/>
          </a:xfrm>
          <a:custGeom>
            <a:avLst/>
            <a:gdLst/>
            <a:ahLst/>
            <a:rect l="l" t="t" r="r" b="b"/>
            <a:pathLst>
              <a:path w="1792" h="718">
                <a:moveTo>
                  <a:pt x="0" y="718"/>
                </a:moveTo>
                <a:cubicBezTo>
                  <a:pt x="140" y="442"/>
                  <a:pt x="280" y="166"/>
                  <a:pt x="545" y="83"/>
                </a:cubicBezTo>
                <a:cubicBezTo>
                  <a:pt x="810" y="0"/>
                  <a:pt x="1384" y="189"/>
                  <a:pt x="1588" y="219"/>
                </a:cubicBezTo>
                <a:cubicBezTo>
                  <a:pt x="1792" y="249"/>
                  <a:pt x="1671" y="257"/>
                  <a:pt x="1769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146560" y="5339880"/>
            <a:ext cx="433440" cy="358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6920" y="5051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Nodi =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427640" y="4835160"/>
            <a:ext cx="43164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4548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Link fisici tr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4292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5124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38560" y="5556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5411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6200" y="6203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6920" y="56275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8920" y="6132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98920" y="5195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4920" y="6348240"/>
            <a:ext cx="792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5516640"/>
            <a:ext cx="3203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osto spedizione pacchetto attraverso i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stanza fisica o livello con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Per trovare il percorso a costo più basso  determiniamo una serie di link in mo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imo link sul percorso collegato alla sor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ltimo link collegato alla destin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i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ercorso di minor cos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a somma dei costi dei link è la minima tra quelle di tutti i percorsi possibili fra sorgente e destin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i costi sono uguali il percorso di minor costo coincide con quello che attraversa il minor numero di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193840" y="3643200"/>
            <a:ext cx="568080" cy="272880"/>
            <a:chOff x="2193840" y="3643200"/>
            <a:chExt cx="568080" cy="272880"/>
          </a:xfrm>
        </p:grpSpPr>
        <p:sp>
          <p:nvSpPr>
            <p:cNvPr id="217" name=""/>
            <p:cNvSpPr/>
            <p:nvPr/>
          </p:nvSpPr>
          <p:spPr>
            <a:xfrm flipV="1" rot="10800000">
              <a:off x="2193840" y="376488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7240" y="37530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3840" y="37530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0800000">
              <a:off x="2198520" y="375264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0800000">
              <a:off x="2198520" y="364320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346840" y="3682440"/>
              <a:ext cx="278640" cy="102240"/>
              <a:chOff x="2346840" y="3682440"/>
              <a:chExt cx="278640" cy="102240"/>
            </a:xfrm>
          </p:grpSpPr>
          <p:sp>
            <p:nvSpPr>
              <p:cNvPr id="223" name=""/>
              <p:cNvSpPr/>
              <p:nvPr/>
            </p:nvSpPr>
            <p:spPr>
              <a:xfrm flipH="1" flipV="1">
                <a:off x="2526120" y="36824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346840" y="378468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430360" y="368460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346840" y="3681000"/>
              <a:ext cx="278640" cy="102600"/>
              <a:chOff x="2346840" y="3681000"/>
              <a:chExt cx="278640" cy="1026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2526120" y="37818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46840" y="36810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2430360" y="368136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3201840" y="2779560"/>
            <a:ext cx="568080" cy="272880"/>
            <a:chOff x="3201840" y="2779560"/>
            <a:chExt cx="568080" cy="272880"/>
          </a:xfrm>
        </p:grpSpPr>
        <p:sp>
          <p:nvSpPr>
            <p:cNvPr id="231" name=""/>
            <p:cNvSpPr/>
            <p:nvPr/>
          </p:nvSpPr>
          <p:spPr>
            <a:xfrm flipV="1" rot="10800000">
              <a:off x="3201840" y="290124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5240" y="28893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1840" y="288936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 rot="10800000">
              <a:off x="3206520" y="288900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 rot="10800000">
              <a:off x="3206520" y="277956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354840" y="2818800"/>
              <a:ext cx="278640" cy="102240"/>
              <a:chOff x="3354840" y="2818800"/>
              <a:chExt cx="278640" cy="102240"/>
            </a:xfrm>
          </p:grpSpPr>
          <p:sp>
            <p:nvSpPr>
              <p:cNvPr id="237" name=""/>
              <p:cNvSpPr/>
              <p:nvPr/>
            </p:nvSpPr>
            <p:spPr>
              <a:xfrm flipH="1" flipV="1">
                <a:off x="3534120" y="28188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3354840" y="29210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38360" y="282096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354840" y="2817360"/>
              <a:ext cx="278640" cy="102600"/>
              <a:chOff x="3354840" y="2817360"/>
              <a:chExt cx="278640" cy="10260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3534120" y="291816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3354840" y="2817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3438360" y="281772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3130560" y="4292640"/>
            <a:ext cx="568080" cy="272520"/>
            <a:chOff x="3130560" y="4292640"/>
            <a:chExt cx="568080" cy="272520"/>
          </a:xfrm>
        </p:grpSpPr>
        <p:sp>
          <p:nvSpPr>
            <p:cNvPr id="245" name=""/>
            <p:cNvSpPr/>
            <p:nvPr/>
          </p:nvSpPr>
          <p:spPr>
            <a:xfrm flipV="1" rot="10800000">
              <a:off x="3130560" y="441468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93960" y="440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30560" y="440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 rot="10800000">
              <a:off x="3135240" y="44020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10800000">
              <a:off x="3135240" y="429228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283560" y="4331880"/>
              <a:ext cx="278640" cy="102240"/>
              <a:chOff x="3283560" y="4331880"/>
              <a:chExt cx="278640" cy="102240"/>
            </a:xfrm>
          </p:grpSpPr>
          <p:sp>
            <p:nvSpPr>
              <p:cNvPr id="251" name=""/>
              <p:cNvSpPr/>
              <p:nvPr/>
            </p:nvSpPr>
            <p:spPr>
              <a:xfrm flipH="1" flipV="1">
                <a:off x="3462840" y="43318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283560" y="44341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3367080" y="43340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83560" y="4330440"/>
              <a:ext cx="278640" cy="102600"/>
              <a:chOff x="3283560" y="4330440"/>
              <a:chExt cx="278640" cy="1026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3462840" y="4431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283560" y="43304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3367080" y="43308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4788000" y="2852640"/>
            <a:ext cx="568080" cy="272880"/>
            <a:chOff x="4788000" y="2852640"/>
            <a:chExt cx="568080" cy="272880"/>
          </a:xfrm>
        </p:grpSpPr>
        <p:sp>
          <p:nvSpPr>
            <p:cNvPr id="259" name=""/>
            <p:cNvSpPr/>
            <p:nvPr/>
          </p:nvSpPr>
          <p:spPr>
            <a:xfrm flipV="1" rot="10800000">
              <a:off x="4788000" y="297432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5140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8000" y="296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10800000">
              <a:off x="4792680" y="29620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10800000">
              <a:off x="4792680" y="285264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41000" y="2891880"/>
              <a:ext cx="278640" cy="102240"/>
              <a:chOff x="4941000" y="2891880"/>
              <a:chExt cx="278640" cy="10224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5120280" y="28918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941000" y="29941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024520" y="28940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941000" y="2890440"/>
              <a:ext cx="278640" cy="102600"/>
              <a:chOff x="4941000" y="2890440"/>
              <a:chExt cx="278640" cy="10260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5120280" y="2991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941000" y="28904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5024520" y="28908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4786200" y="4292640"/>
            <a:ext cx="568080" cy="272520"/>
            <a:chOff x="4786200" y="4292640"/>
            <a:chExt cx="568080" cy="272520"/>
          </a:xfrm>
        </p:grpSpPr>
        <p:sp>
          <p:nvSpPr>
            <p:cNvPr id="273" name=""/>
            <p:cNvSpPr/>
            <p:nvPr/>
          </p:nvSpPr>
          <p:spPr>
            <a:xfrm flipV="1" rot="10800000">
              <a:off x="4786200" y="4414680"/>
              <a:ext cx="5634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49600" y="440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86200" y="440244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10800000">
              <a:off x="4790880" y="440208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 rot="10800000">
              <a:off x="4790880" y="4292280"/>
              <a:ext cx="563400" cy="176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939200" y="4331880"/>
              <a:ext cx="278640" cy="102240"/>
              <a:chOff x="4939200" y="4331880"/>
              <a:chExt cx="278640" cy="102240"/>
            </a:xfrm>
          </p:grpSpPr>
          <p:sp>
            <p:nvSpPr>
              <p:cNvPr id="279" name=""/>
              <p:cNvSpPr/>
              <p:nvPr/>
            </p:nvSpPr>
            <p:spPr>
              <a:xfrm flipH="1" flipV="1">
                <a:off x="5118480" y="433188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4939200" y="44341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022720" y="433404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39200" y="4330440"/>
              <a:ext cx="278640" cy="102600"/>
              <a:chOff x="4939200" y="4330440"/>
              <a:chExt cx="278640" cy="10260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5118480" y="44312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39200" y="43304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022720" y="433080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5722920" y="3643200"/>
            <a:ext cx="568080" cy="272880"/>
            <a:chOff x="5722920" y="3643200"/>
            <a:chExt cx="568080" cy="272880"/>
          </a:xfrm>
        </p:grpSpPr>
        <p:sp>
          <p:nvSpPr>
            <p:cNvPr id="287" name=""/>
            <p:cNvSpPr/>
            <p:nvPr/>
          </p:nvSpPr>
          <p:spPr>
            <a:xfrm flipV="1" rot="10800000">
              <a:off x="5722920" y="3764880"/>
              <a:ext cx="563400" cy="150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86320" y="37530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22920" y="3753000"/>
              <a:ext cx="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0800000">
              <a:off x="5727600" y="3752640"/>
              <a:ext cx="558720" cy="9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0800000">
              <a:off x="5727600" y="3643200"/>
              <a:ext cx="563400" cy="177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75920" y="3682440"/>
              <a:ext cx="278640" cy="102240"/>
              <a:chOff x="5875920" y="3682440"/>
              <a:chExt cx="278640" cy="102240"/>
            </a:xfrm>
          </p:grpSpPr>
          <p:sp>
            <p:nvSpPr>
              <p:cNvPr id="293" name=""/>
              <p:cNvSpPr/>
              <p:nvPr/>
            </p:nvSpPr>
            <p:spPr>
              <a:xfrm flipH="1" flipV="1">
                <a:off x="6055200" y="368244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875920" y="378468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959440" y="3684600"/>
                <a:ext cx="10332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875920" y="3681000"/>
              <a:ext cx="278640" cy="102600"/>
              <a:chOff x="5875920" y="3681000"/>
              <a:chExt cx="278640" cy="10260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6055200" y="3781800"/>
                <a:ext cx="993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5875920" y="368100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5959440" y="3681360"/>
                <a:ext cx="103320" cy="10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3778200" y="299556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6920" y="443556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627280" y="3068280"/>
            <a:ext cx="79236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292720" y="3068280"/>
            <a:ext cx="57312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92720" y="3860280"/>
            <a:ext cx="57456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3860640"/>
            <a:ext cx="43164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417840" y="3068280"/>
            <a:ext cx="0" cy="12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075280" y="3139920"/>
            <a:ext cx="30240" cy="116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64000" y="3068280"/>
            <a:ext cx="1439640" cy="12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09840" y="2492280"/>
            <a:ext cx="2844720" cy="1139760"/>
          </a:xfrm>
          <a:custGeom>
            <a:avLst/>
            <a:gdLst/>
            <a:ahLst/>
            <a:rect l="l" t="t" r="r" b="b"/>
            <a:pathLst>
              <a:path w="1792" h="718">
                <a:moveTo>
                  <a:pt x="0" y="718"/>
                </a:moveTo>
                <a:cubicBezTo>
                  <a:pt x="140" y="442"/>
                  <a:pt x="280" y="166"/>
                  <a:pt x="545" y="83"/>
                </a:cubicBezTo>
                <a:cubicBezTo>
                  <a:pt x="810" y="0"/>
                  <a:pt x="1384" y="189"/>
                  <a:pt x="1588" y="219"/>
                </a:cubicBezTo>
                <a:cubicBezTo>
                  <a:pt x="1792" y="249"/>
                  <a:pt x="1671" y="257"/>
                  <a:pt x="1769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184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4328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6728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1784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3856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6728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25840" y="40035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620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78560" y="4003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51640" y="306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95640" y="393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5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38920" y="3860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9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80" y="692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ERCORSO DI MINOR COSTO FRA IL NODO A(SORGENTE) E IL NODO C (DESTINAZIONE) E’ LUNGO IL PERCORSO A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atteristich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nodi conoscono la topologia completa compresi i costi dei ca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ambio info tra tutti 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nde come imput la connettività fra tutti i nodi e tutti i costi dei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CENTRALIZZA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nodi conoscono i nodi in cui sono fisicamente collegati ed i costi dei canali cui sono coll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ambio info solo con i nodi adiac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alcolo del percorso di minor costo è eseguito in modo iterattivo distrib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atteristic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CI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otte cambiano lentamente nel tempo(quando una persona modifica una tabella di rilancio di un ro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NAMICI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i algoritmi cambiano i percorsi di instradamento non appena varia il carico di traffico in rete o la topologia,sono suscettibili ai routing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ORITMO BASATO SULLO STATO DEI LINK  DIJKS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pologia rete e costi link noti(ciascun nodo trasmette le identità e i costi dei link ad esso collegati a tutti i router della 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pologia rete è nota a tutti i 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nodi hanno la stessa 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cola il percorso minimo da un nodo a tutti gli al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erativo.: un nodo dopo k iterazioni,conosce i cammini meno costosi verso k destin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6:19:41Z</dcterms:created>
  <dc:creator>Vincen</dc:creator>
  <dc:description/>
  <dc:language>en-US</dc:language>
  <cp:lastModifiedBy>Vincen</cp:lastModifiedBy>
  <dcterms:modified xsi:type="dcterms:W3CDTF">2004-11-18T21:33:07Z</dcterms:modified>
  <cp:revision>18</cp:revision>
  <dc:subject/>
  <dc:title>UNIVERSITA’ DEGLI STUDI“G. D’ANNUNZIO” PESCARA</dc:title>
</cp:coreProperties>
</file>